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3.pct" ContentType="image/x-pict"/>
  <Override PartName="/ppt/media/image11.png" ContentType="image/png"/>
  <Override PartName="/ppt/media/image22.jpeg" ContentType="image/jpeg"/>
  <Override PartName="/ppt/media/image6.pct" ContentType="image/x-pict"/>
  <Override PartName="/ppt/media/image9.png" ContentType="image/png"/>
  <Override PartName="/ppt/media/image7.png" ContentType="image/png"/>
  <Override PartName="/ppt/media/image4.pct" ContentType="image/x-pict"/>
  <Override PartName="/ppt/media/image12.png" ContentType="image/png"/>
  <Override PartName="/ppt/media/image23.jpeg" ContentType="image/jpeg"/>
  <Override PartName="/ppt/media/image5.pct" ContentType="image/x-pict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2.pct" ContentType="image/x-pict"/>
  <Override PartName="/ppt/media/image14.png" ContentType="image/png"/>
  <Override PartName="/ppt/media/image15.gif" ContentType="image/gif"/>
  <Override PartName="/ppt/media/image18.png" ContentType="image/png"/>
  <Override PartName="/ppt/media/image20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9.png" ContentType="image/png"/>
  <Override PartName="/ppt/media/image21.png" ContentType="image/png"/>
  <Override PartName="/ppt/media/image24.jpeg" ContentType="image/jpeg"/>
  <Override PartName="/ppt/media/image25.png" ContentType="image/png"/>
  <Override PartName="/ppt/media/image2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C5A09-F228-46F7-9D77-6EB3460BD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C306-25FC-4367-AA38-DCF3210DD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091-DCEE-40A4-8982-631A309D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0616-9BF0-47FB-A71C-1482A643A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9332-1486-41E3-9FA5-EE3F521B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F56D-1BDF-477B-94CF-9D09F3F84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79FD-C978-401F-BA8B-422C0710A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6BAC-96E8-4315-ACD8-3CD54E10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E3B1-3A8D-4B0B-A1B8-7031C054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28D1-1C9E-4901-AF9F-C10C260F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71F9-4E44-4CDA-A091-AB18C10F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584A-62E0-4D07-B716-E45D0F43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5-</a:t>
            </a:r>
            <a:fld id="{FE439398-ADD6-4894-A1F6-0FD7C99C629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image" Target="../media/image5.pct"/><Relationship Id="rId10" Type="http://schemas.openxmlformats.org/officeDocument/2006/relationships/image" Target="../media/image6.pct"/><Relationship Id="rId11" Type="http://schemas.openxmlformats.org/officeDocument/2006/relationships/image" Target="../media/image5.pct"/><Relationship Id="rId12" Type="http://schemas.openxmlformats.org/officeDocument/2006/relationships/image" Target="../media/image6.pct"/><Relationship Id="rId13" Type="http://schemas.openxmlformats.org/officeDocument/2006/relationships/image" Target="../media/image14.png"/><Relationship Id="rId14" Type="http://schemas.openxmlformats.org/officeDocument/2006/relationships/image" Target="../media/image5.pct"/><Relationship Id="rId15" Type="http://schemas.openxmlformats.org/officeDocument/2006/relationships/image" Target="../media/image6.pct"/><Relationship Id="rId16" Type="http://schemas.openxmlformats.org/officeDocument/2006/relationships/image" Target="../media/image5.pct"/><Relationship Id="rId17" Type="http://schemas.openxmlformats.org/officeDocument/2006/relationships/image" Target="../media/image6.pct"/><Relationship Id="rId18" Type="http://schemas.openxmlformats.org/officeDocument/2006/relationships/image" Target="../media/image5.pct"/><Relationship Id="rId19" Type="http://schemas.openxmlformats.org/officeDocument/2006/relationships/image" Target="../media/image6.pct"/><Relationship Id="rId20" Type="http://schemas.openxmlformats.org/officeDocument/2006/relationships/image" Target="../media/image15.gif"/><Relationship Id="rId21" Type="http://schemas.openxmlformats.org/officeDocument/2006/relationships/image" Target="../media/image16.jpe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2.pct"/><Relationship Id="rId2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2.pct"/><Relationship Id="rId4" Type="http://schemas.openxmlformats.org/officeDocument/2006/relationships/image" Target="../media/image3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4.pct"/><Relationship Id="rId10" Type="http://schemas.openxmlformats.org/officeDocument/2006/relationships/image" Target="../media/image4.pct"/><Relationship Id="rId11" Type="http://schemas.openxmlformats.org/officeDocument/2006/relationships/image" Target="../media/image5.pct"/><Relationship Id="rId12" Type="http://schemas.openxmlformats.org/officeDocument/2006/relationships/image" Target="../media/image6.pct"/><Relationship Id="rId13" Type="http://schemas.openxmlformats.org/officeDocument/2006/relationships/image" Target="../media/image5.pct"/><Relationship Id="rId14" Type="http://schemas.openxmlformats.org/officeDocument/2006/relationships/image" Target="../media/image6.pct"/><Relationship Id="rId15" Type="http://schemas.openxmlformats.org/officeDocument/2006/relationships/image" Target="../media/image5.pct"/><Relationship Id="rId1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2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3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.pct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.pct"/><Relationship Id="rId13" Type="http://schemas.openxmlformats.org/officeDocument/2006/relationships/image" Target="../media/image2.pct"/><Relationship Id="rId14" Type="http://schemas.openxmlformats.org/officeDocument/2006/relationships/image" Target="../media/image2.pct"/><Relationship Id="rId1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oleObject" Target="../embeddings/oleObject1.bin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4.pct"/><Relationship Id="rId5" Type="http://schemas.openxmlformats.org/officeDocument/2006/relationships/image" Target="../media/image2.pct"/><Relationship Id="rId6" Type="http://schemas.openxmlformats.org/officeDocument/2006/relationships/image" Target="../media/image4.pct"/><Relationship Id="rId7" Type="http://schemas.openxmlformats.org/officeDocument/2006/relationships/image" Target="../media/image2.pct"/><Relationship Id="rId8" Type="http://schemas.openxmlformats.org/officeDocument/2006/relationships/image" Target="../media/image4.pct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4.pct"/><Relationship Id="rId5" Type="http://schemas.openxmlformats.org/officeDocument/2006/relationships/image" Target="../media/image2.pct"/><Relationship Id="rId6" Type="http://schemas.openxmlformats.org/officeDocument/2006/relationships/image" Target="../media/image4.pct"/><Relationship Id="rId7" Type="http://schemas.openxmlformats.org/officeDocument/2006/relationships/image" Target="../media/image2.pct"/><Relationship Id="rId8" Type="http://schemas.openxmlformats.org/officeDocument/2006/relationships/image" Target="../media/image4.pct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image" Target="../media/image2.pct"/><Relationship Id="rId1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ct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pct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pct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pct"/><Relationship Id="rId1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680" y="493560"/>
            <a:ext cx="57639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Capitolo 5</a:t>
            </a:r>
            <a:br>
              <a:rPr sz="4000"/>
            </a:b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Livello di collegamento</a:t>
            </a:r>
            <a:br>
              <a:rPr sz="4000"/>
            </a:br>
            <a:r>
              <a:rPr b="0" lang="it-IT" sz="4000" spc="-1" strike="noStrike">
                <a:solidFill>
                  <a:srgbClr val="3333cc"/>
                </a:solidFill>
                <a:latin typeface="Comic Sans MS"/>
              </a:rPr>
              <a:t>e reti local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76200" y="2593800"/>
            <a:ext cx="5072040" cy="36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ta per l’utilizz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bbiamo preparato queste slide con l’intenzione di renderle disponibili a tutti (professori, studenti, lettori). Sono in formato PowerPoint  in modo che voi possiate aggiungere e cancellare slide (compresa questa) o modificarne il contenuto in base alle vostre esigenz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e potete facilmente immaginare, da parte nostra abbiamo fat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sac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i lavoro. In cambio, vi chiediamo solo di rispettare le seguenti condizio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utilizzate queste slide (ad esempio, in aula) in una forma sostanzialmente inalterata, fate riferimento alla fonte (dopo tutto, ci piacerebbe che la gente usasse il nostro libro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e rendete disponibili queste slide in una forma sostanzialmente inalterata su un sito web, indicate che si tratta di un adattamento (o che sono identiche) delle nostre slide, e inserite la nota relativa al copyrigh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hanks and enjoy!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JFK/K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 material copyright 1996-20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191280" y="4262400"/>
            <a:ext cx="2674800" cy="20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3333cc"/>
                </a:solidFill>
                <a:latin typeface="Comic Sans MS"/>
              </a:rPr>
              <a:t>Reti di calcolatori e Internet: Un approccio top-down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4</a:t>
            </a:r>
            <a:r>
              <a:rPr b="0" lang="en-GB" sz="1400" spc="-1" strike="noStrike" baseline="30000">
                <a:solidFill>
                  <a:srgbClr val="3333cc"/>
                </a:solidFill>
                <a:latin typeface="Comic Sans MS"/>
              </a:rPr>
              <a:t>a</a:t>
            </a: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 edizione </a:t>
            </a:r>
            <a:br>
              <a:rPr sz="1400"/>
            </a:br>
            <a:r>
              <a:rPr b="0" lang="en-GB" sz="1400" spc="-1" strike="noStrike">
                <a:solidFill>
                  <a:srgbClr val="3333cc"/>
                </a:solidFill>
                <a:latin typeface="Comic Sans MS"/>
              </a:rPr>
              <a:t>Jim Kurose, Keith Ross</a:t>
            </a:r>
            <a:br>
              <a:rPr sz="1400"/>
            </a:br>
            <a:br>
              <a:rPr sz="1400"/>
            </a:br>
            <a:r>
              <a:rPr b="0" lang="en-GB" sz="1100" spc="-1" strike="noStrike">
                <a:solidFill>
                  <a:srgbClr val="3333cc"/>
                </a:solidFill>
                <a:latin typeface="Comic Sans MS"/>
              </a:rPr>
              <a:t>Pearson Paravia Bruno Mondadori Spa</a:t>
            </a:r>
            <a:br>
              <a:rPr sz="1100"/>
            </a:br>
            <a:r>
              <a:rPr b="0" lang="en-GB" sz="1100" spc="-1" strike="noStrike">
                <a:solidFill>
                  <a:srgbClr val="3333cc"/>
                </a:solidFill>
                <a:latin typeface="Comic Sans MS"/>
              </a:rPr>
              <a:t> ©2008</a:t>
            </a:r>
            <a:r>
              <a:rPr b="0" lang="en-GB" sz="11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224760" y="361800"/>
            <a:ext cx="2490480" cy="3595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ABBDD-6F20-4773-AC14-83646B0F75F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387000"/>
            <a:ext cx="8418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593640" y="20908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2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82A5-BDB7-44D8-AB18-DB405D3DA5D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er MPLS: 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er a commutazione di etichetta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35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tti anche “label-switched router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viano i pacchetti MPLS analizzando l’etichetta MPLS nella tabella d’instradamento, passando immediatamente il datagramma all’appropriata interfacc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abelle d’instradamento MPLS ≠ Tabelle d’instradamento I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ecessità di un protocollo utilizzato per distribuire etichette tra i router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SVP-TE, un’estensione del protocollo RSV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l’invio di pacchetti lungo rotte che non potrebbero essere utilizzate con i protocolli d’instradamento IP standard!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tilizza MPLS per il “traffic engineering”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vono coesistere con i router “solo-IP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1F3-93F6-4223-BCA2-8586EF2ADDD1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Tabelle d’instradamento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MP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119" name=""/>
          <p:cNvSpPr/>
          <p:nvPr/>
        </p:nvSpPr>
        <p:spPr>
          <a:xfrm>
            <a:off x="1754280" y="5278320"/>
            <a:ext cx="2462040" cy="419040"/>
          </a:xfrm>
          <a:custGeom>
            <a:avLst/>
            <a:gdLst/>
            <a:ahLst/>
            <a:rect l="l" t="t" r="r" b="b"/>
            <a:pathLst>
              <a:path w="1551" h="264">
                <a:moveTo>
                  <a:pt x="1263" y="8"/>
                </a:moveTo>
                <a:lnTo>
                  <a:pt x="0" y="264"/>
                </a:lnTo>
                <a:lnTo>
                  <a:pt x="1536" y="264"/>
                </a:lnTo>
                <a:lnTo>
                  <a:pt x="1551" y="0"/>
                </a:lnTo>
                <a:lnTo>
                  <a:pt x="1263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492800" y="5326200"/>
            <a:ext cx="2447640" cy="577800"/>
          </a:xfrm>
          <a:custGeom>
            <a:avLst/>
            <a:gdLst/>
            <a:ahLst/>
            <a:rect l="l" t="t" r="r" b="b"/>
            <a:pathLst>
              <a:path w="1542" h="364">
                <a:moveTo>
                  <a:pt x="839" y="8"/>
                </a:moveTo>
                <a:lnTo>
                  <a:pt x="0" y="364"/>
                </a:lnTo>
                <a:lnTo>
                  <a:pt x="1542" y="364"/>
                </a:lnTo>
                <a:lnTo>
                  <a:pt x="1127" y="0"/>
                </a:lnTo>
                <a:lnTo>
                  <a:pt x="839" y="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1884240" y="3106800"/>
            <a:ext cx="2433600" cy="798480"/>
          </a:xfrm>
          <a:custGeom>
            <a:avLst/>
            <a:gdLst/>
            <a:ahLst/>
            <a:rect l="l" t="t" r="r" b="b"/>
            <a:pathLst>
              <a:path w="1533" h="503">
                <a:moveTo>
                  <a:pt x="808" y="503"/>
                </a:moveTo>
                <a:lnTo>
                  <a:pt x="1533" y="0"/>
                </a:lnTo>
                <a:lnTo>
                  <a:pt x="0" y="0"/>
                </a:lnTo>
                <a:lnTo>
                  <a:pt x="685" y="481"/>
                </a:lnTo>
                <a:lnTo>
                  <a:pt x="808" y="503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552920" y="3416400"/>
            <a:ext cx="2589120" cy="511200"/>
          </a:xfrm>
          <a:custGeom>
            <a:avLst/>
            <a:gdLst/>
            <a:ahLst/>
            <a:rect l="l" t="t" r="r" b="b"/>
            <a:pathLst>
              <a:path w="1631" h="322">
                <a:moveTo>
                  <a:pt x="123" y="322"/>
                </a:moveTo>
                <a:lnTo>
                  <a:pt x="1631" y="0"/>
                </a:lnTo>
                <a:lnTo>
                  <a:pt x="89" y="0"/>
                </a:lnTo>
                <a:lnTo>
                  <a:pt x="0" y="300"/>
                </a:lnTo>
                <a:lnTo>
                  <a:pt x="123" y="32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3" name=""/>
          <p:cNvGrpSpPr/>
          <p:nvPr/>
        </p:nvGrpSpPr>
        <p:grpSpPr>
          <a:xfrm>
            <a:off x="5583240" y="4924440"/>
            <a:ext cx="766440" cy="432720"/>
            <a:chOff x="5583240" y="4924440"/>
            <a:chExt cx="766440" cy="432720"/>
          </a:xfrm>
        </p:grpSpPr>
        <p:sp>
          <p:nvSpPr>
            <p:cNvPr id="2124" name=""/>
            <p:cNvSpPr/>
            <p:nvPr/>
          </p:nvSpPr>
          <p:spPr>
            <a:xfrm>
              <a:off x="5589360" y="511740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5589360" y="50972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349680" y="50972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5589360" y="509724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5583240" y="492444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9" name=""/>
            <p:cNvGrpSpPr/>
            <p:nvPr/>
          </p:nvGrpSpPr>
          <p:grpSpPr>
            <a:xfrm>
              <a:off x="5766120" y="4985640"/>
              <a:ext cx="376200" cy="163440"/>
              <a:chOff x="5766120" y="4985640"/>
              <a:chExt cx="376200" cy="163440"/>
            </a:xfrm>
          </p:grpSpPr>
          <p:sp>
            <p:nvSpPr>
              <p:cNvPr id="2130" name=""/>
              <p:cNvSpPr/>
              <p:nvPr/>
            </p:nvSpPr>
            <p:spPr>
              <a:xfrm flipV="1">
                <a:off x="5766120" y="49856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6024240" y="514908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5889960" y="49892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3" name=""/>
            <p:cNvGrpSpPr/>
            <p:nvPr/>
          </p:nvGrpSpPr>
          <p:grpSpPr>
            <a:xfrm>
              <a:off x="5766120" y="4984200"/>
              <a:ext cx="376200" cy="163440"/>
              <a:chOff x="5766120" y="4984200"/>
              <a:chExt cx="376200" cy="163440"/>
            </a:xfrm>
          </p:grpSpPr>
          <p:sp>
            <p:nvSpPr>
              <p:cNvPr id="2134" name=""/>
              <p:cNvSpPr/>
              <p:nvPr/>
            </p:nvSpPr>
            <p:spPr>
              <a:xfrm>
                <a:off x="5766120" y="514440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6024240" y="49842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 flipV="1">
                <a:off x="5889960" y="498420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37" name=""/>
          <p:cNvGrpSpPr/>
          <p:nvPr/>
        </p:nvGrpSpPr>
        <p:grpSpPr>
          <a:xfrm>
            <a:off x="3757680" y="4919760"/>
            <a:ext cx="766440" cy="432720"/>
            <a:chOff x="3757680" y="4919760"/>
            <a:chExt cx="766440" cy="432720"/>
          </a:xfrm>
        </p:grpSpPr>
        <p:sp>
          <p:nvSpPr>
            <p:cNvPr id="2138" name=""/>
            <p:cNvSpPr/>
            <p:nvPr/>
          </p:nvSpPr>
          <p:spPr>
            <a:xfrm>
              <a:off x="3763800" y="511272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763800" y="50925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524120" y="50925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763800" y="509256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757680" y="491976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3" name=""/>
            <p:cNvGrpSpPr/>
            <p:nvPr/>
          </p:nvGrpSpPr>
          <p:grpSpPr>
            <a:xfrm>
              <a:off x="3940560" y="4980960"/>
              <a:ext cx="376200" cy="163440"/>
              <a:chOff x="3940560" y="4980960"/>
              <a:chExt cx="376200" cy="163440"/>
            </a:xfrm>
          </p:grpSpPr>
          <p:sp>
            <p:nvSpPr>
              <p:cNvPr id="2144" name=""/>
              <p:cNvSpPr/>
              <p:nvPr/>
            </p:nvSpPr>
            <p:spPr>
              <a:xfrm flipV="1">
                <a:off x="3940560" y="498096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4198680" y="51444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4064400" y="498456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7" name=""/>
            <p:cNvGrpSpPr/>
            <p:nvPr/>
          </p:nvGrpSpPr>
          <p:grpSpPr>
            <a:xfrm>
              <a:off x="3940560" y="4979520"/>
              <a:ext cx="376200" cy="163440"/>
              <a:chOff x="3940560" y="4979520"/>
              <a:chExt cx="376200" cy="163440"/>
            </a:xfrm>
          </p:grpSpPr>
          <p:sp>
            <p:nvSpPr>
              <p:cNvPr id="2148" name=""/>
              <p:cNvSpPr/>
              <p:nvPr/>
            </p:nvSpPr>
            <p:spPr>
              <a:xfrm>
                <a:off x="3940560" y="513972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4198680" y="49795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4064400" y="497952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1" name=""/>
          <p:cNvGrpSpPr/>
          <p:nvPr/>
        </p:nvGrpSpPr>
        <p:grpSpPr>
          <a:xfrm>
            <a:off x="4111560" y="3902040"/>
            <a:ext cx="766440" cy="432720"/>
            <a:chOff x="4111560" y="3902040"/>
            <a:chExt cx="766440" cy="432720"/>
          </a:xfrm>
        </p:grpSpPr>
        <p:sp>
          <p:nvSpPr>
            <p:cNvPr id="2152" name=""/>
            <p:cNvSpPr/>
            <p:nvPr/>
          </p:nvSpPr>
          <p:spPr>
            <a:xfrm>
              <a:off x="4117680" y="409500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117680" y="40748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878000" y="407484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117680" y="407484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111560" y="390204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7" name=""/>
            <p:cNvGrpSpPr/>
            <p:nvPr/>
          </p:nvGrpSpPr>
          <p:grpSpPr>
            <a:xfrm>
              <a:off x="4294440" y="3963240"/>
              <a:ext cx="376200" cy="163440"/>
              <a:chOff x="4294440" y="3963240"/>
              <a:chExt cx="376200" cy="163440"/>
            </a:xfrm>
          </p:grpSpPr>
          <p:sp>
            <p:nvSpPr>
              <p:cNvPr id="2158" name=""/>
              <p:cNvSpPr/>
              <p:nvPr/>
            </p:nvSpPr>
            <p:spPr>
              <a:xfrm flipV="1">
                <a:off x="4294440" y="396324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4552560" y="412668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4418280" y="396684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1" name=""/>
            <p:cNvGrpSpPr/>
            <p:nvPr/>
          </p:nvGrpSpPr>
          <p:grpSpPr>
            <a:xfrm>
              <a:off x="4294440" y="3961800"/>
              <a:ext cx="376200" cy="163440"/>
              <a:chOff x="4294440" y="3961800"/>
              <a:chExt cx="376200" cy="163440"/>
            </a:xfrm>
          </p:grpSpPr>
          <p:sp>
            <p:nvSpPr>
              <p:cNvPr id="2162" name=""/>
              <p:cNvSpPr/>
              <p:nvPr/>
            </p:nvSpPr>
            <p:spPr>
              <a:xfrm>
                <a:off x="4294440" y="412200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4552560" y="39618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 flipV="1">
                <a:off x="4418280" y="396180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5" name=""/>
          <p:cNvGrpSpPr/>
          <p:nvPr/>
        </p:nvGrpSpPr>
        <p:grpSpPr>
          <a:xfrm>
            <a:off x="2684520" y="3897360"/>
            <a:ext cx="766440" cy="432720"/>
            <a:chOff x="2684520" y="3897360"/>
            <a:chExt cx="766440" cy="432720"/>
          </a:xfrm>
        </p:grpSpPr>
        <p:sp>
          <p:nvSpPr>
            <p:cNvPr id="2166" name=""/>
            <p:cNvSpPr/>
            <p:nvPr/>
          </p:nvSpPr>
          <p:spPr>
            <a:xfrm>
              <a:off x="2690640" y="4090320"/>
              <a:ext cx="760320" cy="2397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690640" y="40701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450960" y="4070160"/>
              <a:ext cx="0" cy="14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690640" y="4070160"/>
              <a:ext cx="753480" cy="146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684520" y="3897360"/>
              <a:ext cx="759600" cy="2797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1" name=""/>
            <p:cNvGrpSpPr/>
            <p:nvPr/>
          </p:nvGrpSpPr>
          <p:grpSpPr>
            <a:xfrm>
              <a:off x="2867400" y="3958560"/>
              <a:ext cx="376200" cy="163440"/>
              <a:chOff x="2867400" y="3958560"/>
              <a:chExt cx="376200" cy="163440"/>
            </a:xfrm>
          </p:grpSpPr>
          <p:sp>
            <p:nvSpPr>
              <p:cNvPr id="2172" name=""/>
              <p:cNvSpPr/>
              <p:nvPr/>
            </p:nvSpPr>
            <p:spPr>
              <a:xfrm flipV="1">
                <a:off x="2867400" y="395856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3125520" y="412200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2991240" y="396216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5" name=""/>
            <p:cNvGrpSpPr/>
            <p:nvPr/>
          </p:nvGrpSpPr>
          <p:grpSpPr>
            <a:xfrm>
              <a:off x="2867400" y="3957120"/>
              <a:ext cx="376200" cy="163440"/>
              <a:chOff x="2867400" y="3957120"/>
              <a:chExt cx="376200" cy="163440"/>
            </a:xfrm>
          </p:grpSpPr>
          <p:sp>
            <p:nvSpPr>
              <p:cNvPr id="2176" name=""/>
              <p:cNvSpPr/>
              <p:nvPr/>
            </p:nvSpPr>
            <p:spPr>
              <a:xfrm>
                <a:off x="2867400" y="4117320"/>
                <a:ext cx="13428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7" name=""/>
              <p:cNvSpPr/>
              <p:nvPr/>
            </p:nvSpPr>
            <p:spPr>
              <a:xfrm>
                <a:off x="3125520" y="3957120"/>
                <a:ext cx="118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V="1">
                <a:off x="2991240" y="3957120"/>
                <a:ext cx="13968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9" name=""/>
          <p:cNvGrpSpPr/>
          <p:nvPr/>
        </p:nvGrpSpPr>
        <p:grpSpPr>
          <a:xfrm>
            <a:off x="1165320" y="3191040"/>
            <a:ext cx="766800" cy="432720"/>
            <a:chOff x="1165320" y="3191040"/>
            <a:chExt cx="766800" cy="432720"/>
          </a:xfrm>
        </p:grpSpPr>
        <p:sp>
          <p:nvSpPr>
            <p:cNvPr id="2180" name=""/>
            <p:cNvSpPr/>
            <p:nvPr/>
          </p:nvSpPr>
          <p:spPr>
            <a:xfrm>
              <a:off x="1171800" y="3384360"/>
              <a:ext cx="760320" cy="239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168560" y="3341520"/>
              <a:ext cx="0" cy="171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926000" y="3328920"/>
              <a:ext cx="6120" cy="17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178280" y="3363840"/>
              <a:ext cx="747720" cy="14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165320" y="3191040"/>
              <a:ext cx="760680" cy="2790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5" name=""/>
            <p:cNvGrpSpPr/>
            <p:nvPr/>
          </p:nvGrpSpPr>
          <p:grpSpPr>
            <a:xfrm>
              <a:off x="1347840" y="3252240"/>
              <a:ext cx="377280" cy="163080"/>
              <a:chOff x="1347840" y="3252240"/>
              <a:chExt cx="377280" cy="163080"/>
            </a:xfrm>
          </p:grpSpPr>
          <p:sp>
            <p:nvSpPr>
              <p:cNvPr id="2186" name=""/>
              <p:cNvSpPr/>
              <p:nvPr/>
            </p:nvSpPr>
            <p:spPr>
              <a:xfrm flipV="1">
                <a:off x="1347840" y="325224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1606680" y="341532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1472040" y="3255840"/>
                <a:ext cx="140040" cy="15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9" name=""/>
            <p:cNvGrpSpPr/>
            <p:nvPr/>
          </p:nvGrpSpPr>
          <p:grpSpPr>
            <a:xfrm>
              <a:off x="1347840" y="3249360"/>
              <a:ext cx="377280" cy="163080"/>
              <a:chOff x="1347840" y="3249360"/>
              <a:chExt cx="377280" cy="163080"/>
            </a:xfrm>
          </p:grpSpPr>
          <p:sp>
            <p:nvSpPr>
              <p:cNvPr id="2190" name=""/>
              <p:cNvSpPr/>
              <p:nvPr/>
            </p:nvSpPr>
            <p:spPr>
              <a:xfrm>
                <a:off x="1347840" y="340920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1606680" y="324936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1472040" y="3249360"/>
                <a:ext cx="140040" cy="15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93" name=""/>
          <p:cNvSpPr/>
          <p:nvPr/>
        </p:nvSpPr>
        <p:spPr>
          <a:xfrm>
            <a:off x="1935000" y="3433680"/>
            <a:ext cx="762120" cy="52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 flipV="1">
            <a:off x="1982880" y="4138200"/>
            <a:ext cx="7333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3449520" y="4138560"/>
            <a:ext cx="66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3297240" y="4300560"/>
            <a:ext cx="56196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554360" y="5176800"/>
            <a:ext cx="103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840200" y="4253040"/>
            <a:ext cx="838440" cy="71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6354720" y="5157720"/>
            <a:ext cx="70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5806080" y="535788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3942360" y="5335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5864400" y="39560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327920" y="43340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853360" y="435132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5" name=""/>
          <p:cNvGrpSpPr/>
          <p:nvPr/>
        </p:nvGrpSpPr>
        <p:grpSpPr>
          <a:xfrm>
            <a:off x="1211400" y="4137120"/>
            <a:ext cx="766800" cy="433440"/>
            <a:chOff x="1211400" y="4137120"/>
            <a:chExt cx="766800" cy="433440"/>
          </a:xfrm>
        </p:grpSpPr>
        <p:sp>
          <p:nvSpPr>
            <p:cNvPr id="2206" name=""/>
            <p:cNvSpPr/>
            <p:nvPr/>
          </p:nvSpPr>
          <p:spPr>
            <a:xfrm>
              <a:off x="1217880" y="4330800"/>
              <a:ext cx="760320" cy="2397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214640" y="4287960"/>
              <a:ext cx="0" cy="17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972080" y="4275360"/>
              <a:ext cx="6120" cy="174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224360" y="4310280"/>
              <a:ext cx="747720" cy="14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211400" y="4137120"/>
              <a:ext cx="760680" cy="279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1" name=""/>
            <p:cNvGrpSpPr/>
            <p:nvPr/>
          </p:nvGrpSpPr>
          <p:grpSpPr>
            <a:xfrm>
              <a:off x="1393920" y="4198680"/>
              <a:ext cx="377280" cy="163440"/>
              <a:chOff x="1393920" y="4198680"/>
              <a:chExt cx="377280" cy="163440"/>
            </a:xfrm>
          </p:grpSpPr>
          <p:sp>
            <p:nvSpPr>
              <p:cNvPr id="2212" name=""/>
              <p:cNvSpPr/>
              <p:nvPr/>
            </p:nvSpPr>
            <p:spPr>
              <a:xfrm flipV="1">
                <a:off x="1393920" y="419868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1652760" y="436212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1518120" y="4202280"/>
                <a:ext cx="14004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5" name=""/>
            <p:cNvGrpSpPr/>
            <p:nvPr/>
          </p:nvGrpSpPr>
          <p:grpSpPr>
            <a:xfrm>
              <a:off x="1393920" y="4196160"/>
              <a:ext cx="377280" cy="163440"/>
              <a:chOff x="1393920" y="4196160"/>
              <a:chExt cx="377280" cy="163440"/>
            </a:xfrm>
          </p:grpSpPr>
          <p:sp>
            <p:nvSpPr>
              <p:cNvPr id="2216" name=""/>
              <p:cNvSpPr/>
              <p:nvPr/>
            </p:nvSpPr>
            <p:spPr>
              <a:xfrm>
                <a:off x="1393920" y="4356360"/>
                <a:ext cx="1346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652760" y="4196160"/>
                <a:ext cx="118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1518120" y="4196160"/>
                <a:ext cx="140040" cy="159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9" name=""/>
          <p:cNvSpPr/>
          <p:nvPr/>
        </p:nvSpPr>
        <p:spPr>
          <a:xfrm>
            <a:off x="1405440" y="457056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84880" y="4897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4925880" y="416412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4851360" y="38894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4883040" y="4129200"/>
            <a:ext cx="968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412800" y="38768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018560" y="4975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1369080" y="3621240"/>
            <a:ext cx="4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7" name=""/>
          <p:cNvGrpSpPr/>
          <p:nvPr/>
        </p:nvGrpSpPr>
        <p:grpSpPr>
          <a:xfrm>
            <a:off x="4896000" y="5343480"/>
            <a:ext cx="2546280" cy="922320"/>
            <a:chOff x="4896000" y="5343480"/>
            <a:chExt cx="2546280" cy="922320"/>
          </a:xfrm>
        </p:grpSpPr>
        <p:sp>
          <p:nvSpPr>
            <p:cNvPr id="2228" name=""/>
            <p:cNvSpPr/>
            <p:nvPr/>
          </p:nvSpPr>
          <p:spPr>
            <a:xfrm>
              <a:off x="4945320" y="5384520"/>
              <a:ext cx="243360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896000" y="534348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4959720" y="584172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4977000" y="584820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        -      A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472360" y="539568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081840" y="5400720"/>
              <a:ext cx="180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6596280" y="540540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5" name=""/>
          <p:cNvGrpSpPr/>
          <p:nvPr/>
        </p:nvGrpSpPr>
        <p:grpSpPr>
          <a:xfrm>
            <a:off x="4629240" y="2212920"/>
            <a:ext cx="2546280" cy="1239840"/>
            <a:chOff x="4629240" y="2212920"/>
            <a:chExt cx="2546280" cy="1239840"/>
          </a:xfrm>
        </p:grpSpPr>
        <p:sp>
          <p:nvSpPr>
            <p:cNvPr id="2236" name=""/>
            <p:cNvSpPr/>
            <p:nvPr/>
          </p:nvSpPr>
          <p:spPr>
            <a:xfrm>
              <a:off x="4678200" y="2254320"/>
              <a:ext cx="2433600" cy="118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4629240" y="221292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4692600" y="271152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709880" y="271800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0      6      A      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205240" y="2265480"/>
              <a:ext cx="180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4701960" y="306864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      9      D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773680" y="2282760"/>
              <a:ext cx="144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6342120" y="2273400"/>
              <a:ext cx="1440" cy="117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4" name=""/>
          <p:cNvSpPr/>
          <p:nvPr/>
        </p:nvSpPr>
        <p:spPr>
          <a:xfrm>
            <a:off x="1843200" y="1650960"/>
            <a:ext cx="2433600" cy="143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1793880" y="1609560"/>
            <a:ext cx="2546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        out                 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bel     label   dest   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1857240" y="2108160"/>
            <a:ext cx="239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1874880" y="2114640"/>
            <a:ext cx="23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     A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2370240" y="1662120"/>
            <a:ext cx="1440" cy="141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865160" y="245592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  D      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2938320" y="1658880"/>
            <a:ext cx="180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506760" y="1670040"/>
            <a:ext cx="1440" cy="140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336840" y="41990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1716120" y="5661000"/>
            <a:ext cx="2546280" cy="922320"/>
            <a:chOff x="1716120" y="5661000"/>
            <a:chExt cx="2546280" cy="922320"/>
          </a:xfrm>
        </p:grpSpPr>
        <p:sp>
          <p:nvSpPr>
            <p:cNvPr id="2254" name=""/>
            <p:cNvSpPr/>
            <p:nvPr/>
          </p:nvSpPr>
          <p:spPr>
            <a:xfrm>
              <a:off x="1765440" y="5702040"/>
              <a:ext cx="2433600" cy="873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1716120" y="5661000"/>
              <a:ext cx="2546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         out                 o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abel     label   dest   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1779840" y="6159240"/>
              <a:ext cx="2392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1797120" y="6165720"/>
              <a:ext cx="238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8        6      A      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292480" y="571320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01960" y="5718240"/>
              <a:ext cx="180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16400" y="5722920"/>
              <a:ext cx="1440" cy="86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1" name=""/>
          <p:cNvSpPr/>
          <p:nvPr/>
        </p:nvSpPr>
        <p:spPr>
          <a:xfrm>
            <a:off x="4489200" y="491508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1847880" y="275760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A     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D04D-3C27-4F41-A99D-BE07EE706F12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riassu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93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incipi per implementare i servizi di trasmissione da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zione e correzione dell’err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divisione di un canale broadcast: accesso multiplo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amento a livello di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mplementazione di varie tecnologie al livello di link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N commut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P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eti virtuali: ATM, MP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51FA-8384-442B-88E9-F20F1E25CD30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facciamo il pu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266" name="PlaceHolder 2"/>
          <p:cNvSpPr>
            <a:spLocks noGrp="1"/>
          </p:cNvSpPr>
          <p:nvPr>
            <p:ph/>
          </p:nvPr>
        </p:nvSpPr>
        <p:spPr>
          <a:xfrm>
            <a:off x="449280" y="1349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biamo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mpletato il nostro viaggio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ttraverso la pila dei protocolli (ad eccezione del livello fisic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bbiamo un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olida conoscenza dei principi del networking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e anche degli aspeti pratic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otremmo fermarci qui… ma ci sono ancor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un sacco di argomenti interessanti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Wirel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curezza di 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estione della re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27BC-E62D-4356-83FD-C09FA446B800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20560" y="147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Tecniche di rileva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 degli errori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1535040" y="3639960"/>
            <a:ext cx="5329440" cy="2922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546120" y="1312920"/>
            <a:ext cx="833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DC=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Error Detection and Correctio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    = Dati che devono essere protetti da errori e ai quali vengono aggiunti dei bit ED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rilevazione degli errori non è attendibile al 100%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possibile che ci siano errori non rilev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ridurre la probabilità di questo evento, le tecniche più sofisticate prevedono un’elevata ridondanz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1F44-AC29-4F68-9B17-D7A4DCE3DAD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302760" y="36360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ontrollo di parità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74840" y="2386080"/>
            <a:ext cx="2609640" cy="9079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361800" y="1460520"/>
            <a:ext cx="2967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Unico bit di parità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Si è verificato almeno un errore in un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4030560" y="2220840"/>
            <a:ext cx="3751200" cy="41148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3664800" y="1407960"/>
            <a:ext cx="36082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Parità bidimensionale</a:t>
            </a:r>
            <a:r>
              <a:rPr b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Individua e </a:t>
            </a:r>
            <a:r>
              <a:rPr b="1" i="1" lang="it-IT" sz="1600" spc="-1" strike="noStrike">
                <a:solidFill>
                  <a:srgbClr val="000000"/>
                </a:solidFill>
                <a:latin typeface="Comic Sans MS"/>
              </a:rPr>
              <a:t>corregge</a:t>
            </a:r>
            <a:r>
              <a:rPr b="1" lang="it-IT" sz="1600" spc="-1" strike="noStrike">
                <a:solidFill>
                  <a:srgbClr val="000000"/>
                </a:solidFill>
                <a:latin typeface="Comic Sans MS"/>
              </a:rPr>
              <a:t> il bit altera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4560" y="522288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80040" y="5129280"/>
            <a:ext cx="26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014880" y="5218200"/>
            <a:ext cx="146160" cy="168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940360" y="5124600"/>
            <a:ext cx="2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58C7-A41A-4547-A148-5BBC05587F5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hecksum di Int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38280" y="261936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Mittent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dati sono trattati come interi da 16 bit e sommat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cksum: è il complemento a 1 di questa somm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mittente inserisce il valore della checksum nell’intestazione dei segmen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48320" y="2526840"/>
            <a:ext cx="423216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Destinatari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ricevente controlla la checksu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alcola il complemento a 1 della somma dei dati ricevuti e verifica che i bit del risultato siano 1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N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non lo sono: segnala un error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-2541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cc66"/>
                </a:solidFill>
                <a:latin typeface="Comic Sans MS"/>
              </a:rPr>
              <a:t>SÌ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lo sono: non sono stati rilevati errori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iononostante, ci potrebbero essere altri errori?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60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o scopriremo in seguito ..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"/>
          <p:cNvSpPr/>
          <p:nvPr/>
        </p:nvSpPr>
        <p:spPr>
          <a:xfrm>
            <a:off x="695160" y="145728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Obiettiv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ileva gli errori ma viene usata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olo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livello di traspor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09BA-5741-4D3C-BEB6-25D3BECCD46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31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Controllo a ridondanza ciclic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32640" cy="33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amina i dati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come numeri bina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rigine e destinazione si sono accordati su una stringa di r+1 bit, conosciuta come generatore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G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Obiettivi: scegliere r bit addizionali,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, in modo ch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&lt;D,R&gt; siano esattamente divisibili per G (modulo 2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destinatario conosce G, e divide &lt;D,R&gt; per G.  Se il resto è diverso da 0 si è verificato un errore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RC può rilevare errori a raffica inferiori a r+1 bi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ella pratica è molto usato (ATM, HDCL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1504800" y="5035680"/>
            <a:ext cx="5739120" cy="158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A55-6C2E-4CE2-901D-9FFA7F91BA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4502160" y="1770120"/>
            <a:ext cx="3586320" cy="434340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Esempio di CRC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2120" y="1280880"/>
            <a:ext cx="3478320" cy="32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Vogliamo</a:t>
            </a: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XOR R = 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Ovver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= nG XOR R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Comic Sans MS"/>
              </a:rPr>
              <a:t>Quindi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dividiamo 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G, otteniamo il valore 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082520" y="5213520"/>
            <a:ext cx="376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= resto di   [          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6840" y="5065560"/>
            <a:ext cx="133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n-US" sz="2400" spc="-1" strike="noStrike" baseline="26000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mic Sans MS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840040" y="5468760"/>
            <a:ext cx="63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11160" y="4878360"/>
            <a:ext cx="3202200" cy="119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02A0-7BB8-4CA0-893A-91ECADB829A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3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15515-BFEB-4A2F-B772-6CECA8C7B3A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33520" y="56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33520" y="1054080"/>
            <a:ext cx="8053200" cy="32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sistono due tipi di collegamenti di ret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llegamento punto-punto (PP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mpiegato per connessioni telefonich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llegamenti punto-punto tra Ethernet e hos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llegamento broadcast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cavo o canale condiviso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thernet tradizional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FC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n upstrea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Wireless LAN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"/>
          <p:cNvSpPr/>
          <p:nvPr/>
        </p:nvSpPr>
        <p:spPr>
          <a:xfrm>
            <a:off x="1057320" y="588312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nale cabla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divis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38680" y="5897520"/>
            <a:ext cx="156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F condiv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es. 802.11 WiF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972320" y="5958000"/>
            <a:ext cx="1211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F condivi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satellit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495120" y="5667480"/>
            <a:ext cx="2102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ersone a u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cktail part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rumore, aria condivisi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982800" y="5315040"/>
          <a:ext cx="439560" cy="36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2800" y="531504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1138320" y="4930920"/>
          <a:ext cx="439560" cy="36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38320" y="493092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7" name=""/>
          <p:cNvGraphicFramePr/>
          <p:nvPr/>
        </p:nvGraphicFramePr>
        <p:xfrm>
          <a:off x="1971720" y="4826160"/>
          <a:ext cx="439560" cy="36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71720" y="48261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9" name=""/>
          <p:cNvGraphicFramePr/>
          <p:nvPr/>
        </p:nvGraphicFramePr>
        <p:xfrm>
          <a:off x="1792440" y="5295960"/>
          <a:ext cx="439560" cy="36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92440" y="5295960"/>
                    <a:ext cx="439560" cy="36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21" name=""/>
          <p:cNvGrpSpPr/>
          <p:nvPr/>
        </p:nvGrpSpPr>
        <p:grpSpPr>
          <a:xfrm>
            <a:off x="3976560" y="5238720"/>
            <a:ext cx="273240" cy="340920"/>
            <a:chOff x="3976560" y="5238720"/>
            <a:chExt cx="273240" cy="340920"/>
          </a:xfrm>
        </p:grpSpPr>
        <p:pic>
          <p:nvPicPr>
            <p:cNvPr id="422" name="" descr=""/>
            <p:cNvPicPr/>
            <p:nvPr/>
          </p:nvPicPr>
          <p:blipFill>
            <a:blip r:embed="rId9"/>
            <a:stretch/>
          </p:blipFill>
          <p:spPr>
            <a:xfrm>
              <a:off x="3976560" y="52387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3" name="" descr=""/>
            <p:cNvPicPr/>
            <p:nvPr/>
          </p:nvPicPr>
          <p:blipFill>
            <a:blip r:embed="rId10"/>
            <a:stretch/>
          </p:blipFill>
          <p:spPr>
            <a:xfrm>
              <a:off x="4016880" y="532800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24" name=""/>
          <p:cNvGrpSpPr/>
          <p:nvPr/>
        </p:nvGrpSpPr>
        <p:grpSpPr>
          <a:xfrm>
            <a:off x="3719520" y="5575320"/>
            <a:ext cx="349200" cy="321840"/>
            <a:chOff x="3719520" y="5575320"/>
            <a:chExt cx="349200" cy="321840"/>
          </a:xfrm>
        </p:grpSpPr>
        <p:pic>
          <p:nvPicPr>
            <p:cNvPr id="425" name="" descr=""/>
            <p:cNvPicPr/>
            <p:nvPr/>
          </p:nvPicPr>
          <p:blipFill>
            <a:blip r:embed="rId11"/>
            <a:stretch/>
          </p:blipFill>
          <p:spPr>
            <a:xfrm>
              <a:off x="3719520" y="5575320"/>
              <a:ext cx="325080" cy="28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6" name="" descr=""/>
            <p:cNvPicPr/>
            <p:nvPr/>
          </p:nvPicPr>
          <p:blipFill>
            <a:blip r:embed="rId12"/>
            <a:stretch/>
          </p:blipFill>
          <p:spPr>
            <a:xfrm>
              <a:off x="3771000" y="5659560"/>
              <a:ext cx="297720" cy="237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27" name=""/>
          <p:cNvSpPr/>
          <p:nvPr/>
        </p:nvSpPr>
        <p:spPr>
          <a:xfrm flipH="1">
            <a:off x="1544760" y="4667400"/>
            <a:ext cx="466560" cy="89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27120" y="5138640"/>
            <a:ext cx="243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392120" y="5475240"/>
            <a:ext cx="190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V="1">
            <a:off x="1836720" y="4998960"/>
            <a:ext cx="17784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598920" y="5027760"/>
            <a:ext cx="290520" cy="404640"/>
            <a:chOff x="3598920" y="5027760"/>
            <a:chExt cx="290520" cy="404640"/>
          </a:xfrm>
        </p:grpSpPr>
        <p:pic>
          <p:nvPicPr>
            <p:cNvPr id="432" name="" descr=""/>
            <p:cNvPicPr/>
            <p:nvPr/>
          </p:nvPicPr>
          <p:blipFill>
            <a:blip r:embed="rId13"/>
            <a:stretch/>
          </p:blipFill>
          <p:spPr>
            <a:xfrm>
              <a:off x="3683160" y="5156280"/>
              <a:ext cx="192240" cy="2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3" name=""/>
            <p:cNvSpPr/>
            <p:nvPr/>
          </p:nvSpPr>
          <p:spPr>
            <a:xfrm>
              <a:off x="3676680" y="5048280"/>
              <a:ext cx="52560" cy="61920"/>
            </a:xfrm>
            <a:custGeom>
              <a:avLst/>
              <a:gdLst/>
              <a:ahLst/>
              <a:rect l="l" t="t" r="r" b="b"/>
              <a:pathLst>
                <a:path w="199" h="232">
                  <a:moveTo>
                    <a:pt x="70" y="29"/>
                  </a:moveTo>
                  <a:lnTo>
                    <a:pt x="55" y="39"/>
                  </a:lnTo>
                  <a:lnTo>
                    <a:pt x="42" y="50"/>
                  </a:lnTo>
                  <a:lnTo>
                    <a:pt x="30" y="63"/>
                  </a:lnTo>
                  <a:lnTo>
                    <a:pt x="20" y="77"/>
                  </a:lnTo>
                  <a:lnTo>
                    <a:pt x="12" y="91"/>
                  </a:lnTo>
                  <a:lnTo>
                    <a:pt x="6" y="108"/>
                  </a:lnTo>
                  <a:lnTo>
                    <a:pt x="2" y="125"/>
                  </a:lnTo>
                  <a:lnTo>
                    <a:pt x="0" y="142"/>
                  </a:lnTo>
                  <a:lnTo>
                    <a:pt x="2" y="166"/>
                  </a:lnTo>
                  <a:lnTo>
                    <a:pt x="12" y="186"/>
                  </a:lnTo>
                  <a:lnTo>
                    <a:pt x="26" y="203"/>
                  </a:lnTo>
                  <a:lnTo>
                    <a:pt x="45" y="216"/>
                  </a:lnTo>
                  <a:lnTo>
                    <a:pt x="66" y="226"/>
                  </a:lnTo>
                  <a:lnTo>
                    <a:pt x="88" y="230"/>
                  </a:lnTo>
                  <a:lnTo>
                    <a:pt x="111" y="232"/>
                  </a:lnTo>
                  <a:lnTo>
                    <a:pt x="134" y="228"/>
                  </a:lnTo>
                  <a:lnTo>
                    <a:pt x="138" y="228"/>
                  </a:lnTo>
                  <a:lnTo>
                    <a:pt x="143" y="226"/>
                  </a:lnTo>
                  <a:lnTo>
                    <a:pt x="147" y="222"/>
                  </a:lnTo>
                  <a:lnTo>
                    <a:pt x="148" y="218"/>
                  </a:lnTo>
                  <a:lnTo>
                    <a:pt x="145" y="212"/>
                  </a:lnTo>
                  <a:lnTo>
                    <a:pt x="141" y="207"/>
                  </a:lnTo>
                  <a:lnTo>
                    <a:pt x="135" y="203"/>
                  </a:lnTo>
                  <a:lnTo>
                    <a:pt x="129" y="201"/>
                  </a:lnTo>
                  <a:lnTo>
                    <a:pt x="117" y="197"/>
                  </a:lnTo>
                  <a:lnTo>
                    <a:pt x="105" y="195"/>
                  </a:lnTo>
                  <a:lnTo>
                    <a:pt x="94" y="193"/>
                  </a:lnTo>
                  <a:lnTo>
                    <a:pt x="83" y="190"/>
                  </a:lnTo>
                  <a:lnTo>
                    <a:pt x="73" y="187"/>
                  </a:lnTo>
                  <a:lnTo>
                    <a:pt x="62" y="182"/>
                  </a:lnTo>
                  <a:lnTo>
                    <a:pt x="53" y="176"/>
                  </a:lnTo>
                  <a:lnTo>
                    <a:pt x="43" y="167"/>
                  </a:lnTo>
                  <a:lnTo>
                    <a:pt x="40" y="128"/>
                  </a:lnTo>
                  <a:lnTo>
                    <a:pt x="49" y="96"/>
                  </a:lnTo>
                  <a:lnTo>
                    <a:pt x="68" y="71"/>
                  </a:lnTo>
                  <a:lnTo>
                    <a:pt x="94" y="50"/>
                  </a:lnTo>
                  <a:lnTo>
                    <a:pt x="122" y="34"/>
                  </a:lnTo>
                  <a:lnTo>
                    <a:pt x="151" y="21"/>
                  </a:lnTo>
                  <a:lnTo>
                    <a:pt x="178" y="12"/>
                  </a:lnTo>
                  <a:lnTo>
                    <a:pt x="199" y="4"/>
                  </a:lnTo>
                  <a:lnTo>
                    <a:pt x="186" y="1"/>
                  </a:lnTo>
                  <a:lnTo>
                    <a:pt x="172" y="0"/>
                  </a:lnTo>
                  <a:lnTo>
                    <a:pt x="156" y="2"/>
                  </a:lnTo>
                  <a:lnTo>
                    <a:pt x="138" y="4"/>
                  </a:lnTo>
                  <a:lnTo>
                    <a:pt x="121" y="10"/>
                  </a:lnTo>
                  <a:lnTo>
                    <a:pt x="103" y="16"/>
                  </a:lnTo>
                  <a:lnTo>
                    <a:pt x="86" y="23"/>
                  </a:lnTo>
                  <a:lnTo>
                    <a:pt x="70" y="2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65600" y="5046840"/>
              <a:ext cx="34920" cy="47520"/>
            </a:xfrm>
            <a:custGeom>
              <a:avLst/>
              <a:gdLst/>
              <a:ahLst/>
              <a:rect l="l" t="t" r="r" b="b"/>
              <a:pathLst>
                <a:path w="128" h="180">
                  <a:moveTo>
                    <a:pt x="108" y="59"/>
                  </a:moveTo>
                  <a:lnTo>
                    <a:pt x="113" y="77"/>
                  </a:lnTo>
                  <a:lnTo>
                    <a:pt x="111" y="94"/>
                  </a:lnTo>
                  <a:lnTo>
                    <a:pt x="103" y="108"/>
                  </a:lnTo>
                  <a:lnTo>
                    <a:pt x="91" y="121"/>
                  </a:lnTo>
                  <a:lnTo>
                    <a:pt x="77" y="132"/>
                  </a:lnTo>
                  <a:lnTo>
                    <a:pt x="61" y="144"/>
                  </a:lnTo>
                  <a:lnTo>
                    <a:pt x="45" y="154"/>
                  </a:lnTo>
                  <a:lnTo>
                    <a:pt x="30" y="164"/>
                  </a:lnTo>
                  <a:lnTo>
                    <a:pt x="28" y="168"/>
                  </a:lnTo>
                  <a:lnTo>
                    <a:pt x="27" y="170"/>
                  </a:lnTo>
                  <a:lnTo>
                    <a:pt x="27" y="174"/>
                  </a:lnTo>
                  <a:lnTo>
                    <a:pt x="28" y="177"/>
                  </a:lnTo>
                  <a:lnTo>
                    <a:pt x="32" y="179"/>
                  </a:lnTo>
                  <a:lnTo>
                    <a:pt x="35" y="180"/>
                  </a:lnTo>
                  <a:lnTo>
                    <a:pt x="37" y="180"/>
                  </a:lnTo>
                  <a:lnTo>
                    <a:pt x="41" y="179"/>
                  </a:lnTo>
                  <a:lnTo>
                    <a:pt x="60" y="169"/>
                  </a:lnTo>
                  <a:lnTo>
                    <a:pt x="77" y="158"/>
                  </a:lnTo>
                  <a:lnTo>
                    <a:pt x="94" y="145"/>
                  </a:lnTo>
                  <a:lnTo>
                    <a:pt x="109" y="130"/>
                  </a:lnTo>
                  <a:lnTo>
                    <a:pt x="120" y="114"/>
                  </a:lnTo>
                  <a:lnTo>
                    <a:pt x="127" y="95"/>
                  </a:lnTo>
                  <a:lnTo>
                    <a:pt x="128" y="76"/>
                  </a:lnTo>
                  <a:lnTo>
                    <a:pt x="123" y="55"/>
                  </a:lnTo>
                  <a:lnTo>
                    <a:pt x="113" y="39"/>
                  </a:lnTo>
                  <a:lnTo>
                    <a:pt x="97" y="25"/>
                  </a:lnTo>
                  <a:lnTo>
                    <a:pt x="79" y="15"/>
                  </a:lnTo>
                  <a:lnTo>
                    <a:pt x="57" y="7"/>
                  </a:lnTo>
                  <a:lnTo>
                    <a:pt x="36" y="2"/>
                  </a:lnTo>
                  <a:lnTo>
                    <a:pt x="19" y="0"/>
                  </a:lnTo>
                  <a:lnTo>
                    <a:pt x="6" y="0"/>
                  </a:lnTo>
                  <a:lnTo>
                    <a:pt x="0" y="4"/>
                  </a:lnTo>
                  <a:lnTo>
                    <a:pt x="14" y="9"/>
                  </a:lnTo>
                  <a:lnTo>
                    <a:pt x="29" y="14"/>
                  </a:lnTo>
                  <a:lnTo>
                    <a:pt x="46" y="19"/>
                  </a:lnTo>
                  <a:lnTo>
                    <a:pt x="61" y="23"/>
                  </a:lnTo>
                  <a:lnTo>
                    <a:pt x="76" y="29"/>
                  </a:lnTo>
                  <a:lnTo>
                    <a:pt x="89" y="37"/>
                  </a:lnTo>
                  <a:lnTo>
                    <a:pt x="100" y="46"/>
                  </a:lnTo>
                  <a:lnTo>
                    <a:pt x="108" y="5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643560" y="5035680"/>
              <a:ext cx="85680" cy="100080"/>
            </a:xfrm>
            <a:custGeom>
              <a:avLst/>
              <a:gdLst/>
              <a:ahLst/>
              <a:rect l="l" t="t" r="r" b="b"/>
              <a:pathLst>
                <a:path w="322" h="378">
                  <a:moveTo>
                    <a:pt x="125" y="49"/>
                  </a:moveTo>
                  <a:lnTo>
                    <a:pt x="100" y="70"/>
                  </a:lnTo>
                  <a:lnTo>
                    <a:pt x="76" y="90"/>
                  </a:lnTo>
                  <a:lnTo>
                    <a:pt x="53" y="115"/>
                  </a:lnTo>
                  <a:lnTo>
                    <a:pt x="34" y="140"/>
                  </a:lnTo>
                  <a:lnTo>
                    <a:pt x="17" y="166"/>
                  </a:lnTo>
                  <a:lnTo>
                    <a:pt x="5" y="195"/>
                  </a:lnTo>
                  <a:lnTo>
                    <a:pt x="0" y="226"/>
                  </a:lnTo>
                  <a:lnTo>
                    <a:pt x="1" y="258"/>
                  </a:lnTo>
                  <a:lnTo>
                    <a:pt x="3" y="266"/>
                  </a:lnTo>
                  <a:lnTo>
                    <a:pt x="5" y="275"/>
                  </a:lnTo>
                  <a:lnTo>
                    <a:pt x="9" y="282"/>
                  </a:lnTo>
                  <a:lnTo>
                    <a:pt x="14" y="290"/>
                  </a:lnTo>
                  <a:lnTo>
                    <a:pt x="19" y="297"/>
                  </a:lnTo>
                  <a:lnTo>
                    <a:pt x="26" y="304"/>
                  </a:lnTo>
                  <a:lnTo>
                    <a:pt x="32" y="310"/>
                  </a:lnTo>
                  <a:lnTo>
                    <a:pt x="41" y="314"/>
                  </a:lnTo>
                  <a:lnTo>
                    <a:pt x="56" y="324"/>
                  </a:lnTo>
                  <a:lnTo>
                    <a:pt x="71" y="332"/>
                  </a:lnTo>
                  <a:lnTo>
                    <a:pt x="86" y="338"/>
                  </a:lnTo>
                  <a:lnTo>
                    <a:pt x="103" y="344"/>
                  </a:lnTo>
                  <a:lnTo>
                    <a:pt x="119" y="350"/>
                  </a:lnTo>
                  <a:lnTo>
                    <a:pt x="136" y="355"/>
                  </a:lnTo>
                  <a:lnTo>
                    <a:pt x="152" y="359"/>
                  </a:lnTo>
                  <a:lnTo>
                    <a:pt x="168" y="363"/>
                  </a:lnTo>
                  <a:lnTo>
                    <a:pt x="186" y="366"/>
                  </a:lnTo>
                  <a:lnTo>
                    <a:pt x="202" y="368"/>
                  </a:lnTo>
                  <a:lnTo>
                    <a:pt x="220" y="371"/>
                  </a:lnTo>
                  <a:lnTo>
                    <a:pt x="238" y="373"/>
                  </a:lnTo>
                  <a:lnTo>
                    <a:pt x="254" y="374"/>
                  </a:lnTo>
                  <a:lnTo>
                    <a:pt x="272" y="375"/>
                  </a:lnTo>
                  <a:lnTo>
                    <a:pt x="289" y="376"/>
                  </a:lnTo>
                  <a:lnTo>
                    <a:pt x="306" y="378"/>
                  </a:lnTo>
                  <a:lnTo>
                    <a:pt x="311" y="378"/>
                  </a:lnTo>
                  <a:lnTo>
                    <a:pt x="316" y="375"/>
                  </a:lnTo>
                  <a:lnTo>
                    <a:pt x="320" y="371"/>
                  </a:lnTo>
                  <a:lnTo>
                    <a:pt x="322" y="366"/>
                  </a:lnTo>
                  <a:lnTo>
                    <a:pt x="322" y="360"/>
                  </a:lnTo>
                  <a:lnTo>
                    <a:pt x="320" y="356"/>
                  </a:lnTo>
                  <a:lnTo>
                    <a:pt x="315" y="352"/>
                  </a:lnTo>
                  <a:lnTo>
                    <a:pt x="309" y="350"/>
                  </a:lnTo>
                  <a:lnTo>
                    <a:pt x="294" y="347"/>
                  </a:lnTo>
                  <a:lnTo>
                    <a:pt x="279" y="344"/>
                  </a:lnTo>
                  <a:lnTo>
                    <a:pt x="263" y="341"/>
                  </a:lnTo>
                  <a:lnTo>
                    <a:pt x="247" y="338"/>
                  </a:lnTo>
                  <a:lnTo>
                    <a:pt x="232" y="336"/>
                  </a:lnTo>
                  <a:lnTo>
                    <a:pt x="216" y="334"/>
                  </a:lnTo>
                  <a:lnTo>
                    <a:pt x="200" y="332"/>
                  </a:lnTo>
                  <a:lnTo>
                    <a:pt x="185" y="328"/>
                  </a:lnTo>
                  <a:lnTo>
                    <a:pt x="170" y="326"/>
                  </a:lnTo>
                  <a:lnTo>
                    <a:pt x="154" y="322"/>
                  </a:lnTo>
                  <a:lnTo>
                    <a:pt x="139" y="318"/>
                  </a:lnTo>
                  <a:lnTo>
                    <a:pt x="124" y="314"/>
                  </a:lnTo>
                  <a:lnTo>
                    <a:pt x="110" y="309"/>
                  </a:lnTo>
                  <a:lnTo>
                    <a:pt x="94" y="303"/>
                  </a:lnTo>
                  <a:lnTo>
                    <a:pt x="80" y="297"/>
                  </a:lnTo>
                  <a:lnTo>
                    <a:pt x="66" y="289"/>
                  </a:lnTo>
                  <a:lnTo>
                    <a:pt x="55" y="281"/>
                  </a:lnTo>
                  <a:lnTo>
                    <a:pt x="45" y="271"/>
                  </a:lnTo>
                  <a:lnTo>
                    <a:pt x="38" y="259"/>
                  </a:lnTo>
                  <a:lnTo>
                    <a:pt x="35" y="245"/>
                  </a:lnTo>
                  <a:lnTo>
                    <a:pt x="34" y="232"/>
                  </a:lnTo>
                  <a:lnTo>
                    <a:pt x="35" y="216"/>
                  </a:lnTo>
                  <a:lnTo>
                    <a:pt x="38" y="200"/>
                  </a:lnTo>
                  <a:lnTo>
                    <a:pt x="43" y="187"/>
                  </a:lnTo>
                  <a:lnTo>
                    <a:pt x="51" y="170"/>
                  </a:lnTo>
                  <a:lnTo>
                    <a:pt x="60" y="152"/>
                  </a:lnTo>
                  <a:lnTo>
                    <a:pt x="71" y="137"/>
                  </a:lnTo>
                  <a:lnTo>
                    <a:pt x="83" y="124"/>
                  </a:lnTo>
                  <a:lnTo>
                    <a:pt x="94" y="110"/>
                  </a:lnTo>
                  <a:lnTo>
                    <a:pt x="107" y="96"/>
                  </a:lnTo>
                  <a:lnTo>
                    <a:pt x="123" y="82"/>
                  </a:lnTo>
                  <a:lnTo>
                    <a:pt x="138" y="69"/>
                  </a:lnTo>
                  <a:lnTo>
                    <a:pt x="153" y="57"/>
                  </a:lnTo>
                  <a:lnTo>
                    <a:pt x="173" y="47"/>
                  </a:lnTo>
                  <a:lnTo>
                    <a:pt x="195" y="38"/>
                  </a:lnTo>
                  <a:lnTo>
                    <a:pt x="218" y="28"/>
                  </a:lnTo>
                  <a:lnTo>
                    <a:pt x="238" y="20"/>
                  </a:lnTo>
                  <a:lnTo>
                    <a:pt x="254" y="13"/>
                  </a:lnTo>
                  <a:lnTo>
                    <a:pt x="264" y="7"/>
                  </a:lnTo>
                  <a:lnTo>
                    <a:pt x="268" y="2"/>
                  </a:lnTo>
                  <a:lnTo>
                    <a:pt x="256" y="0"/>
                  </a:lnTo>
                  <a:lnTo>
                    <a:pt x="240" y="1"/>
                  </a:lnTo>
                  <a:lnTo>
                    <a:pt x="221" y="4"/>
                  </a:lnTo>
                  <a:lnTo>
                    <a:pt x="201" y="10"/>
                  </a:lnTo>
                  <a:lnTo>
                    <a:pt x="180" y="18"/>
                  </a:lnTo>
                  <a:lnTo>
                    <a:pt x="160" y="27"/>
                  </a:lnTo>
                  <a:lnTo>
                    <a:pt x="141" y="38"/>
                  </a:lnTo>
                  <a:lnTo>
                    <a:pt x="125" y="49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64160" y="5032440"/>
              <a:ext cx="74520" cy="66600"/>
            </a:xfrm>
            <a:custGeom>
              <a:avLst/>
              <a:gdLst/>
              <a:ahLst/>
              <a:rect l="l" t="t" r="r" b="b"/>
              <a:pathLst>
                <a:path w="283" h="252">
                  <a:moveTo>
                    <a:pt x="235" y="77"/>
                  </a:moveTo>
                  <a:lnTo>
                    <a:pt x="248" y="91"/>
                  </a:lnTo>
                  <a:lnTo>
                    <a:pt x="256" y="107"/>
                  </a:lnTo>
                  <a:lnTo>
                    <a:pt x="259" y="124"/>
                  </a:lnTo>
                  <a:lnTo>
                    <a:pt x="259" y="142"/>
                  </a:lnTo>
                  <a:lnTo>
                    <a:pt x="257" y="157"/>
                  </a:lnTo>
                  <a:lnTo>
                    <a:pt x="252" y="170"/>
                  </a:lnTo>
                  <a:lnTo>
                    <a:pt x="244" y="183"/>
                  </a:lnTo>
                  <a:lnTo>
                    <a:pt x="236" y="193"/>
                  </a:lnTo>
                  <a:lnTo>
                    <a:pt x="225" y="204"/>
                  </a:lnTo>
                  <a:lnTo>
                    <a:pt x="215" y="214"/>
                  </a:lnTo>
                  <a:lnTo>
                    <a:pt x="204" y="224"/>
                  </a:lnTo>
                  <a:lnTo>
                    <a:pt x="194" y="234"/>
                  </a:lnTo>
                  <a:lnTo>
                    <a:pt x="191" y="238"/>
                  </a:lnTo>
                  <a:lnTo>
                    <a:pt x="191" y="241"/>
                  </a:lnTo>
                  <a:lnTo>
                    <a:pt x="191" y="245"/>
                  </a:lnTo>
                  <a:lnTo>
                    <a:pt x="194" y="248"/>
                  </a:lnTo>
                  <a:lnTo>
                    <a:pt x="197" y="250"/>
                  </a:lnTo>
                  <a:lnTo>
                    <a:pt x="202" y="252"/>
                  </a:lnTo>
                  <a:lnTo>
                    <a:pt x="205" y="250"/>
                  </a:lnTo>
                  <a:lnTo>
                    <a:pt x="209" y="248"/>
                  </a:lnTo>
                  <a:lnTo>
                    <a:pt x="232" y="233"/>
                  </a:lnTo>
                  <a:lnTo>
                    <a:pt x="252" y="214"/>
                  </a:lnTo>
                  <a:lnTo>
                    <a:pt x="268" y="192"/>
                  </a:lnTo>
                  <a:lnTo>
                    <a:pt x="278" y="167"/>
                  </a:lnTo>
                  <a:lnTo>
                    <a:pt x="283" y="141"/>
                  </a:lnTo>
                  <a:lnTo>
                    <a:pt x="280" y="115"/>
                  </a:lnTo>
                  <a:lnTo>
                    <a:pt x="271" y="91"/>
                  </a:lnTo>
                  <a:lnTo>
                    <a:pt x="252" y="69"/>
                  </a:lnTo>
                  <a:lnTo>
                    <a:pt x="238" y="57"/>
                  </a:lnTo>
                  <a:lnTo>
                    <a:pt x="222" y="48"/>
                  </a:lnTo>
                  <a:lnTo>
                    <a:pt x="204" y="39"/>
                  </a:lnTo>
                  <a:lnTo>
                    <a:pt x="184" y="31"/>
                  </a:lnTo>
                  <a:lnTo>
                    <a:pt x="164" y="23"/>
                  </a:lnTo>
                  <a:lnTo>
                    <a:pt x="144" y="17"/>
                  </a:lnTo>
                  <a:lnTo>
                    <a:pt x="123" y="13"/>
                  </a:lnTo>
                  <a:lnTo>
                    <a:pt x="103" y="8"/>
                  </a:lnTo>
                  <a:lnTo>
                    <a:pt x="83" y="5"/>
                  </a:lnTo>
                  <a:lnTo>
                    <a:pt x="66" y="2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1" y="0"/>
                  </a:lnTo>
                  <a:lnTo>
                    <a:pt x="4" y="2"/>
                  </a:lnTo>
                  <a:lnTo>
                    <a:pt x="0" y="5"/>
                  </a:lnTo>
                  <a:lnTo>
                    <a:pt x="12" y="7"/>
                  </a:lnTo>
                  <a:lnTo>
                    <a:pt x="24" y="8"/>
                  </a:lnTo>
                  <a:lnTo>
                    <a:pt x="38" y="10"/>
                  </a:lnTo>
                  <a:lnTo>
                    <a:pt x="52" y="13"/>
                  </a:lnTo>
                  <a:lnTo>
                    <a:pt x="66" y="16"/>
                  </a:lnTo>
                  <a:lnTo>
                    <a:pt x="82" y="18"/>
                  </a:lnTo>
                  <a:lnTo>
                    <a:pt x="98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4"/>
                  </a:lnTo>
                  <a:lnTo>
                    <a:pt x="162" y="39"/>
                  </a:lnTo>
                  <a:lnTo>
                    <a:pt x="177" y="45"/>
                  </a:lnTo>
                  <a:lnTo>
                    <a:pt x="193" y="52"/>
                  </a:lnTo>
                  <a:lnTo>
                    <a:pt x="208" y="60"/>
                  </a:lnTo>
                  <a:lnTo>
                    <a:pt x="222" y="68"/>
                  </a:lnTo>
                  <a:lnTo>
                    <a:pt x="235" y="77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880" y="5064120"/>
              <a:ext cx="29880" cy="61920"/>
            </a:xfrm>
            <a:custGeom>
              <a:avLst/>
              <a:gdLst/>
              <a:ahLst/>
              <a:rect l="l" t="t" r="r" b="b"/>
              <a:pathLst>
                <a:path w="114" h="238">
                  <a:moveTo>
                    <a:pt x="0" y="130"/>
                  </a:moveTo>
                  <a:lnTo>
                    <a:pt x="0" y="149"/>
                  </a:lnTo>
                  <a:lnTo>
                    <a:pt x="4" y="168"/>
                  </a:lnTo>
                  <a:lnTo>
                    <a:pt x="12" y="185"/>
                  </a:lnTo>
                  <a:lnTo>
                    <a:pt x="24" y="200"/>
                  </a:lnTo>
                  <a:lnTo>
                    <a:pt x="38" y="213"/>
                  </a:lnTo>
                  <a:lnTo>
                    <a:pt x="55" y="224"/>
                  </a:lnTo>
                  <a:lnTo>
                    <a:pt x="73" y="232"/>
                  </a:lnTo>
                  <a:lnTo>
                    <a:pt x="92" y="237"/>
                  </a:lnTo>
                  <a:lnTo>
                    <a:pt x="98" y="238"/>
                  </a:lnTo>
                  <a:lnTo>
                    <a:pt x="104" y="235"/>
                  </a:lnTo>
                  <a:lnTo>
                    <a:pt x="109" y="232"/>
                  </a:lnTo>
                  <a:lnTo>
                    <a:pt x="111" y="227"/>
                  </a:lnTo>
                  <a:lnTo>
                    <a:pt x="111" y="222"/>
                  </a:lnTo>
                  <a:lnTo>
                    <a:pt x="110" y="216"/>
                  </a:lnTo>
                  <a:lnTo>
                    <a:pt x="106" y="211"/>
                  </a:lnTo>
                  <a:lnTo>
                    <a:pt x="100" y="209"/>
                  </a:lnTo>
                  <a:lnTo>
                    <a:pt x="82" y="202"/>
                  </a:lnTo>
                  <a:lnTo>
                    <a:pt x="64" y="193"/>
                  </a:lnTo>
                  <a:lnTo>
                    <a:pt x="50" y="180"/>
                  </a:lnTo>
                  <a:lnTo>
                    <a:pt x="39" y="167"/>
                  </a:lnTo>
                  <a:lnTo>
                    <a:pt x="32" y="149"/>
                  </a:lnTo>
                  <a:lnTo>
                    <a:pt x="29" y="131"/>
                  </a:lnTo>
                  <a:lnTo>
                    <a:pt x="29" y="111"/>
                  </a:lnTo>
                  <a:lnTo>
                    <a:pt x="35" y="91"/>
                  </a:lnTo>
                  <a:lnTo>
                    <a:pt x="42" y="76"/>
                  </a:lnTo>
                  <a:lnTo>
                    <a:pt x="51" y="62"/>
                  </a:lnTo>
                  <a:lnTo>
                    <a:pt x="62" y="49"/>
                  </a:lnTo>
                  <a:lnTo>
                    <a:pt x="73" y="38"/>
                  </a:lnTo>
                  <a:lnTo>
                    <a:pt x="84" y="28"/>
                  </a:lnTo>
                  <a:lnTo>
                    <a:pt x="96" y="18"/>
                  </a:lnTo>
                  <a:lnTo>
                    <a:pt x="106" y="9"/>
                  </a:lnTo>
                  <a:lnTo>
                    <a:pt x="114" y="1"/>
                  </a:lnTo>
                  <a:lnTo>
                    <a:pt x="106" y="0"/>
                  </a:lnTo>
                  <a:lnTo>
                    <a:pt x="93" y="6"/>
                  </a:lnTo>
                  <a:lnTo>
                    <a:pt x="76" y="18"/>
                  </a:lnTo>
                  <a:lnTo>
                    <a:pt x="56" y="36"/>
                  </a:lnTo>
                  <a:lnTo>
                    <a:pt x="37" y="57"/>
                  </a:lnTo>
                  <a:lnTo>
                    <a:pt x="20" y="80"/>
                  </a:lnTo>
                  <a:lnTo>
                    <a:pt x="7" y="106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824280" y="5027760"/>
              <a:ext cx="65160" cy="82440"/>
            </a:xfrm>
            <a:custGeom>
              <a:avLst/>
              <a:gdLst/>
              <a:ahLst/>
              <a:rect l="l" t="t" r="r" b="b"/>
              <a:pathLst>
                <a:path w="246" h="310">
                  <a:moveTo>
                    <a:pt x="199" y="116"/>
                  </a:moveTo>
                  <a:lnTo>
                    <a:pt x="207" y="124"/>
                  </a:lnTo>
                  <a:lnTo>
                    <a:pt x="214" y="133"/>
                  </a:lnTo>
                  <a:lnTo>
                    <a:pt x="219" y="143"/>
                  </a:lnTo>
                  <a:lnTo>
                    <a:pt x="223" y="154"/>
                  </a:lnTo>
                  <a:lnTo>
                    <a:pt x="225" y="164"/>
                  </a:lnTo>
                  <a:lnTo>
                    <a:pt x="225" y="176"/>
                  </a:lnTo>
                  <a:lnTo>
                    <a:pt x="221" y="187"/>
                  </a:lnTo>
                  <a:lnTo>
                    <a:pt x="216" y="197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8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3" y="264"/>
                  </a:lnTo>
                  <a:lnTo>
                    <a:pt x="132" y="274"/>
                  </a:lnTo>
                  <a:lnTo>
                    <a:pt x="129" y="278"/>
                  </a:lnTo>
                  <a:lnTo>
                    <a:pt x="126" y="282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1" y="305"/>
                  </a:lnTo>
                  <a:lnTo>
                    <a:pt x="125" y="309"/>
                  </a:lnTo>
                  <a:lnTo>
                    <a:pt x="130" y="310"/>
                  </a:lnTo>
                  <a:lnTo>
                    <a:pt x="134" y="310"/>
                  </a:lnTo>
                  <a:lnTo>
                    <a:pt x="139" y="309"/>
                  </a:lnTo>
                  <a:lnTo>
                    <a:pt x="143" y="305"/>
                  </a:lnTo>
                  <a:lnTo>
                    <a:pt x="154" y="293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19" y="233"/>
                  </a:lnTo>
                  <a:lnTo>
                    <a:pt x="231" y="219"/>
                  </a:lnTo>
                  <a:lnTo>
                    <a:pt x="239" y="204"/>
                  </a:lnTo>
                  <a:lnTo>
                    <a:pt x="245" y="187"/>
                  </a:lnTo>
                  <a:lnTo>
                    <a:pt x="246" y="170"/>
                  </a:lnTo>
                  <a:lnTo>
                    <a:pt x="242" y="153"/>
                  </a:lnTo>
                  <a:lnTo>
                    <a:pt x="236" y="136"/>
                  </a:lnTo>
                  <a:lnTo>
                    <a:pt x="227" y="120"/>
                  </a:lnTo>
                  <a:lnTo>
                    <a:pt x="215" y="107"/>
                  </a:lnTo>
                  <a:lnTo>
                    <a:pt x="201" y="94"/>
                  </a:lnTo>
                  <a:lnTo>
                    <a:pt x="187" y="82"/>
                  </a:lnTo>
                  <a:lnTo>
                    <a:pt x="177" y="74"/>
                  </a:lnTo>
                  <a:lnTo>
                    <a:pt x="165" y="68"/>
                  </a:lnTo>
                  <a:lnTo>
                    <a:pt x="152" y="60"/>
                  </a:lnTo>
                  <a:lnTo>
                    <a:pt x="139" y="51"/>
                  </a:lnTo>
                  <a:lnTo>
                    <a:pt x="126" y="43"/>
                  </a:lnTo>
                  <a:lnTo>
                    <a:pt x="112" y="35"/>
                  </a:lnTo>
                  <a:lnTo>
                    <a:pt x="98" y="28"/>
                  </a:lnTo>
                  <a:lnTo>
                    <a:pt x="85" y="22"/>
                  </a:lnTo>
                  <a:lnTo>
                    <a:pt x="72" y="16"/>
                  </a:lnTo>
                  <a:lnTo>
                    <a:pt x="59" y="10"/>
                  </a:lnTo>
                  <a:lnTo>
                    <a:pt x="46" y="7"/>
                  </a:lnTo>
                  <a:lnTo>
                    <a:pt x="35" y="3"/>
                  </a:lnTo>
                  <a:lnTo>
                    <a:pt x="24" y="1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3"/>
                  </a:lnTo>
                  <a:lnTo>
                    <a:pt x="8" y="6"/>
                  </a:lnTo>
                  <a:lnTo>
                    <a:pt x="17" y="9"/>
                  </a:lnTo>
                  <a:lnTo>
                    <a:pt x="28" y="14"/>
                  </a:lnTo>
                  <a:lnTo>
                    <a:pt x="38" y="18"/>
                  </a:lnTo>
                  <a:lnTo>
                    <a:pt x="51" y="24"/>
                  </a:lnTo>
                  <a:lnTo>
                    <a:pt x="64" y="30"/>
                  </a:lnTo>
                  <a:lnTo>
                    <a:pt x="78" y="37"/>
                  </a:lnTo>
                  <a:lnTo>
                    <a:pt x="92" y="43"/>
                  </a:lnTo>
                  <a:lnTo>
                    <a:pt x="106" y="51"/>
                  </a:lnTo>
                  <a:lnTo>
                    <a:pt x="120" y="60"/>
                  </a:lnTo>
                  <a:lnTo>
                    <a:pt x="134" y="69"/>
                  </a:lnTo>
                  <a:lnTo>
                    <a:pt x="148" y="78"/>
                  </a:lnTo>
                  <a:lnTo>
                    <a:pt x="163" y="87"/>
                  </a:lnTo>
                  <a:lnTo>
                    <a:pt x="175" y="96"/>
                  </a:lnTo>
                  <a:lnTo>
                    <a:pt x="187" y="105"/>
                  </a:lnTo>
                  <a:lnTo>
                    <a:pt x="199" y="116"/>
                  </a:lnTo>
                  <a:close/>
                </a:path>
              </a:pathLst>
            </a:custGeom>
            <a:solidFill>
              <a:srgbClr val="c9e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53000" y="5124600"/>
              <a:ext cx="22320" cy="48960"/>
            </a:xfrm>
            <a:custGeom>
              <a:avLst/>
              <a:gdLst/>
              <a:ahLst/>
              <a:rect l="l" t="t" r="r" b="b"/>
              <a:pathLst>
                <a:path w="83" h="187">
                  <a:moveTo>
                    <a:pt x="31" y="14"/>
                  </a:moveTo>
                  <a:lnTo>
                    <a:pt x="29" y="8"/>
                  </a:lnTo>
                  <a:lnTo>
                    <a:pt x="25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8" y="2"/>
                  </a:lnTo>
                  <a:lnTo>
                    <a:pt x="3" y="5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5" y="42"/>
                  </a:lnTo>
                  <a:lnTo>
                    <a:pt x="15" y="71"/>
                  </a:lnTo>
                  <a:lnTo>
                    <a:pt x="27" y="100"/>
                  </a:lnTo>
                  <a:lnTo>
                    <a:pt x="41" y="127"/>
                  </a:lnTo>
                  <a:lnTo>
                    <a:pt x="55" y="151"/>
                  </a:lnTo>
                  <a:lnTo>
                    <a:pt x="68" y="171"/>
                  </a:lnTo>
                  <a:lnTo>
                    <a:pt x="77" y="184"/>
                  </a:lnTo>
                  <a:lnTo>
                    <a:pt x="83" y="187"/>
                  </a:lnTo>
                  <a:lnTo>
                    <a:pt x="80" y="174"/>
                  </a:lnTo>
                  <a:lnTo>
                    <a:pt x="75" y="158"/>
                  </a:lnTo>
                  <a:lnTo>
                    <a:pt x="68" y="138"/>
                  </a:lnTo>
                  <a:lnTo>
                    <a:pt x="59" y="113"/>
                  </a:lnTo>
                  <a:lnTo>
                    <a:pt x="51" y="88"/>
                  </a:lnTo>
                  <a:lnTo>
                    <a:pt x="43" y="63"/>
                  </a:lnTo>
                  <a:lnTo>
                    <a:pt x="36" y="38"/>
                  </a:lnTo>
                  <a:lnTo>
                    <a:pt x="3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43640" y="5097600"/>
              <a:ext cx="10800" cy="25200"/>
            </a:xfrm>
            <a:custGeom>
              <a:avLst/>
              <a:gdLst/>
              <a:ahLst/>
              <a:rect l="l" t="t" r="r" b="b"/>
              <a:pathLst>
                <a:path w="44" h="94">
                  <a:moveTo>
                    <a:pt x="22" y="10"/>
                  </a:moveTo>
                  <a:lnTo>
                    <a:pt x="21" y="6"/>
                  </a:lnTo>
                  <a:lnTo>
                    <a:pt x="18" y="2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3"/>
                  </a:lnTo>
                  <a:lnTo>
                    <a:pt x="0" y="7"/>
                  </a:lnTo>
                  <a:lnTo>
                    <a:pt x="0" y="11"/>
                  </a:lnTo>
                  <a:lnTo>
                    <a:pt x="0" y="24"/>
                  </a:lnTo>
                  <a:lnTo>
                    <a:pt x="4" y="38"/>
                  </a:lnTo>
                  <a:lnTo>
                    <a:pt x="8" y="52"/>
                  </a:lnTo>
                  <a:lnTo>
                    <a:pt x="14" y="65"/>
                  </a:lnTo>
                  <a:lnTo>
                    <a:pt x="21" y="78"/>
                  </a:lnTo>
                  <a:lnTo>
                    <a:pt x="28" y="87"/>
                  </a:lnTo>
                  <a:lnTo>
                    <a:pt x="37" y="93"/>
                  </a:lnTo>
                  <a:lnTo>
                    <a:pt x="42" y="94"/>
                  </a:lnTo>
                  <a:lnTo>
                    <a:pt x="44" y="76"/>
                  </a:lnTo>
                  <a:lnTo>
                    <a:pt x="38" y="54"/>
                  </a:lnTo>
                  <a:lnTo>
                    <a:pt x="31" y="32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733920" y="5079960"/>
              <a:ext cx="9720" cy="1440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20" y="7"/>
                  </a:move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20" y="8"/>
                  </a:lnTo>
                  <a:lnTo>
                    <a:pt x="19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7" y="0"/>
                  </a:lnTo>
                  <a:lnTo>
                    <a:pt x="4" y="1"/>
                  </a:lnTo>
                  <a:lnTo>
                    <a:pt x="1" y="4"/>
                  </a:lnTo>
                  <a:lnTo>
                    <a:pt x="0" y="8"/>
                  </a:lnTo>
                  <a:lnTo>
                    <a:pt x="0" y="11"/>
                  </a:lnTo>
                  <a:lnTo>
                    <a:pt x="1" y="17"/>
                  </a:lnTo>
                  <a:lnTo>
                    <a:pt x="4" y="24"/>
                  </a:lnTo>
                  <a:lnTo>
                    <a:pt x="8" y="32"/>
                  </a:lnTo>
                  <a:lnTo>
                    <a:pt x="14" y="39"/>
                  </a:lnTo>
                  <a:lnTo>
                    <a:pt x="20" y="46"/>
                  </a:lnTo>
                  <a:lnTo>
                    <a:pt x="27" y="50"/>
                  </a:lnTo>
                  <a:lnTo>
                    <a:pt x="33" y="54"/>
                  </a:lnTo>
                  <a:lnTo>
                    <a:pt x="38" y="54"/>
                  </a:lnTo>
                  <a:lnTo>
                    <a:pt x="36" y="42"/>
                  </a:lnTo>
                  <a:lnTo>
                    <a:pt x="32" y="29"/>
                  </a:lnTo>
                  <a:lnTo>
                    <a:pt x="25" y="16"/>
                  </a:lnTo>
                  <a:lnTo>
                    <a:pt x="2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6000" y="5067360"/>
              <a:ext cx="12600" cy="9360"/>
            </a:xfrm>
            <a:custGeom>
              <a:avLst/>
              <a:gdLst/>
              <a:ahLst/>
              <a:rect l="l" t="t" r="r" b="b"/>
              <a:pathLst>
                <a:path w="52" h="36">
                  <a:moveTo>
                    <a:pt x="41" y="27"/>
                  </a:moveTo>
                  <a:lnTo>
                    <a:pt x="46" y="24"/>
                  </a:lnTo>
                  <a:lnTo>
                    <a:pt x="51" y="21"/>
                  </a:lnTo>
                  <a:lnTo>
                    <a:pt x="52" y="16"/>
                  </a:lnTo>
                  <a:lnTo>
                    <a:pt x="52" y="12"/>
                  </a:lnTo>
                  <a:lnTo>
                    <a:pt x="50" y="6"/>
                  </a:lnTo>
                  <a:lnTo>
                    <a:pt x="46" y="2"/>
                  </a:lnTo>
                  <a:lnTo>
                    <a:pt x="41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29" y="1"/>
                  </a:lnTo>
                  <a:lnTo>
                    <a:pt x="21" y="4"/>
                  </a:lnTo>
                  <a:lnTo>
                    <a:pt x="13" y="8"/>
                  </a:lnTo>
                  <a:lnTo>
                    <a:pt x="6" y="15"/>
                  </a:lnTo>
                  <a:lnTo>
                    <a:pt x="3" y="22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4" y="33"/>
                  </a:lnTo>
                  <a:lnTo>
                    <a:pt x="9" y="36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3"/>
                  </a:lnTo>
                  <a:lnTo>
                    <a:pt x="30" y="32"/>
                  </a:lnTo>
                  <a:lnTo>
                    <a:pt x="36" y="30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62640" y="5051520"/>
              <a:ext cx="52200" cy="61920"/>
            </a:xfrm>
            <a:custGeom>
              <a:avLst/>
              <a:gdLst/>
              <a:ahLst/>
              <a:rect l="l" t="t" r="r" b="b"/>
              <a:pathLst>
                <a:path w="198" h="236">
                  <a:moveTo>
                    <a:pt x="73" y="36"/>
                  </a:moveTo>
                  <a:lnTo>
                    <a:pt x="58" y="46"/>
                  </a:lnTo>
                  <a:lnTo>
                    <a:pt x="46" y="58"/>
                  </a:lnTo>
                  <a:lnTo>
                    <a:pt x="33" y="72"/>
                  </a:lnTo>
                  <a:lnTo>
                    <a:pt x="22" y="85"/>
                  </a:lnTo>
                  <a:lnTo>
                    <a:pt x="14" y="100"/>
                  </a:lnTo>
                  <a:lnTo>
                    <a:pt x="7" y="115"/>
                  </a:lnTo>
                  <a:lnTo>
                    <a:pt x="2" y="130"/>
                  </a:lnTo>
                  <a:lnTo>
                    <a:pt x="0" y="146"/>
                  </a:lnTo>
                  <a:lnTo>
                    <a:pt x="2" y="170"/>
                  </a:lnTo>
                  <a:lnTo>
                    <a:pt x="12" y="190"/>
                  </a:lnTo>
                  <a:lnTo>
                    <a:pt x="26" y="207"/>
                  </a:lnTo>
                  <a:lnTo>
                    <a:pt x="43" y="220"/>
                  </a:lnTo>
                  <a:lnTo>
                    <a:pt x="64" y="229"/>
                  </a:lnTo>
                  <a:lnTo>
                    <a:pt x="88" y="235"/>
                  </a:lnTo>
                  <a:lnTo>
                    <a:pt x="110" y="236"/>
                  </a:lnTo>
                  <a:lnTo>
                    <a:pt x="132" y="232"/>
                  </a:lnTo>
                  <a:lnTo>
                    <a:pt x="137" y="232"/>
                  </a:lnTo>
                  <a:lnTo>
                    <a:pt x="142" y="230"/>
                  </a:lnTo>
                  <a:lnTo>
                    <a:pt x="145" y="226"/>
                  </a:lnTo>
                  <a:lnTo>
                    <a:pt x="146" y="221"/>
                  </a:lnTo>
                  <a:lnTo>
                    <a:pt x="145" y="219"/>
                  </a:lnTo>
                  <a:lnTo>
                    <a:pt x="142" y="219"/>
                  </a:lnTo>
                  <a:lnTo>
                    <a:pt x="137" y="217"/>
                  </a:lnTo>
                  <a:lnTo>
                    <a:pt x="131" y="217"/>
                  </a:lnTo>
                  <a:lnTo>
                    <a:pt x="124" y="217"/>
                  </a:lnTo>
                  <a:lnTo>
                    <a:pt x="118" y="217"/>
                  </a:lnTo>
                  <a:lnTo>
                    <a:pt x="112" y="217"/>
                  </a:lnTo>
                  <a:lnTo>
                    <a:pt x="109" y="217"/>
                  </a:lnTo>
                  <a:lnTo>
                    <a:pt x="97" y="216"/>
                  </a:lnTo>
                  <a:lnTo>
                    <a:pt x="87" y="215"/>
                  </a:lnTo>
                  <a:lnTo>
                    <a:pt x="75" y="214"/>
                  </a:lnTo>
                  <a:lnTo>
                    <a:pt x="63" y="211"/>
                  </a:lnTo>
                  <a:lnTo>
                    <a:pt x="51" y="207"/>
                  </a:lnTo>
                  <a:lnTo>
                    <a:pt x="40" y="199"/>
                  </a:lnTo>
                  <a:lnTo>
                    <a:pt x="29" y="189"/>
                  </a:lnTo>
                  <a:lnTo>
                    <a:pt x="17" y="174"/>
                  </a:lnTo>
                  <a:lnTo>
                    <a:pt x="15" y="157"/>
                  </a:lnTo>
                  <a:lnTo>
                    <a:pt x="16" y="141"/>
                  </a:lnTo>
                  <a:lnTo>
                    <a:pt x="21" y="124"/>
                  </a:lnTo>
                  <a:lnTo>
                    <a:pt x="28" y="109"/>
                  </a:lnTo>
                  <a:lnTo>
                    <a:pt x="39" y="96"/>
                  </a:lnTo>
                  <a:lnTo>
                    <a:pt x="50" y="82"/>
                  </a:lnTo>
                  <a:lnTo>
                    <a:pt x="63" y="70"/>
                  </a:lnTo>
                  <a:lnTo>
                    <a:pt x="78" y="59"/>
                  </a:lnTo>
                  <a:lnTo>
                    <a:pt x="94" y="49"/>
                  </a:lnTo>
                  <a:lnTo>
                    <a:pt x="110" y="39"/>
                  </a:lnTo>
                  <a:lnTo>
                    <a:pt x="126" y="31"/>
                  </a:lnTo>
                  <a:lnTo>
                    <a:pt x="142" y="24"/>
                  </a:lnTo>
                  <a:lnTo>
                    <a:pt x="158" y="19"/>
                  </a:lnTo>
                  <a:lnTo>
                    <a:pt x="172" y="13"/>
                  </a:lnTo>
                  <a:lnTo>
                    <a:pt x="186" y="10"/>
                  </a:lnTo>
                  <a:lnTo>
                    <a:pt x="198" y="7"/>
                  </a:lnTo>
                  <a:lnTo>
                    <a:pt x="190" y="3"/>
                  </a:lnTo>
                  <a:lnTo>
                    <a:pt x="177" y="0"/>
                  </a:lnTo>
                  <a:lnTo>
                    <a:pt x="162" y="3"/>
                  </a:lnTo>
                  <a:lnTo>
                    <a:pt x="144" y="6"/>
                  </a:lnTo>
                  <a:lnTo>
                    <a:pt x="124" y="12"/>
                  </a:lnTo>
                  <a:lnTo>
                    <a:pt x="105" y="19"/>
                  </a:lnTo>
                  <a:lnTo>
                    <a:pt x="88" y="28"/>
                  </a:lnTo>
                  <a:lnTo>
                    <a:pt x="7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751560" y="5051520"/>
              <a:ext cx="34920" cy="47520"/>
            </a:xfrm>
            <a:custGeom>
              <a:avLst/>
              <a:gdLst/>
              <a:ahLst/>
              <a:rect l="l" t="t" r="r" b="b"/>
              <a:pathLst>
                <a:path w="128" h="183">
                  <a:moveTo>
                    <a:pt x="108" y="61"/>
                  </a:moveTo>
                  <a:lnTo>
                    <a:pt x="111" y="80"/>
                  </a:lnTo>
                  <a:lnTo>
                    <a:pt x="109" y="97"/>
                  </a:lnTo>
                  <a:lnTo>
                    <a:pt x="101" y="110"/>
                  </a:lnTo>
                  <a:lnTo>
                    <a:pt x="89" y="123"/>
                  </a:lnTo>
                  <a:lnTo>
                    <a:pt x="75" y="134"/>
                  </a:lnTo>
                  <a:lnTo>
                    <a:pt x="60" y="145"/>
                  </a:lnTo>
                  <a:lnTo>
                    <a:pt x="43" y="156"/>
                  </a:lnTo>
                  <a:lnTo>
                    <a:pt x="29" y="167"/>
                  </a:lnTo>
                  <a:lnTo>
                    <a:pt x="27" y="170"/>
                  </a:lnTo>
                  <a:lnTo>
                    <a:pt x="26" y="172"/>
                  </a:lnTo>
                  <a:lnTo>
                    <a:pt x="26" y="176"/>
                  </a:lnTo>
                  <a:lnTo>
                    <a:pt x="28" y="179"/>
                  </a:lnTo>
                  <a:lnTo>
                    <a:pt x="30" y="182"/>
                  </a:lnTo>
                  <a:lnTo>
                    <a:pt x="34" y="183"/>
                  </a:lnTo>
                  <a:lnTo>
                    <a:pt x="37" y="183"/>
                  </a:lnTo>
                  <a:lnTo>
                    <a:pt x="41" y="182"/>
                  </a:lnTo>
                  <a:lnTo>
                    <a:pt x="58" y="171"/>
                  </a:lnTo>
                  <a:lnTo>
                    <a:pt x="76" y="160"/>
                  </a:lnTo>
                  <a:lnTo>
                    <a:pt x="92" y="147"/>
                  </a:lnTo>
                  <a:lnTo>
                    <a:pt x="108" y="132"/>
                  </a:lnTo>
                  <a:lnTo>
                    <a:pt x="118" y="116"/>
                  </a:lnTo>
                  <a:lnTo>
                    <a:pt x="125" y="98"/>
                  </a:lnTo>
                  <a:lnTo>
                    <a:pt x="128" y="78"/>
                  </a:lnTo>
                  <a:lnTo>
                    <a:pt x="123" y="58"/>
                  </a:lnTo>
                  <a:lnTo>
                    <a:pt x="112" y="41"/>
                  </a:lnTo>
                  <a:lnTo>
                    <a:pt x="98" y="28"/>
                  </a:lnTo>
                  <a:lnTo>
                    <a:pt x="80" y="16"/>
                  </a:lnTo>
                  <a:lnTo>
                    <a:pt x="61" y="8"/>
                  </a:lnTo>
                  <a:lnTo>
                    <a:pt x="41" y="2"/>
                  </a:lnTo>
                  <a:lnTo>
                    <a:pt x="23" y="0"/>
                  </a:lnTo>
                  <a:lnTo>
                    <a:pt x="9" y="1"/>
                  </a:lnTo>
                  <a:lnTo>
                    <a:pt x="0" y="6"/>
                  </a:lnTo>
                  <a:lnTo>
                    <a:pt x="16" y="10"/>
                  </a:lnTo>
                  <a:lnTo>
                    <a:pt x="33" y="14"/>
                  </a:lnTo>
                  <a:lnTo>
                    <a:pt x="48" y="17"/>
                  </a:lnTo>
                  <a:lnTo>
                    <a:pt x="63" y="22"/>
                  </a:lnTo>
                  <a:lnTo>
                    <a:pt x="77" y="28"/>
                  </a:lnTo>
                  <a:lnTo>
                    <a:pt x="90" y="36"/>
                  </a:lnTo>
                  <a:lnTo>
                    <a:pt x="101" y="46"/>
                  </a:lnTo>
                  <a:lnTo>
                    <a:pt x="108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629160" y="5040360"/>
              <a:ext cx="84240" cy="100080"/>
            </a:xfrm>
            <a:custGeom>
              <a:avLst/>
              <a:gdLst/>
              <a:ahLst/>
              <a:rect l="l" t="t" r="r" b="b"/>
              <a:pathLst>
                <a:path w="323" h="379">
                  <a:moveTo>
                    <a:pt x="126" y="50"/>
                  </a:moveTo>
                  <a:lnTo>
                    <a:pt x="101" y="70"/>
                  </a:lnTo>
                  <a:lnTo>
                    <a:pt x="76" y="92"/>
                  </a:lnTo>
                  <a:lnTo>
                    <a:pt x="54" y="115"/>
                  </a:lnTo>
                  <a:lnTo>
                    <a:pt x="34" y="140"/>
                  </a:lnTo>
                  <a:lnTo>
                    <a:pt x="18" y="167"/>
                  </a:lnTo>
                  <a:lnTo>
                    <a:pt x="6" y="196"/>
                  </a:lnTo>
                  <a:lnTo>
                    <a:pt x="0" y="227"/>
                  </a:lnTo>
                  <a:lnTo>
                    <a:pt x="1" y="259"/>
                  </a:lnTo>
                  <a:lnTo>
                    <a:pt x="4" y="267"/>
                  </a:lnTo>
                  <a:lnTo>
                    <a:pt x="7" y="277"/>
                  </a:lnTo>
                  <a:lnTo>
                    <a:pt x="11" y="283"/>
                  </a:lnTo>
                  <a:lnTo>
                    <a:pt x="15" y="291"/>
                  </a:lnTo>
                  <a:lnTo>
                    <a:pt x="21" y="298"/>
                  </a:lnTo>
                  <a:lnTo>
                    <a:pt x="27" y="305"/>
                  </a:lnTo>
                  <a:lnTo>
                    <a:pt x="34" y="311"/>
                  </a:lnTo>
                  <a:lnTo>
                    <a:pt x="41" y="316"/>
                  </a:lnTo>
                  <a:lnTo>
                    <a:pt x="57" y="325"/>
                  </a:lnTo>
                  <a:lnTo>
                    <a:pt x="72" y="333"/>
                  </a:lnTo>
                  <a:lnTo>
                    <a:pt x="87" y="340"/>
                  </a:lnTo>
                  <a:lnTo>
                    <a:pt x="103" y="345"/>
                  </a:lnTo>
                  <a:lnTo>
                    <a:pt x="120" y="351"/>
                  </a:lnTo>
                  <a:lnTo>
                    <a:pt x="136" y="356"/>
                  </a:lnTo>
                  <a:lnTo>
                    <a:pt x="153" y="360"/>
                  </a:lnTo>
                  <a:lnTo>
                    <a:pt x="169" y="364"/>
                  </a:lnTo>
                  <a:lnTo>
                    <a:pt x="187" y="367"/>
                  </a:lnTo>
                  <a:lnTo>
                    <a:pt x="204" y="370"/>
                  </a:lnTo>
                  <a:lnTo>
                    <a:pt x="221" y="372"/>
                  </a:lnTo>
                  <a:lnTo>
                    <a:pt x="238" y="374"/>
                  </a:lnTo>
                  <a:lnTo>
                    <a:pt x="256" y="375"/>
                  </a:lnTo>
                  <a:lnTo>
                    <a:pt x="273" y="376"/>
                  </a:lnTo>
                  <a:lnTo>
                    <a:pt x="290" y="378"/>
                  </a:lnTo>
                  <a:lnTo>
                    <a:pt x="307" y="379"/>
                  </a:lnTo>
                  <a:lnTo>
                    <a:pt x="312" y="379"/>
                  </a:lnTo>
                  <a:lnTo>
                    <a:pt x="317" y="375"/>
                  </a:lnTo>
                  <a:lnTo>
                    <a:pt x="320" y="372"/>
                  </a:lnTo>
                  <a:lnTo>
                    <a:pt x="323" y="366"/>
                  </a:lnTo>
                  <a:lnTo>
                    <a:pt x="323" y="360"/>
                  </a:lnTo>
                  <a:lnTo>
                    <a:pt x="320" y="356"/>
                  </a:lnTo>
                  <a:lnTo>
                    <a:pt x="316" y="352"/>
                  </a:lnTo>
                  <a:lnTo>
                    <a:pt x="311" y="351"/>
                  </a:lnTo>
                  <a:lnTo>
                    <a:pt x="295" y="351"/>
                  </a:lnTo>
                  <a:lnTo>
                    <a:pt x="279" y="351"/>
                  </a:lnTo>
                  <a:lnTo>
                    <a:pt x="263" y="350"/>
                  </a:lnTo>
                  <a:lnTo>
                    <a:pt x="248" y="349"/>
                  </a:lnTo>
                  <a:lnTo>
                    <a:pt x="231" y="348"/>
                  </a:lnTo>
                  <a:lnTo>
                    <a:pt x="215" y="345"/>
                  </a:lnTo>
                  <a:lnTo>
                    <a:pt x="200" y="343"/>
                  </a:lnTo>
                  <a:lnTo>
                    <a:pt x="183" y="341"/>
                  </a:lnTo>
                  <a:lnTo>
                    <a:pt x="168" y="337"/>
                  </a:lnTo>
                  <a:lnTo>
                    <a:pt x="151" y="334"/>
                  </a:lnTo>
                  <a:lnTo>
                    <a:pt x="136" y="329"/>
                  </a:lnTo>
                  <a:lnTo>
                    <a:pt x="121" y="325"/>
                  </a:lnTo>
                  <a:lnTo>
                    <a:pt x="106" y="320"/>
                  </a:lnTo>
                  <a:lnTo>
                    <a:pt x="92" y="313"/>
                  </a:lnTo>
                  <a:lnTo>
                    <a:pt x="76" y="306"/>
                  </a:lnTo>
                  <a:lnTo>
                    <a:pt x="62" y="300"/>
                  </a:lnTo>
                  <a:lnTo>
                    <a:pt x="51" y="291"/>
                  </a:lnTo>
                  <a:lnTo>
                    <a:pt x="41" y="280"/>
                  </a:lnTo>
                  <a:lnTo>
                    <a:pt x="35" y="269"/>
                  </a:lnTo>
                  <a:lnTo>
                    <a:pt x="31" y="255"/>
                  </a:lnTo>
                  <a:lnTo>
                    <a:pt x="31" y="239"/>
                  </a:lnTo>
                  <a:lnTo>
                    <a:pt x="33" y="218"/>
                  </a:lnTo>
                  <a:lnTo>
                    <a:pt x="38" y="197"/>
                  </a:lnTo>
                  <a:lnTo>
                    <a:pt x="42" y="182"/>
                  </a:lnTo>
                  <a:lnTo>
                    <a:pt x="51" y="165"/>
                  </a:lnTo>
                  <a:lnTo>
                    <a:pt x="60" y="150"/>
                  </a:lnTo>
                  <a:lnTo>
                    <a:pt x="68" y="136"/>
                  </a:lnTo>
                  <a:lnTo>
                    <a:pt x="79" y="124"/>
                  </a:lnTo>
                  <a:lnTo>
                    <a:pt x="89" y="111"/>
                  </a:lnTo>
                  <a:lnTo>
                    <a:pt x="101" y="100"/>
                  </a:lnTo>
                  <a:lnTo>
                    <a:pt x="114" y="88"/>
                  </a:lnTo>
                  <a:lnTo>
                    <a:pt x="129" y="76"/>
                  </a:lnTo>
                  <a:lnTo>
                    <a:pt x="144" y="64"/>
                  </a:lnTo>
                  <a:lnTo>
                    <a:pt x="162" y="53"/>
                  </a:lnTo>
                  <a:lnTo>
                    <a:pt x="181" y="41"/>
                  </a:lnTo>
                  <a:lnTo>
                    <a:pt x="201" y="31"/>
                  </a:lnTo>
                  <a:lnTo>
                    <a:pt x="219" y="22"/>
                  </a:lnTo>
                  <a:lnTo>
                    <a:pt x="237" y="14"/>
                  </a:lnTo>
                  <a:lnTo>
                    <a:pt x="253" y="7"/>
                  </a:lnTo>
                  <a:lnTo>
                    <a:pt x="268" y="1"/>
                  </a:lnTo>
                  <a:lnTo>
                    <a:pt x="255" y="0"/>
                  </a:lnTo>
                  <a:lnTo>
                    <a:pt x="238" y="1"/>
                  </a:lnTo>
                  <a:lnTo>
                    <a:pt x="221" y="5"/>
                  </a:lnTo>
                  <a:lnTo>
                    <a:pt x="201" y="11"/>
                  </a:lnTo>
                  <a:lnTo>
                    <a:pt x="181" y="19"/>
                  </a:lnTo>
                  <a:lnTo>
                    <a:pt x="161" y="28"/>
                  </a:lnTo>
                  <a:lnTo>
                    <a:pt x="142" y="39"/>
                  </a:lnTo>
                  <a:lnTo>
                    <a:pt x="126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748320" y="5037120"/>
              <a:ext cx="74520" cy="66600"/>
            </a:xfrm>
            <a:custGeom>
              <a:avLst/>
              <a:gdLst/>
              <a:ahLst/>
              <a:rect l="l" t="t" r="r" b="b"/>
              <a:pathLst>
                <a:path w="282" h="253">
                  <a:moveTo>
                    <a:pt x="235" y="78"/>
                  </a:moveTo>
                  <a:lnTo>
                    <a:pt x="248" y="92"/>
                  </a:lnTo>
                  <a:lnTo>
                    <a:pt x="255" y="108"/>
                  </a:lnTo>
                  <a:lnTo>
                    <a:pt x="259" y="125"/>
                  </a:lnTo>
                  <a:lnTo>
                    <a:pt x="259" y="144"/>
                  </a:lnTo>
                  <a:lnTo>
                    <a:pt x="257" y="159"/>
                  </a:lnTo>
                  <a:lnTo>
                    <a:pt x="252" y="171"/>
                  </a:lnTo>
                  <a:lnTo>
                    <a:pt x="244" y="184"/>
                  </a:lnTo>
                  <a:lnTo>
                    <a:pt x="236" y="194"/>
                  </a:lnTo>
                  <a:lnTo>
                    <a:pt x="225" y="206"/>
                  </a:lnTo>
                  <a:lnTo>
                    <a:pt x="215" y="215"/>
                  </a:lnTo>
                  <a:lnTo>
                    <a:pt x="204" y="225"/>
                  </a:lnTo>
                  <a:lnTo>
                    <a:pt x="194" y="236"/>
                  </a:lnTo>
                  <a:lnTo>
                    <a:pt x="191" y="239"/>
                  </a:lnTo>
                  <a:lnTo>
                    <a:pt x="190" y="242"/>
                  </a:lnTo>
                  <a:lnTo>
                    <a:pt x="191" y="246"/>
                  </a:lnTo>
                  <a:lnTo>
                    <a:pt x="194" y="249"/>
                  </a:lnTo>
                  <a:lnTo>
                    <a:pt x="197" y="252"/>
                  </a:lnTo>
                  <a:lnTo>
                    <a:pt x="201" y="253"/>
                  </a:lnTo>
                  <a:lnTo>
                    <a:pt x="205" y="252"/>
                  </a:lnTo>
                  <a:lnTo>
                    <a:pt x="209" y="249"/>
                  </a:lnTo>
                  <a:lnTo>
                    <a:pt x="232" y="234"/>
                  </a:lnTo>
                  <a:lnTo>
                    <a:pt x="251" y="215"/>
                  </a:lnTo>
                  <a:lnTo>
                    <a:pt x="267" y="192"/>
                  </a:lnTo>
                  <a:lnTo>
                    <a:pt x="278" y="168"/>
                  </a:lnTo>
                  <a:lnTo>
                    <a:pt x="282" y="141"/>
                  </a:lnTo>
                  <a:lnTo>
                    <a:pt x="279" y="116"/>
                  </a:lnTo>
                  <a:lnTo>
                    <a:pt x="270" y="92"/>
                  </a:lnTo>
                  <a:lnTo>
                    <a:pt x="251" y="70"/>
                  </a:lnTo>
                  <a:lnTo>
                    <a:pt x="237" y="59"/>
                  </a:lnTo>
                  <a:lnTo>
                    <a:pt x="221" y="48"/>
                  </a:lnTo>
                  <a:lnTo>
                    <a:pt x="202" y="39"/>
                  </a:lnTo>
                  <a:lnTo>
                    <a:pt x="183" y="31"/>
                  </a:lnTo>
                  <a:lnTo>
                    <a:pt x="163" y="24"/>
                  </a:lnTo>
                  <a:lnTo>
                    <a:pt x="142" y="18"/>
                  </a:lnTo>
                  <a:lnTo>
                    <a:pt x="122" y="13"/>
                  </a:lnTo>
                  <a:lnTo>
                    <a:pt x="101" y="8"/>
                  </a:lnTo>
                  <a:lnTo>
                    <a:pt x="82" y="5"/>
                  </a:lnTo>
                  <a:lnTo>
                    <a:pt x="63" y="2"/>
                  </a:lnTo>
                  <a:lnTo>
                    <a:pt x="47" y="0"/>
                  </a:lnTo>
                  <a:lnTo>
                    <a:pt x="32" y="0"/>
                  </a:lnTo>
                  <a:lnTo>
                    <a:pt x="19" y="0"/>
                  </a:lnTo>
                  <a:lnTo>
                    <a:pt x="10" y="1"/>
                  </a:lnTo>
                  <a:lnTo>
                    <a:pt x="4" y="4"/>
                  </a:lnTo>
                  <a:lnTo>
                    <a:pt x="0" y="6"/>
                  </a:lnTo>
                  <a:lnTo>
                    <a:pt x="12" y="8"/>
                  </a:lnTo>
                  <a:lnTo>
                    <a:pt x="25" y="9"/>
                  </a:lnTo>
                  <a:lnTo>
                    <a:pt x="38" y="12"/>
                  </a:lnTo>
                  <a:lnTo>
                    <a:pt x="52" y="14"/>
                  </a:lnTo>
                  <a:lnTo>
                    <a:pt x="67" y="16"/>
                  </a:lnTo>
                  <a:lnTo>
                    <a:pt x="82" y="18"/>
                  </a:lnTo>
                  <a:lnTo>
                    <a:pt x="97" y="22"/>
                  </a:lnTo>
                  <a:lnTo>
                    <a:pt x="114" y="25"/>
                  </a:lnTo>
                  <a:lnTo>
                    <a:pt x="129" y="30"/>
                  </a:lnTo>
                  <a:lnTo>
                    <a:pt x="146" y="35"/>
                  </a:lnTo>
                  <a:lnTo>
                    <a:pt x="162" y="40"/>
                  </a:lnTo>
                  <a:lnTo>
                    <a:pt x="177" y="46"/>
                  </a:lnTo>
                  <a:lnTo>
                    <a:pt x="192" y="53"/>
                  </a:lnTo>
                  <a:lnTo>
                    <a:pt x="208" y="60"/>
                  </a:lnTo>
                  <a:lnTo>
                    <a:pt x="222" y="69"/>
                  </a:lnTo>
                  <a:lnTo>
                    <a:pt x="235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98920" y="5073840"/>
              <a:ext cx="30240" cy="61920"/>
            </a:xfrm>
            <a:custGeom>
              <a:avLst/>
              <a:gdLst/>
              <a:ahLst/>
              <a:rect l="l" t="t" r="r" b="b"/>
              <a:pathLst>
                <a:path w="115" h="236">
                  <a:moveTo>
                    <a:pt x="0" y="128"/>
                  </a:moveTo>
                  <a:lnTo>
                    <a:pt x="0" y="148"/>
                  </a:lnTo>
                  <a:lnTo>
                    <a:pt x="5" y="166"/>
                  </a:lnTo>
                  <a:lnTo>
                    <a:pt x="13" y="184"/>
                  </a:lnTo>
                  <a:lnTo>
                    <a:pt x="24" y="198"/>
                  </a:lnTo>
                  <a:lnTo>
                    <a:pt x="39" y="211"/>
                  </a:lnTo>
                  <a:lnTo>
                    <a:pt x="55" y="223"/>
                  </a:lnTo>
                  <a:lnTo>
                    <a:pt x="74" y="231"/>
                  </a:lnTo>
                  <a:lnTo>
                    <a:pt x="92" y="235"/>
                  </a:lnTo>
                  <a:lnTo>
                    <a:pt x="98" y="236"/>
                  </a:lnTo>
                  <a:lnTo>
                    <a:pt x="104" y="234"/>
                  </a:lnTo>
                  <a:lnTo>
                    <a:pt x="109" y="231"/>
                  </a:lnTo>
                  <a:lnTo>
                    <a:pt x="111" y="226"/>
                  </a:lnTo>
                  <a:lnTo>
                    <a:pt x="111" y="220"/>
                  </a:lnTo>
                  <a:lnTo>
                    <a:pt x="110" y="215"/>
                  </a:lnTo>
                  <a:lnTo>
                    <a:pt x="107" y="210"/>
                  </a:lnTo>
                  <a:lnTo>
                    <a:pt x="101" y="208"/>
                  </a:lnTo>
                  <a:lnTo>
                    <a:pt x="82" y="201"/>
                  </a:lnTo>
                  <a:lnTo>
                    <a:pt x="64" y="192"/>
                  </a:lnTo>
                  <a:lnTo>
                    <a:pt x="50" y="179"/>
                  </a:lnTo>
                  <a:lnTo>
                    <a:pt x="40" y="165"/>
                  </a:lnTo>
                  <a:lnTo>
                    <a:pt x="33" y="148"/>
                  </a:lnTo>
                  <a:lnTo>
                    <a:pt x="29" y="130"/>
                  </a:lnTo>
                  <a:lnTo>
                    <a:pt x="29" y="110"/>
                  </a:lnTo>
                  <a:lnTo>
                    <a:pt x="35" y="89"/>
                  </a:lnTo>
                  <a:lnTo>
                    <a:pt x="43" y="74"/>
                  </a:lnTo>
                  <a:lnTo>
                    <a:pt x="56" y="60"/>
                  </a:lnTo>
                  <a:lnTo>
                    <a:pt x="70" y="46"/>
                  </a:lnTo>
                  <a:lnTo>
                    <a:pt x="85" y="33"/>
                  </a:lnTo>
                  <a:lnTo>
                    <a:pt x="98" y="23"/>
                  </a:lnTo>
                  <a:lnTo>
                    <a:pt x="109" y="12"/>
                  </a:lnTo>
                  <a:lnTo>
                    <a:pt x="115" y="6"/>
                  </a:lnTo>
                  <a:lnTo>
                    <a:pt x="115" y="0"/>
                  </a:lnTo>
                  <a:lnTo>
                    <a:pt x="102" y="4"/>
                  </a:lnTo>
                  <a:lnTo>
                    <a:pt x="85" y="12"/>
                  </a:lnTo>
                  <a:lnTo>
                    <a:pt x="68" y="26"/>
                  </a:lnTo>
                  <a:lnTo>
                    <a:pt x="49" y="42"/>
                  </a:lnTo>
                  <a:lnTo>
                    <a:pt x="32" y="61"/>
                  </a:lnTo>
                  <a:lnTo>
                    <a:pt x="17" y="82"/>
                  </a:lnTo>
                  <a:lnTo>
                    <a:pt x="6" y="105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810240" y="5032440"/>
              <a:ext cx="65160" cy="82440"/>
            </a:xfrm>
            <a:custGeom>
              <a:avLst/>
              <a:gdLst/>
              <a:ahLst/>
              <a:rect l="l" t="t" r="r" b="b"/>
              <a:pathLst>
                <a:path w="245" h="310">
                  <a:moveTo>
                    <a:pt x="200" y="116"/>
                  </a:moveTo>
                  <a:lnTo>
                    <a:pt x="208" y="124"/>
                  </a:lnTo>
                  <a:lnTo>
                    <a:pt x="214" y="133"/>
                  </a:lnTo>
                  <a:lnTo>
                    <a:pt x="220" y="144"/>
                  </a:lnTo>
                  <a:lnTo>
                    <a:pt x="223" y="154"/>
                  </a:lnTo>
                  <a:lnTo>
                    <a:pt x="226" y="164"/>
                  </a:lnTo>
                  <a:lnTo>
                    <a:pt x="224" y="176"/>
                  </a:lnTo>
                  <a:lnTo>
                    <a:pt x="222" y="187"/>
                  </a:lnTo>
                  <a:lnTo>
                    <a:pt x="216" y="198"/>
                  </a:lnTo>
                  <a:lnTo>
                    <a:pt x="208" y="209"/>
                  </a:lnTo>
                  <a:lnTo>
                    <a:pt x="199" y="219"/>
                  </a:lnTo>
                  <a:lnTo>
                    <a:pt x="188" y="229"/>
                  </a:lnTo>
                  <a:lnTo>
                    <a:pt x="177" y="238"/>
                  </a:lnTo>
                  <a:lnTo>
                    <a:pt x="166" y="246"/>
                  </a:lnTo>
                  <a:lnTo>
                    <a:pt x="154" y="255"/>
                  </a:lnTo>
                  <a:lnTo>
                    <a:pt x="142" y="264"/>
                  </a:lnTo>
                  <a:lnTo>
                    <a:pt x="132" y="275"/>
                  </a:lnTo>
                  <a:lnTo>
                    <a:pt x="128" y="278"/>
                  </a:lnTo>
                  <a:lnTo>
                    <a:pt x="126" y="283"/>
                  </a:lnTo>
                  <a:lnTo>
                    <a:pt x="124" y="287"/>
                  </a:lnTo>
                  <a:lnTo>
                    <a:pt x="121" y="292"/>
                  </a:lnTo>
                  <a:lnTo>
                    <a:pt x="120" y="296"/>
                  </a:lnTo>
                  <a:lnTo>
                    <a:pt x="120" y="301"/>
                  </a:lnTo>
                  <a:lnTo>
                    <a:pt x="122" y="306"/>
                  </a:lnTo>
                  <a:lnTo>
                    <a:pt x="126" y="309"/>
                  </a:lnTo>
                  <a:lnTo>
                    <a:pt x="131" y="310"/>
                  </a:lnTo>
                  <a:lnTo>
                    <a:pt x="135" y="310"/>
                  </a:lnTo>
                  <a:lnTo>
                    <a:pt x="139" y="309"/>
                  </a:lnTo>
                  <a:lnTo>
                    <a:pt x="142" y="306"/>
                  </a:lnTo>
                  <a:lnTo>
                    <a:pt x="154" y="292"/>
                  </a:lnTo>
                  <a:lnTo>
                    <a:pt x="167" y="280"/>
                  </a:lnTo>
                  <a:lnTo>
                    <a:pt x="180" y="269"/>
                  </a:lnTo>
                  <a:lnTo>
                    <a:pt x="194" y="257"/>
                  </a:lnTo>
                  <a:lnTo>
                    <a:pt x="207" y="246"/>
                  </a:lnTo>
                  <a:lnTo>
                    <a:pt x="220" y="233"/>
                  </a:lnTo>
                  <a:lnTo>
                    <a:pt x="230" y="219"/>
                  </a:lnTo>
                  <a:lnTo>
                    <a:pt x="238" y="204"/>
                  </a:lnTo>
                  <a:lnTo>
                    <a:pt x="244" y="186"/>
                  </a:lnTo>
                  <a:lnTo>
                    <a:pt x="245" y="169"/>
                  </a:lnTo>
                  <a:lnTo>
                    <a:pt x="243" y="152"/>
                  </a:lnTo>
                  <a:lnTo>
                    <a:pt x="237" y="134"/>
                  </a:lnTo>
                  <a:lnTo>
                    <a:pt x="228" y="119"/>
                  </a:lnTo>
                  <a:lnTo>
                    <a:pt x="217" y="105"/>
                  </a:lnTo>
                  <a:lnTo>
                    <a:pt x="203" y="93"/>
                  </a:lnTo>
                  <a:lnTo>
                    <a:pt x="188" y="83"/>
                  </a:lnTo>
                  <a:lnTo>
                    <a:pt x="176" y="76"/>
                  </a:lnTo>
                  <a:lnTo>
                    <a:pt x="163" y="69"/>
                  </a:lnTo>
                  <a:lnTo>
                    <a:pt x="151" y="61"/>
                  </a:lnTo>
                  <a:lnTo>
                    <a:pt x="136" y="54"/>
                  </a:lnTo>
                  <a:lnTo>
                    <a:pt x="122" y="46"/>
                  </a:lnTo>
                  <a:lnTo>
                    <a:pt x="107" y="39"/>
                  </a:lnTo>
                  <a:lnTo>
                    <a:pt x="93" y="31"/>
                  </a:lnTo>
                  <a:lnTo>
                    <a:pt x="79" y="24"/>
                  </a:lnTo>
                  <a:lnTo>
                    <a:pt x="66" y="18"/>
                  </a:lnTo>
                  <a:lnTo>
                    <a:pt x="53" y="13"/>
                  </a:lnTo>
                  <a:lnTo>
                    <a:pt x="40" y="8"/>
                  </a:lnTo>
                  <a:lnTo>
                    <a:pt x="30" y="5"/>
                  </a:lnTo>
                  <a:lnTo>
                    <a:pt x="20" y="1"/>
                  </a:lnTo>
                  <a:lnTo>
                    <a:pt x="12" y="0"/>
                  </a:lnTo>
                  <a:lnTo>
                    <a:pt x="5" y="0"/>
                  </a:lnTo>
                  <a:lnTo>
                    <a:pt x="0" y="2"/>
                  </a:lnTo>
                  <a:lnTo>
                    <a:pt x="11" y="8"/>
                  </a:lnTo>
                  <a:lnTo>
                    <a:pt x="23" y="14"/>
                  </a:lnTo>
                  <a:lnTo>
                    <a:pt x="36" y="20"/>
                  </a:lnTo>
                  <a:lnTo>
                    <a:pt x="47" y="25"/>
                  </a:lnTo>
                  <a:lnTo>
                    <a:pt x="60" y="31"/>
                  </a:lnTo>
                  <a:lnTo>
                    <a:pt x="73" y="37"/>
                  </a:lnTo>
                  <a:lnTo>
                    <a:pt x="86" y="44"/>
                  </a:lnTo>
                  <a:lnTo>
                    <a:pt x="99" y="51"/>
                  </a:lnTo>
                  <a:lnTo>
                    <a:pt x="113" y="57"/>
                  </a:lnTo>
                  <a:lnTo>
                    <a:pt x="126" y="64"/>
                  </a:lnTo>
                  <a:lnTo>
                    <a:pt x="139" y="71"/>
                  </a:lnTo>
                  <a:lnTo>
                    <a:pt x="152" y="79"/>
                  </a:lnTo>
                  <a:lnTo>
                    <a:pt x="165" y="88"/>
                  </a:lnTo>
                  <a:lnTo>
                    <a:pt x="176" y="96"/>
                  </a:lnTo>
                  <a:lnTo>
                    <a:pt x="188" y="106"/>
                  </a:lnTo>
                  <a:lnTo>
                    <a:pt x="20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3149640" y="4863960"/>
            <a:ext cx="272520" cy="340920"/>
            <a:chOff x="3149640" y="4863960"/>
            <a:chExt cx="272520" cy="340920"/>
          </a:xfrm>
        </p:grpSpPr>
        <p:pic>
          <p:nvPicPr>
            <p:cNvPr id="450" name="" descr=""/>
            <p:cNvPicPr/>
            <p:nvPr/>
          </p:nvPicPr>
          <p:blipFill>
            <a:blip r:embed="rId14"/>
            <a:stretch/>
          </p:blipFill>
          <p:spPr>
            <a:xfrm>
              <a:off x="3149640" y="486396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1" name="" descr=""/>
            <p:cNvPicPr/>
            <p:nvPr/>
          </p:nvPicPr>
          <p:blipFill>
            <a:blip r:embed="rId15"/>
            <a:stretch/>
          </p:blipFill>
          <p:spPr>
            <a:xfrm>
              <a:off x="3189600" y="495324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2" name=""/>
          <p:cNvGrpSpPr/>
          <p:nvPr/>
        </p:nvGrpSpPr>
        <p:grpSpPr>
          <a:xfrm>
            <a:off x="3265560" y="5415120"/>
            <a:ext cx="272520" cy="340920"/>
            <a:chOff x="3265560" y="5415120"/>
            <a:chExt cx="272520" cy="340920"/>
          </a:xfrm>
        </p:grpSpPr>
        <p:pic>
          <p:nvPicPr>
            <p:cNvPr id="453" name="" descr=""/>
            <p:cNvPicPr/>
            <p:nvPr/>
          </p:nvPicPr>
          <p:blipFill>
            <a:blip r:embed="rId16"/>
            <a:stretch/>
          </p:blipFill>
          <p:spPr>
            <a:xfrm>
              <a:off x="3265560" y="541512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17"/>
            <a:stretch/>
          </p:blipFill>
          <p:spPr>
            <a:xfrm>
              <a:off x="3305520" y="5504400"/>
              <a:ext cx="23256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5" name=""/>
          <p:cNvGrpSpPr/>
          <p:nvPr/>
        </p:nvGrpSpPr>
        <p:grpSpPr>
          <a:xfrm>
            <a:off x="4041720" y="4888080"/>
            <a:ext cx="273240" cy="340920"/>
            <a:chOff x="4041720" y="4888080"/>
            <a:chExt cx="273240" cy="340920"/>
          </a:xfrm>
        </p:grpSpPr>
        <p:pic>
          <p:nvPicPr>
            <p:cNvPr id="456" name="" descr=""/>
            <p:cNvPicPr/>
            <p:nvPr/>
          </p:nvPicPr>
          <p:blipFill>
            <a:blip r:embed="rId18"/>
            <a:stretch/>
          </p:blipFill>
          <p:spPr>
            <a:xfrm>
              <a:off x="4041720" y="4888080"/>
              <a:ext cx="254160" cy="300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7" name="" descr=""/>
            <p:cNvPicPr/>
            <p:nvPr/>
          </p:nvPicPr>
          <p:blipFill>
            <a:blip r:embed="rId19"/>
            <a:stretch/>
          </p:blipFill>
          <p:spPr>
            <a:xfrm>
              <a:off x="4082040" y="4977360"/>
              <a:ext cx="232920" cy="25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58" name=""/>
          <p:cNvGrpSpPr/>
          <p:nvPr/>
        </p:nvGrpSpPr>
        <p:grpSpPr>
          <a:xfrm>
            <a:off x="4894200" y="5780160"/>
            <a:ext cx="203400" cy="156600"/>
            <a:chOff x="4894200" y="5780160"/>
            <a:chExt cx="203400" cy="156600"/>
          </a:xfrm>
        </p:grpSpPr>
        <p:sp>
          <p:nvSpPr>
            <p:cNvPr id="459" name="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934520" y="586584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934520" y="5847480"/>
              <a:ext cx="41400" cy="7164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4918320" y="586584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34520" y="590148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 flipV="1">
              <a:off x="4989240" y="587160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894200" y="592056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08960" y="5926680"/>
              <a:ext cx="16164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63320" y="586584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900680" y="5780160"/>
              <a:ext cx="196560" cy="11556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 flipV="1">
              <a:off x="4903920" y="578160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flipH="1">
              <a:off x="4986720" y="578340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033160" y="578340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64760" y="5833440"/>
              <a:ext cx="4824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5315040" y="5784840"/>
            <a:ext cx="203040" cy="156960"/>
            <a:chOff x="5315040" y="5784840"/>
            <a:chExt cx="203040" cy="156960"/>
          </a:xfrm>
        </p:grpSpPr>
        <p:sp>
          <p:nvSpPr>
            <p:cNvPr id="474" name="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355360" y="58708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355360" y="5852160"/>
              <a:ext cx="41400" cy="7200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V="1">
              <a:off x="5339160" y="5870880"/>
              <a:ext cx="4428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355360" y="590652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 flipV="1">
              <a:off x="5410080" y="5876280"/>
              <a:ext cx="4320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315040" y="5925600"/>
              <a:ext cx="20304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329800" y="5931720"/>
              <a:ext cx="16128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383800" y="58708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321520" y="5784840"/>
              <a:ext cx="196200" cy="11592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H="1" flipV="1">
              <a:off x="5324760" y="57862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5407560" y="57880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453640" y="57880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385600" y="5838120"/>
              <a:ext cx="4788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"/>
          <p:cNvGrpSpPr/>
          <p:nvPr/>
        </p:nvGrpSpPr>
        <p:grpSpPr>
          <a:xfrm>
            <a:off x="5789160" y="5770440"/>
            <a:ext cx="203400" cy="156960"/>
            <a:chOff x="5789160" y="5770440"/>
            <a:chExt cx="203400" cy="156960"/>
          </a:xfrm>
        </p:grpSpPr>
        <p:sp>
          <p:nvSpPr>
            <p:cNvPr id="489" name="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  <a:close/>
                  <a:moveTo>
                    <a:pt x="376" y="18"/>
                  </a:moveTo>
                  <a:lnTo>
                    <a:pt x="33" y="18"/>
                  </a:lnTo>
                  <a:lnTo>
                    <a:pt x="376" y="18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H="1">
              <a:off x="5923800" y="5856480"/>
              <a:ext cx="28440" cy="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H="1">
              <a:off x="5910480" y="5837760"/>
              <a:ext cx="41400" cy="72000"/>
            </a:xfrm>
            <a:custGeom>
              <a:avLst/>
              <a:gdLst/>
              <a:ahLst/>
              <a:rect l="l" t="t" r="r" b="b"/>
              <a:pathLst>
                <a:path w="87" h="219">
                  <a:moveTo>
                    <a:pt x="87" y="219"/>
                  </a:moveTo>
                  <a:lnTo>
                    <a:pt x="0" y="55"/>
                  </a:lnTo>
                  <a:lnTo>
                    <a:pt x="28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 flipV="1">
              <a:off x="5923800" y="5856480"/>
              <a:ext cx="44640" cy="547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5870880" y="5892120"/>
              <a:ext cx="81360" cy="17640"/>
            </a:xfrm>
            <a:custGeom>
              <a:avLst/>
              <a:gdLst/>
              <a:ahLst/>
              <a:rect l="l" t="t" r="r" b="b"/>
              <a:pathLst>
                <a:path w="172" h="55">
                  <a:moveTo>
                    <a:pt x="28" y="55"/>
                  </a:moveTo>
                  <a:lnTo>
                    <a:pt x="0" y="0"/>
                  </a:lnTo>
                  <a:lnTo>
                    <a:pt x="172" y="0"/>
                  </a:lnTo>
                  <a:lnTo>
                    <a:pt x="146" y="55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V="1">
              <a:off x="5853960" y="5861880"/>
              <a:ext cx="43560" cy="48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5788800" y="5911200"/>
              <a:ext cx="203400" cy="16200"/>
            </a:xfrm>
            <a:custGeom>
              <a:avLst/>
              <a:gdLst/>
              <a:ahLst/>
              <a:rect l="l" t="t" r="r" b="b"/>
              <a:pathLst>
                <a:path w="430" h="50">
                  <a:moveTo>
                    <a:pt x="26" y="18"/>
                  </a:moveTo>
                  <a:lnTo>
                    <a:pt x="0" y="18"/>
                  </a:lnTo>
                  <a:lnTo>
                    <a:pt x="0" y="50"/>
                  </a:lnTo>
                  <a:lnTo>
                    <a:pt x="430" y="50"/>
                  </a:lnTo>
                  <a:lnTo>
                    <a:pt x="430" y="18"/>
                  </a:lnTo>
                  <a:lnTo>
                    <a:pt x="376" y="18"/>
                  </a:lnTo>
                  <a:lnTo>
                    <a:pt x="376" y="0"/>
                  </a:lnTo>
                  <a:lnTo>
                    <a:pt x="26" y="0"/>
                  </a:lnTo>
                  <a:lnTo>
                    <a:pt x="26" y="18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flipH="1">
              <a:off x="5815800" y="5917320"/>
              <a:ext cx="161640" cy="360"/>
            </a:xfrm>
            <a:custGeom>
              <a:avLst/>
              <a:gdLst/>
              <a:ahLst/>
              <a:rect l="l" t="t" r="r" b="b"/>
              <a:pathLst>
                <a:path w="343" h="0">
                  <a:moveTo>
                    <a:pt x="343" y="0"/>
                  </a:moveTo>
                  <a:lnTo>
                    <a:pt x="0" y="0"/>
                  </a:lnTo>
                  <a:lnTo>
                    <a:pt x="343" y="0"/>
                  </a:lnTo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5898240" y="5856480"/>
              <a:ext cx="25200" cy="54720"/>
            </a:xfrm>
            <a:prstGeom prst="rect">
              <a:avLst/>
            </a:prstGeom>
            <a:solidFill>
              <a:srgbClr val="3333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flipH="1">
              <a:off x="5789520" y="5770440"/>
              <a:ext cx="196560" cy="115920"/>
            </a:xfrm>
            <a:custGeom>
              <a:avLst/>
              <a:gdLst/>
              <a:ahLst/>
              <a:rect l="l" t="t" r="r" b="b"/>
              <a:pathLst>
                <a:path w="415" h="350">
                  <a:moveTo>
                    <a:pt x="8" y="12"/>
                  </a:moveTo>
                  <a:lnTo>
                    <a:pt x="1" y="32"/>
                  </a:lnTo>
                  <a:lnTo>
                    <a:pt x="0" y="53"/>
                  </a:lnTo>
                  <a:lnTo>
                    <a:pt x="3" y="78"/>
                  </a:lnTo>
                  <a:lnTo>
                    <a:pt x="8" y="103"/>
                  </a:lnTo>
                  <a:lnTo>
                    <a:pt x="18" y="130"/>
                  </a:lnTo>
                  <a:lnTo>
                    <a:pt x="34" y="158"/>
                  </a:lnTo>
                  <a:lnTo>
                    <a:pt x="51" y="185"/>
                  </a:lnTo>
                  <a:lnTo>
                    <a:pt x="73" y="211"/>
                  </a:lnTo>
                  <a:lnTo>
                    <a:pt x="97" y="236"/>
                  </a:lnTo>
                  <a:lnTo>
                    <a:pt x="124" y="261"/>
                  </a:lnTo>
                  <a:lnTo>
                    <a:pt x="151" y="282"/>
                  </a:lnTo>
                  <a:lnTo>
                    <a:pt x="182" y="302"/>
                  </a:lnTo>
                  <a:lnTo>
                    <a:pt x="212" y="318"/>
                  </a:lnTo>
                  <a:lnTo>
                    <a:pt x="242" y="332"/>
                  </a:lnTo>
                  <a:lnTo>
                    <a:pt x="270" y="341"/>
                  </a:lnTo>
                  <a:lnTo>
                    <a:pt x="299" y="346"/>
                  </a:lnTo>
                  <a:lnTo>
                    <a:pt x="325" y="350"/>
                  </a:lnTo>
                  <a:lnTo>
                    <a:pt x="349" y="346"/>
                  </a:lnTo>
                  <a:lnTo>
                    <a:pt x="371" y="341"/>
                  </a:lnTo>
                  <a:lnTo>
                    <a:pt x="388" y="332"/>
                  </a:lnTo>
                  <a:lnTo>
                    <a:pt x="402" y="318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  <a:moveTo>
                    <a:pt x="8" y="12"/>
                  </a:moveTo>
                  <a:lnTo>
                    <a:pt x="14" y="5"/>
                  </a:lnTo>
                  <a:lnTo>
                    <a:pt x="24" y="0"/>
                  </a:lnTo>
                  <a:lnTo>
                    <a:pt x="38" y="0"/>
                  </a:lnTo>
                  <a:lnTo>
                    <a:pt x="56" y="2"/>
                  </a:lnTo>
                  <a:lnTo>
                    <a:pt x="77" y="7"/>
                  </a:lnTo>
                  <a:lnTo>
                    <a:pt x="100" y="16"/>
                  </a:lnTo>
                  <a:lnTo>
                    <a:pt x="126" y="26"/>
                  </a:lnTo>
                  <a:lnTo>
                    <a:pt x="153" y="41"/>
                  </a:lnTo>
                  <a:lnTo>
                    <a:pt x="182" y="57"/>
                  </a:lnTo>
                  <a:lnTo>
                    <a:pt x="210" y="74"/>
                  </a:lnTo>
                  <a:lnTo>
                    <a:pt x="239" y="94"/>
                  </a:lnTo>
                  <a:lnTo>
                    <a:pt x="268" y="115"/>
                  </a:lnTo>
                  <a:lnTo>
                    <a:pt x="295" y="138"/>
                  </a:lnTo>
                  <a:lnTo>
                    <a:pt x="321" y="160"/>
                  </a:lnTo>
                  <a:lnTo>
                    <a:pt x="345" y="183"/>
                  </a:lnTo>
                  <a:lnTo>
                    <a:pt x="365" y="204"/>
                  </a:lnTo>
                  <a:lnTo>
                    <a:pt x="382" y="226"/>
                  </a:lnTo>
                  <a:lnTo>
                    <a:pt x="396" y="245"/>
                  </a:lnTo>
                  <a:lnTo>
                    <a:pt x="406" y="263"/>
                  </a:lnTo>
                  <a:lnTo>
                    <a:pt x="412" y="279"/>
                  </a:lnTo>
                  <a:lnTo>
                    <a:pt x="415" y="291"/>
                  </a:lnTo>
                  <a:lnTo>
                    <a:pt x="412" y="302"/>
                  </a:lnTo>
                  <a:lnTo>
                    <a:pt x="406" y="309"/>
                  </a:lnTo>
                  <a:lnTo>
                    <a:pt x="396" y="314"/>
                  </a:lnTo>
                  <a:lnTo>
                    <a:pt x="382" y="316"/>
                  </a:lnTo>
                  <a:lnTo>
                    <a:pt x="365" y="313"/>
                  </a:lnTo>
                  <a:lnTo>
                    <a:pt x="343" y="307"/>
                  </a:lnTo>
                  <a:lnTo>
                    <a:pt x="321" y="300"/>
                  </a:lnTo>
                  <a:lnTo>
                    <a:pt x="295" y="288"/>
                  </a:lnTo>
                  <a:lnTo>
                    <a:pt x="268" y="275"/>
                  </a:lnTo>
                  <a:lnTo>
                    <a:pt x="239" y="259"/>
                  </a:lnTo>
                  <a:lnTo>
                    <a:pt x="210" y="240"/>
                  </a:lnTo>
                  <a:lnTo>
                    <a:pt x="182" y="220"/>
                  </a:lnTo>
                  <a:lnTo>
                    <a:pt x="153" y="199"/>
                  </a:lnTo>
                  <a:lnTo>
                    <a:pt x="126" y="178"/>
                  </a:lnTo>
                  <a:lnTo>
                    <a:pt x="100" y="154"/>
                  </a:lnTo>
                  <a:lnTo>
                    <a:pt x="76" y="131"/>
                  </a:lnTo>
                  <a:lnTo>
                    <a:pt x="56" y="110"/>
                  </a:lnTo>
                  <a:lnTo>
                    <a:pt x="38" y="89"/>
                  </a:lnTo>
                  <a:lnTo>
                    <a:pt x="24" y="69"/>
                  </a:lnTo>
                  <a:lnTo>
                    <a:pt x="14" y="51"/>
                  </a:lnTo>
                  <a:lnTo>
                    <a:pt x="8" y="35"/>
                  </a:lnTo>
                  <a:lnTo>
                    <a:pt x="5" y="23"/>
                  </a:lnTo>
                  <a:lnTo>
                    <a:pt x="8" y="12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V="1">
              <a:off x="5854320" y="5771880"/>
              <a:ext cx="128520" cy="108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853960" y="5773680"/>
              <a:ext cx="46080" cy="6732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5790600" y="5773680"/>
              <a:ext cx="63000" cy="95040"/>
            </a:xfrm>
            <a:prstGeom prst="line">
              <a:avLst/>
            </a:prstGeom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5873760" y="5823720"/>
              <a:ext cx="48240" cy="26280"/>
            </a:xfrm>
            <a:custGeom>
              <a:avLst/>
              <a:gdLst/>
              <a:ahLst/>
              <a:rect l="l" t="t" r="r" b="b"/>
              <a:pathLst>
                <a:path w="101" h="80">
                  <a:moveTo>
                    <a:pt x="0" y="3"/>
                  </a:moveTo>
                  <a:lnTo>
                    <a:pt x="4" y="0"/>
                  </a:lnTo>
                  <a:lnTo>
                    <a:pt x="13" y="1"/>
                  </a:lnTo>
                  <a:lnTo>
                    <a:pt x="24" y="3"/>
                  </a:lnTo>
                  <a:lnTo>
                    <a:pt x="37" y="10"/>
                  </a:lnTo>
                  <a:lnTo>
                    <a:pt x="51" y="19"/>
                  </a:lnTo>
                  <a:lnTo>
                    <a:pt x="66" y="30"/>
                  </a:lnTo>
                  <a:lnTo>
                    <a:pt x="79" y="40"/>
                  </a:lnTo>
                  <a:lnTo>
                    <a:pt x="90" y="51"/>
                  </a:lnTo>
                  <a:lnTo>
                    <a:pt x="97" y="62"/>
                  </a:lnTo>
                  <a:lnTo>
                    <a:pt x="101" y="71"/>
                  </a:lnTo>
                  <a:lnTo>
                    <a:pt x="101" y="76"/>
                  </a:lnTo>
                  <a:lnTo>
                    <a:pt x="97" y="80"/>
                  </a:lnTo>
                  <a:lnTo>
                    <a:pt x="90" y="78"/>
                  </a:lnTo>
                  <a:lnTo>
                    <a:pt x="79" y="74"/>
                  </a:lnTo>
                  <a:lnTo>
                    <a:pt x="66" y="69"/>
                  </a:lnTo>
                  <a:lnTo>
                    <a:pt x="51" y="60"/>
                  </a:lnTo>
                  <a:lnTo>
                    <a:pt x="37" y="49"/>
                  </a:lnTo>
                  <a:lnTo>
                    <a:pt x="23" y="39"/>
                  </a:lnTo>
                  <a:lnTo>
                    <a:pt x="13" y="28"/>
                  </a:lnTo>
                  <a:lnTo>
                    <a:pt x="4" y="17"/>
                  </a:lnTo>
                  <a:lnTo>
                    <a:pt x="0" y="8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03" name="" descr=""/>
          <p:cNvPicPr/>
          <p:nvPr/>
        </p:nvPicPr>
        <p:blipFill>
          <a:blip r:embed="rId20"/>
          <a:stretch/>
        </p:blipFill>
        <p:spPr>
          <a:xfrm>
            <a:off x="5240160" y="4905360"/>
            <a:ext cx="387360" cy="33012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1"/>
          <a:stretch/>
        </p:blipFill>
        <p:spPr>
          <a:xfrm>
            <a:off x="6469200" y="4668840"/>
            <a:ext cx="2030400" cy="104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1309680" y="4502160"/>
          <a:ext cx="439920" cy="3668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1309680" y="4502160"/>
                    <a:ext cx="43992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708200" y="4772160"/>
            <a:ext cx="243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39800" y="5408640"/>
            <a:ext cx="190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1766-812F-4EF1-B32F-157976359E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99680" y="1395360"/>
            <a:ext cx="8396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nessione a un canale broadcast condivis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entinaia o anche migliaia di nodi possono comunicare direttamente su un canale broadcast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 genera una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collisione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i nodi ricevono due o più frame contemporaneamente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Protocolli di accesso multipl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tocolli che fissano le modalità con cui i nodi regolano le loro trasmissioni sul canale condivi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municazione relativa al canale condiviso deve utilizzare lo stesso canale!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un canale “out-of-band” per la coordin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F2E3-B9D6-4168-9BF5-EF86AE2F110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Canale broadcast con velocità di </a:t>
            </a:r>
            <a:r>
              <a:rPr b="0" i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R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 bit al sec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Quando un nodo deve inviare dati, questo dispone di un tasso trasmissivo pari a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bp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Quando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odi devono inviare dati, questi dispongono di un tasso trasmissivo pari a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/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bp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3. Il protocollo è decentralizza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i sono nodi m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sincronizzazione dei clo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4. Il protocollo è sempl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title"/>
          </p:nvPr>
        </p:nvSpPr>
        <p:spPr>
          <a:xfrm>
            <a:off x="557280" y="264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 ideali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0869-AB30-446C-86A4-C6091A2166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3160" y="1519200"/>
            <a:ext cx="7305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Obiettivi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mprendere i principi per implementare i servizi di trasmissione dat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zione e correzione dell’erro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divisione di un canale broadcast: accesso multipl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amento a livello di 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ferimento affidabile dei dati, controllo del flusso: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già vist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stanziazione e implementazione delle varie tecnologie a livello di link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ABE9-A7E2-4481-AFE2-0D6510855CC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1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di accesso multipl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160" y="1271520"/>
            <a:ext cx="79470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possono classificare in una di queste tre categori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 suddivisione del can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channel partitioning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ddivide un canale in “parti più piccole” (slot di tempo, frequenza, codic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i alloca presos un nodo per utilizzo esclusiv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d accesso casu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random acces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canali non vengono divisi e si può verificare una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coinvolti ritrasmettono ripetutamente i pacchet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i a rotazion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(“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taking-turn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”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 nodo ha il suo turno di trasmissione, ma i nodi che hanno molto da trasmettere possono avere turni più lungh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CAF3-6B30-4B97-9F25-6D2AEAA0F6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suddivisione del canale: TDMA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01480" y="1422360"/>
            <a:ext cx="81266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TDMA: accesso multiplo a divisione di temp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urni per accedere al cana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ddivide il canale condiviso in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intervalli di t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Gli slot non usati rimangono inattiv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 gli slot 1, 3 e 4 hanno un pacchetto, 2, 5 e 6 sono inattiv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"/>
          <p:cNvSpPr/>
          <p:nvPr/>
        </p:nvSpPr>
        <p:spPr>
          <a:xfrm>
            <a:off x="1052640" y="5440320"/>
            <a:ext cx="60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274760" y="5213520"/>
            <a:ext cx="479520" cy="2300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33440" y="5213520"/>
            <a:ext cx="479520" cy="23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08280" y="5213520"/>
            <a:ext cx="479520" cy="230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76200" y="5100480"/>
            <a:ext cx="0" cy="338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141800" y="5103720"/>
            <a:ext cx="0" cy="33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380240" y="51847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326680" y="51703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791800" y="51768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132440" y="5208480"/>
            <a:ext cx="479160" cy="230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091120" y="5208480"/>
            <a:ext cx="479520" cy="2304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65600" y="5208480"/>
            <a:ext cx="479520" cy="230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33880" y="509580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37920" y="51800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184000" y="516564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5649120" y="517212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175752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23344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70972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186000" y="52102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666960" y="520056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61484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562720" y="520056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510240" y="5195880"/>
            <a:ext cx="0" cy="237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4368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991200" y="5110200"/>
            <a:ext cx="0" cy="338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091120" y="5205240"/>
            <a:ext cx="0" cy="238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324160" y="4586400"/>
            <a:ext cx="75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-sl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132000" y="491796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1287360" y="4913280"/>
            <a:ext cx="98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66840" y="482616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4125960" y="47829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195-CAC9-4E55-89E4-9294C70ADB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230040" y="228240"/>
            <a:ext cx="8629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suddivisione del canale: FDMA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br>
              <a:rPr sz="3200"/>
            </a:b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120" y="1065240"/>
            <a:ext cx="8455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FDMA: accesso multiplo a divisione di frequenz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uddivide il canale in bande di frequenz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 ciascuna stazione è assegnata una banda di frequenza prefiss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o: gli slot 1, 3 e 4 hanno un pacchetto, 2, 5 e 6 sono inattiv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"/>
          <p:cNvSpPr/>
          <p:nvPr/>
        </p:nvSpPr>
        <p:spPr>
          <a:xfrm>
            <a:off x="4627440" y="4138560"/>
            <a:ext cx="627120" cy="225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626000" y="5243040"/>
            <a:ext cx="62244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V="1">
            <a:off x="4621320" y="563544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4626000" y="6021360"/>
            <a:ext cx="627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4621320" y="4857480"/>
            <a:ext cx="631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4626000" y="4471920"/>
            <a:ext cx="631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346720" y="44118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494320" y="4292640"/>
            <a:ext cx="1728720" cy="114120"/>
          </a:xfrm>
          <a:custGeom>
            <a:avLst/>
            <a:gdLst/>
            <a:ahLst/>
            <a:rect l="l" t="t" r="r" b="b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94240" y="48150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394240" y="52135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541840" y="5094360"/>
            <a:ext cx="1729080" cy="114120"/>
          </a:xfrm>
          <a:custGeom>
            <a:avLst/>
            <a:gdLst/>
            <a:ahLst/>
            <a:rect l="l" t="t" r="r" b="b"/>
            <a:pathLst>
              <a:path w="1089" h="72">
                <a:moveTo>
                  <a:pt x="0" y="72"/>
                </a:moveTo>
                <a:lnTo>
                  <a:pt x="0" y="3"/>
                </a:lnTo>
                <a:lnTo>
                  <a:pt x="1089" y="0"/>
                </a:lnTo>
                <a:lnTo>
                  <a:pt x="1089" y="72"/>
                </a:lnTo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5411880" y="5499000"/>
            <a:ext cx="2228760" cy="119160"/>
            <a:chOff x="5411880" y="5499000"/>
            <a:chExt cx="2228760" cy="119160"/>
          </a:xfrm>
        </p:grpSpPr>
        <p:sp>
          <p:nvSpPr>
            <p:cNvPr id="564" name=""/>
            <p:cNvSpPr/>
            <p:nvPr/>
          </p:nvSpPr>
          <p:spPr>
            <a:xfrm>
              <a:off x="5411880" y="5618160"/>
              <a:ext cx="2228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559480" y="5499000"/>
              <a:ext cx="1728720" cy="114120"/>
            </a:xfrm>
            <a:custGeom>
              <a:avLst/>
              <a:gdLst/>
              <a:ahLst/>
              <a:rect l="l" t="t" r="r" b="b"/>
              <a:pathLst>
                <a:path w="1089" h="72">
                  <a:moveTo>
                    <a:pt x="0" y="72"/>
                  </a:moveTo>
                  <a:lnTo>
                    <a:pt x="0" y="3"/>
                  </a:lnTo>
                  <a:lnTo>
                    <a:pt x="1089" y="0"/>
                  </a:lnTo>
                  <a:lnTo>
                    <a:pt x="1089" y="72"/>
                  </a:lnTo>
                </a:path>
              </a:pathLst>
            </a:custGeom>
            <a:solidFill>
              <a:srgbClr val="00cc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5442120" y="602460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448240" y="6354720"/>
            <a:ext cx="2228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rot="16200000">
            <a:off x="3225960" y="484164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nda di frequen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67200">
            <a:off x="7309440" y="3966840"/>
            <a:ext cx="8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31840" y="4348080"/>
            <a:ext cx="595440" cy="1538280"/>
          </a:xfrm>
          <a:custGeom>
            <a:avLst/>
            <a:gdLst/>
            <a:ahLst/>
            <a:rect l="l" t="t" r="r" b="b"/>
            <a:pathLst>
              <a:path w="375" h="969">
                <a:moveTo>
                  <a:pt x="375" y="0"/>
                </a:moveTo>
                <a:lnTo>
                  <a:pt x="0" y="485"/>
                </a:lnTo>
                <a:lnTo>
                  <a:pt x="375" y="969"/>
                </a:lnTo>
                <a:lnTo>
                  <a:pt x="375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293760" y="4986360"/>
            <a:ext cx="1666440" cy="314280"/>
            <a:chOff x="293760" y="4986360"/>
            <a:chExt cx="1666440" cy="314280"/>
          </a:xfrm>
        </p:grpSpPr>
        <p:sp>
          <p:nvSpPr>
            <p:cNvPr id="572" name=""/>
            <p:cNvSpPr/>
            <p:nvPr/>
          </p:nvSpPr>
          <p:spPr>
            <a:xfrm>
              <a:off x="1474560" y="4996080"/>
              <a:ext cx="266400" cy="27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93760" y="4986360"/>
              <a:ext cx="1422000" cy="314280"/>
            </a:xfrm>
            <a:custGeom>
              <a:avLst/>
              <a:gdLst/>
              <a:ahLst/>
              <a:rect l="l" t="t" r="r" b="b"/>
              <a:pathLst>
                <a:path w="896" h="198">
                  <a:moveTo>
                    <a:pt x="18" y="0"/>
                  </a:moveTo>
                  <a:lnTo>
                    <a:pt x="0" y="96"/>
                  </a:lnTo>
                  <a:lnTo>
                    <a:pt x="18" y="198"/>
                  </a:lnTo>
                  <a:lnTo>
                    <a:pt x="774" y="198"/>
                  </a:lnTo>
                  <a:cubicBezTo>
                    <a:pt x="896" y="180"/>
                    <a:pt x="750" y="123"/>
                    <a:pt x="750" y="90"/>
                  </a:cubicBezTo>
                  <a:cubicBezTo>
                    <a:pt x="750" y="57"/>
                    <a:pt x="896" y="15"/>
                    <a:pt x="774" y="0"/>
                  </a:cubicBezTo>
                  <a:lnTo>
                    <a:pt x="18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ffffff"/>
                </a:gs>
                <a:gs pos="100000">
                  <a:srgbClr val="000000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703160" y="5005440"/>
              <a:ext cx="98280" cy="266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41320" y="5129280"/>
              <a:ext cx="21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2803680" y="5040360"/>
            <a:ext cx="892080" cy="173160"/>
          </a:xfrm>
          <a:custGeom>
            <a:avLst/>
            <a:gdLst/>
            <a:ahLst/>
            <a:rect l="l" t="t" r="r" b="b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846520" y="4270320"/>
            <a:ext cx="426960" cy="219240"/>
          </a:xfrm>
          <a:custGeom>
            <a:avLst/>
            <a:gdLst/>
            <a:ahLst/>
            <a:rect l="l" t="t" r="r" b="b"/>
            <a:pathLst>
              <a:path w="562" h="266">
                <a:moveTo>
                  <a:pt x="4" y="264"/>
                </a:moveTo>
                <a:cubicBezTo>
                  <a:pt x="4" y="212"/>
                  <a:pt x="0" y="4"/>
                  <a:pt x="52" y="6"/>
                </a:cubicBezTo>
                <a:cubicBezTo>
                  <a:pt x="106" y="4"/>
                  <a:pt x="58" y="266"/>
                  <a:pt x="108" y="266"/>
                </a:cubicBezTo>
                <a:cubicBezTo>
                  <a:pt x="158" y="266"/>
                  <a:pt x="126" y="0"/>
                  <a:pt x="174" y="0"/>
                </a:cubicBezTo>
                <a:cubicBezTo>
                  <a:pt x="222" y="0"/>
                  <a:pt x="184" y="266"/>
                  <a:pt x="228" y="264"/>
                </a:cubicBezTo>
                <a:cubicBezTo>
                  <a:pt x="272" y="262"/>
                  <a:pt x="244" y="8"/>
                  <a:pt x="288" y="8"/>
                </a:cubicBezTo>
                <a:cubicBezTo>
                  <a:pt x="332" y="8"/>
                  <a:pt x="304" y="266"/>
                  <a:pt x="354" y="266"/>
                </a:cubicBezTo>
                <a:cubicBezTo>
                  <a:pt x="404" y="266"/>
                  <a:pt x="336" y="8"/>
                  <a:pt x="402" y="8"/>
                </a:cubicBezTo>
                <a:cubicBezTo>
                  <a:pt x="468" y="8"/>
                  <a:pt x="416" y="266"/>
                  <a:pt x="464" y="264"/>
                </a:cubicBezTo>
                <a:cubicBezTo>
                  <a:pt x="512" y="262"/>
                  <a:pt x="450" y="4"/>
                  <a:pt x="506" y="6"/>
                </a:cubicBezTo>
                <a:cubicBezTo>
                  <a:pt x="562" y="8"/>
                  <a:pt x="546" y="192"/>
                  <a:pt x="556" y="2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755800" y="6068880"/>
            <a:ext cx="989280" cy="185760"/>
          </a:xfrm>
          <a:custGeom>
            <a:avLst/>
            <a:gdLst/>
            <a:ahLst/>
            <a:rect l="l" t="t" r="r" b="b"/>
            <a:pathLst>
              <a:path w="623" h="117">
                <a:moveTo>
                  <a:pt x="20" y="113"/>
                </a:moveTo>
                <a:cubicBezTo>
                  <a:pt x="44" y="68"/>
                  <a:pt x="0" y="1"/>
                  <a:pt x="114" y="2"/>
                </a:cubicBezTo>
                <a:cubicBezTo>
                  <a:pt x="233" y="1"/>
                  <a:pt x="144" y="114"/>
                  <a:pt x="256" y="114"/>
                </a:cubicBezTo>
                <a:cubicBezTo>
                  <a:pt x="368" y="114"/>
                  <a:pt x="288" y="0"/>
                  <a:pt x="394" y="0"/>
                </a:cubicBezTo>
                <a:cubicBezTo>
                  <a:pt x="500" y="0"/>
                  <a:pt x="421" y="117"/>
                  <a:pt x="522" y="116"/>
                </a:cubicBezTo>
                <a:cubicBezTo>
                  <a:pt x="623" y="115"/>
                  <a:pt x="570" y="64"/>
                  <a:pt x="616" y="1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441720" y="5703840"/>
            <a:ext cx="12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vo FD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F55D-3554-45E1-8ECC-CFD0538EE95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d accesso casua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Quando un nodo deve inviare un pacchet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mette sempre alla massima velocità consentita dal canale, cioè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R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vi è coordinazione a priori tra i nod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e o più nodi trasmittenti </a:t>
            </a:r>
            <a:r>
              <a:rPr b="0" lang="it-IT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--&gt;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“collisione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l protocollo ad accesso casuale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finisce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rilevare un’eventuale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ritrasmettere se si è verificata una colli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 di protocolli ad accesso casu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lotted ALO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OH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SMA, CSMA/CD, CSMA/C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5CAF-D654-48C1-A3ED-7AF45806569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53880" y="1600200"/>
            <a:ext cx="3989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Assumiamo ch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tti i pacchetti hanno la stessa dimensione.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tempo è suddiviso in slot; ogni slot equivale al tempo di trasmissione di un pacchet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iniziano la trasmissione dei pacchetti solo all’inizio degli slo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nodi sono sincronizz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in uno slot due o più pacchetti collidono, i nodi coinvolti rilevano l’evento prima del termine dello slo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332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Operazion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a un nodo arriva un nuovo pacchetto da spedire, il nodo attende fino all’inizio dello slot success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e non si verifica una collisione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nodo può trasmettere un nuovo pacchetto nello slot successiv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Se si verifica una collisione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nodo la rileva prima della fine dello slot e ritrasmette con probabilità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suo pacchetto durante gli slot successivi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25D6-B15B-48FC-B182-4FB9184A637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919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39840" y="3040200"/>
            <a:ext cx="4016160" cy="32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P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 un singolo nodo di trasmettere continuamente pacchetti alla massima velocità del ca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fortemente decentralizzato, ciascun nodo rileva le collisioni e decide indipendentemente quando ritrasmetter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estremamente semplic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495680" y="3049560"/>
            <a:ext cx="381024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tr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a certa frazione degli slot presenterà collisioni e di conseguenza andrà “sprecata”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’alta frazione degli slot rimane vuota, quindi inattiv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089920" cy="19540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61C-DEB4-44B0-B41B-BD1F1962C07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08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’efficienza di Slotted Aloha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61800" y="2985840"/>
            <a:ext cx="3810240" cy="31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pponiamo N nodi con pacchetti da spedire, ognuno trasmette i pacchetti in uno slot con probabilità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probabilità di successo di un dato nod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= p(1-p)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probabilità che un nodo arbitrario abbia success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Np(1-p)</a:t>
            </a:r>
            <a:r>
              <a:rPr b="1" lang="it-IT" sz="18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5148000" y="1107720"/>
            <a:ext cx="3809880" cy="316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ottenere la massima efficienza con N nodi attivi, bisogna trovare il valore p* che massimizz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p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un elevato numero di nodi, ricaviamo il limite di Np*(1-p*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N che tende all’infinito, e otterremo 1/e = 0,3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"/>
          <p:cNvSpPr/>
          <p:nvPr/>
        </p:nvSpPr>
        <p:spPr>
          <a:xfrm>
            <a:off x="361800" y="1143000"/>
            <a:ext cx="4614840" cy="16185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</a:t>
            </a: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efficienza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è definita come la frazione di slot vincenti in presenza di un elevato numero di nodi attivi, che hanno sempre un elevato numero pacchetti da spedir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440320" y="4576680"/>
            <a:ext cx="2897280" cy="100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Nel caso migliore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olo il 37% degli sl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pie lavoro uti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50920" y="4200480"/>
            <a:ext cx="508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2510-AF17-4D50-A3D3-E3676B7A92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LOHA pu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520560" y="1182600"/>
            <a:ext cx="834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loha puro: più semplice, non sincronizza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Quando arriva il primo pacchetto: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 trasmette immediatamente e integralmente nel canale broadcast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levate probabilità di collisione: 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pacchetto trasmesso a 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si sovrappone con la trasmissione dell’altro pacchetto inviato in [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t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+1]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rcRect l="8339" t="6554" r="3537" b="5298"/>
          <a:stretch/>
        </p:blipFill>
        <p:spPr>
          <a:xfrm>
            <a:off x="2108160" y="4392720"/>
            <a:ext cx="5533920" cy="211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87C8-69F1-4452-8EA3-2F318BFF633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237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’efficienza di Aloha pu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33160" y="132876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asmissione con successo da un dato nod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 = 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trasmet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ssun altro nodo trasmette i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[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(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ssun altro nodo trasmette i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[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,p</a:t>
            </a:r>
            <a:r>
              <a:rPr b="0" lang="it-IT" sz="2000" spc="-1" strike="noStrike" baseline="-25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]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= p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1-p)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2(N-1)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…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scegliendo p migliore e lasciando n -&gt; infinito 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br>
              <a:rPr sz="2800"/>
            </a:b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                                    </a:t>
            </a:r>
            <a:r>
              <a:rPr b="0" lang="it-IT" sz="2800" spc="-1" strike="noStrike" baseline="16000">
                <a:solidFill>
                  <a:srgbClr val="000000"/>
                </a:solidFill>
                <a:latin typeface="Comic Sans MS"/>
              </a:rPr>
              <a:t>= 1/(2e) = 0,18</a:t>
            </a:r>
            <a:r>
              <a:rPr b="0" lang="en-US" sz="2800" spc="-1" strike="noStrike" baseline="16000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"/>
          <p:cNvSpPr/>
          <p:nvPr/>
        </p:nvSpPr>
        <p:spPr>
          <a:xfrm>
            <a:off x="1461600" y="522432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eggio di prima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4CD-2278-48A7-9114-EEF9EE766A3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33000" y="228240"/>
            <a:ext cx="846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Accesso multiplo a rileva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della portante (CSMA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33160" y="1789200"/>
            <a:ext cx="8296200" cy="32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CSMA</a:t>
            </a: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i pone in ascolto prima di trasmetter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rileva che il canale è libero, trasmette l‘intero pacchetto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il canale sta già trasmettendo, il nodo aspetta un altro intervallo di tempo. </a:t>
            </a:r>
            <a:br>
              <a:rPr sz="2400"/>
            </a:b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ia: se qualcun altro sta parlando, aspettate finché abbia concluso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523C-0FEA-4837-8977-A85A45EB32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3160" y="47124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93640" y="20908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1 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FDEED-34C2-4BCB-9706-D86A46F93F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 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on trasmissioni in collision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04" name="" descr=""/>
          <p:cNvPicPr/>
          <p:nvPr/>
        </p:nvPicPr>
        <p:blipFill>
          <a:blip r:embed="rId1"/>
          <a:stretch/>
        </p:blipFill>
        <p:spPr>
          <a:xfrm>
            <a:off x="4578480" y="1301760"/>
            <a:ext cx="4128840" cy="4862520"/>
          </a:xfrm>
          <a:prstGeom prst="rect">
            <a:avLst/>
          </a:prstGeom>
          <a:ln w="0">
            <a:noFill/>
          </a:ln>
        </p:spPr>
      </p:pic>
      <p:sp>
        <p:nvSpPr>
          <p:cNvPr id="605" name=""/>
          <p:cNvSpPr/>
          <p:nvPr/>
        </p:nvSpPr>
        <p:spPr>
          <a:xfrm>
            <a:off x="307800" y="1231920"/>
            <a:ext cx="3794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Le collisioni </a:t>
            </a: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possono</a:t>
            </a: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 ancora verificars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ritardo di propagazione fa sì che due nodi non rilevino la reciproca trasmis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7000" y="2975040"/>
            <a:ext cx="3970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collision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 nodo rileva una collisione, cessa immediatamente la trasmissi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638680" y="6211800"/>
            <a:ext cx="232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iagramma spazio t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2200" y="4716360"/>
            <a:ext cx="4135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Comic Sans MS"/>
              </a:rPr>
              <a:t>not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distanza e il ritardo di propagazione giocano un ruolo importante nel determinare la probabilità di collision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F2F9-4F77-4ABB-B5FC-60023ED8976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40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/CD (rilevazione di collisione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22000" y="1433520"/>
            <a:ext cx="8264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CSMA/CD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rilevamento della portante differito, come in CSM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Rileva la collisione in poco temp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nnulla la trasmissione non appena si accorge che c’è un’altra trasmissione in cor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ilevazione della colli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acile nelle LAN cabla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fficile nelle LAN wirel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Analogia: un interlocutore educato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A748-6F0B-41E4-A22A-5C3AF10246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299520" y="264600"/>
            <a:ext cx="833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CSMA/CD (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ilevazione di collisione</a:t>
            </a: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1"/>
          <a:stretch/>
        </p:blipFill>
        <p:spPr>
          <a:xfrm>
            <a:off x="1855800" y="1531800"/>
            <a:ext cx="4433760" cy="387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497C-46E2-43EB-B214-1E667DF48F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MAC a rotazio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MAC a suddivisione del can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ondividono il canale equamente ed efficientemente con carichi elev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nefficienti con carichi non elev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MAC ad accesso casua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fficienti anche con carichi non elevati: un singolo nodo può utilizzare interamente il canal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richi elevati: eccesso di collision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Protocolli a rot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Prendono il meglio dei due protocolli precedenti!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4D69-ED3E-4352-9104-C634D110B18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rotazion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741240" y="1108080"/>
            <a:ext cx="34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o polling:</a:t>
            </a: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nodo principale sonda “a turno” gli altr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particolare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limina le collisio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limina gli slot vuo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tardo di polling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 il nodo principale (master) si guasta, l’intero canale resta inattiv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617" name=""/>
          <p:cNvGraphicFramePr/>
          <p:nvPr/>
        </p:nvGraphicFramePr>
        <p:xfrm>
          <a:off x="5695920" y="244620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5920" y="244620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9" name=""/>
          <p:cNvSpPr/>
          <p:nvPr/>
        </p:nvSpPr>
        <p:spPr>
          <a:xfrm flipH="1">
            <a:off x="5555880" y="2717640"/>
            <a:ext cx="927000" cy="177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197760" y="2768760"/>
            <a:ext cx="25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46800" y="2982960"/>
            <a:ext cx="85896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105680" y="2679840"/>
          <a:ext cx="52236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05680" y="26798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"/>
          <p:cNvGraphicFramePr/>
          <p:nvPr/>
        </p:nvGraphicFramePr>
        <p:xfrm>
          <a:off x="5424480" y="2975040"/>
          <a:ext cx="52236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4480" y="29750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6" name=""/>
          <p:cNvSpPr/>
          <p:nvPr/>
        </p:nvSpPr>
        <p:spPr>
          <a:xfrm>
            <a:off x="5925960" y="3297240"/>
            <a:ext cx="254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7" name=""/>
          <p:cNvGraphicFramePr/>
          <p:nvPr/>
        </p:nvGraphicFramePr>
        <p:xfrm>
          <a:off x="5153040" y="3503520"/>
          <a:ext cx="522360" cy="435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53040" y="350352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9" name=""/>
          <p:cNvSpPr/>
          <p:nvPr/>
        </p:nvSpPr>
        <p:spPr>
          <a:xfrm>
            <a:off x="5654520" y="3825720"/>
            <a:ext cx="254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4881600" y="4032360"/>
          <a:ext cx="522360" cy="434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81600" y="403236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2" name=""/>
          <p:cNvSpPr/>
          <p:nvPr/>
        </p:nvSpPr>
        <p:spPr>
          <a:xfrm>
            <a:off x="5383080" y="4354560"/>
            <a:ext cx="254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6884280" y="3141720"/>
            <a:ext cx="93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644000" y="4711680"/>
            <a:ext cx="7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l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5" name=""/>
          <p:cNvGrpSpPr/>
          <p:nvPr/>
        </p:nvGrpSpPr>
        <p:grpSpPr>
          <a:xfrm>
            <a:off x="7093080" y="2641680"/>
            <a:ext cx="560160" cy="337320"/>
            <a:chOff x="7093080" y="2641680"/>
            <a:chExt cx="560160" cy="337320"/>
          </a:xfrm>
        </p:grpSpPr>
        <p:sp>
          <p:nvSpPr>
            <p:cNvPr id="636" name=""/>
            <p:cNvSpPr/>
            <p:nvPr/>
          </p:nvSpPr>
          <p:spPr>
            <a:xfrm>
              <a:off x="7093080" y="2719440"/>
              <a:ext cx="560160" cy="21744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06040" y="2641680"/>
              <a:ext cx="531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po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149440" y="3564000"/>
            <a:ext cx="587880" cy="337320"/>
            <a:chOff x="5149440" y="3564000"/>
            <a:chExt cx="587880" cy="337320"/>
          </a:xfrm>
        </p:grpSpPr>
        <p:sp>
          <p:nvSpPr>
            <p:cNvPr id="639" name=""/>
            <p:cNvSpPr/>
            <p:nvPr/>
          </p:nvSpPr>
          <p:spPr>
            <a:xfrm>
              <a:off x="5176800" y="3616200"/>
              <a:ext cx="56052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149440" y="3564000"/>
              <a:ext cx="5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655960" y="2446200"/>
            <a:ext cx="587160" cy="337320"/>
            <a:chOff x="5655960" y="2446200"/>
            <a:chExt cx="587160" cy="337320"/>
          </a:xfrm>
        </p:grpSpPr>
        <p:sp>
          <p:nvSpPr>
            <p:cNvPr id="642" name=""/>
            <p:cNvSpPr/>
            <p:nvPr/>
          </p:nvSpPr>
          <p:spPr>
            <a:xfrm>
              <a:off x="5682960" y="2498400"/>
              <a:ext cx="560160" cy="2174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55960" y="2446200"/>
              <a:ext cx="54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dat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9312-23A2-4870-A9C4-BD839EC02E5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"/>
          <p:cNvSpPr/>
          <p:nvPr/>
        </p:nvSpPr>
        <p:spPr>
          <a:xfrm>
            <a:off x="425520" y="1039680"/>
            <a:ext cx="4162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otocollo token-pass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messaggio di controllo circola fra i nodi seguendo un ordine prefissa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essaggio di controll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toke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 particola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centralizzato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amente ef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guasto di un nodo può mettere fuori uso l’intero can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5" name=""/>
          <p:cNvGraphicFramePr/>
          <p:nvPr/>
        </p:nvGraphicFramePr>
        <p:xfrm>
          <a:off x="6835680" y="1709640"/>
          <a:ext cx="522360" cy="4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5680" y="1709640"/>
                    <a:ext cx="522360" cy="4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"/>
          <p:cNvSpPr/>
          <p:nvPr/>
        </p:nvSpPr>
        <p:spPr>
          <a:xfrm>
            <a:off x="6138720" y="2220840"/>
            <a:ext cx="2046600" cy="27781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6953400" y="5130720"/>
          <a:ext cx="522000" cy="434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3400" y="513072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0" name=""/>
          <p:cNvGraphicFramePr/>
          <p:nvPr/>
        </p:nvGraphicFramePr>
        <p:xfrm>
          <a:off x="5492880" y="3327480"/>
          <a:ext cx="522000" cy="4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92880" y="3327480"/>
                    <a:ext cx="52200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2" name=""/>
          <p:cNvGraphicFramePr/>
          <p:nvPr/>
        </p:nvGraphicFramePr>
        <p:xfrm>
          <a:off x="8329680" y="3284640"/>
          <a:ext cx="52236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29680" y="3284640"/>
                    <a:ext cx="52236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4" name=""/>
          <p:cNvSpPr/>
          <p:nvPr/>
        </p:nvSpPr>
        <p:spPr>
          <a:xfrm>
            <a:off x="6983280" y="1328760"/>
            <a:ext cx="274680" cy="320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727680" y="5611680"/>
            <a:ext cx="811440" cy="320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066280" y="2639880"/>
            <a:ext cx="12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niente 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via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616720" y="3346560"/>
            <a:ext cx="274320" cy="3204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 a rotazio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A25-0E98-4AFC-A392-1CBD8F2AEA0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i: riepilog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520" y="1203120"/>
            <a:ext cx="8137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Cosa si può fare con un canale condivis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uddivisione del can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er: tempo, frequenza, cod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DM, FD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uddivisione casual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dinamica)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OHA, S-ALOHA, CSMA, CSMA/C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levamento della portante: facile in alcune tecnologie (cablate), difficile in altre (wireles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SMA/CD usato in Eth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SMA/CA usato in 802.11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A rotazion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olling con un nodo principale; a passaggio di testimon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868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luetooth, FDDI, IBM Token R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B4B0-394F-4EAE-90A0-08DBCCA3601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4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D8B4-DA42-4567-A02F-E8782244549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MAC e AR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46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Indirizzo IP a 32 bit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a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 livello di re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l’indirizzo postale di una persona: hanno una struttura gerarchica e devono esser aggiornati quando una persona cambia residenz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Comic Sans MS"/>
              </a:rPr>
              <a:t>Indirizzo MAC (o LAN o fisico o Ethernet)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 numero di codice fiscale di una persona: ha una struttura orizzontale  e non varia a seconda del luogo in cui la persona si trasferisce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a 48 bit (per la maggior parte delle LAN) 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17119-5444-4C56-9D77-10B26AEC901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 LAN e AR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66" name=""/>
          <p:cNvSpPr/>
          <p:nvPr/>
        </p:nvSpPr>
        <p:spPr>
          <a:xfrm>
            <a:off x="745200" y="1314360"/>
            <a:ext cx="721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iascun adattatore di una LAN ha un indirizzo LAN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univoco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261120" y="2490840"/>
            <a:ext cx="243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dirizzo broadcast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F-FF-FF-FF-FF-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642000" y="3989520"/>
            <a:ext cx="270000" cy="20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876720" y="38955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= adattat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0" name=""/>
          <p:cNvGrpSpPr/>
          <p:nvPr/>
        </p:nvGrpSpPr>
        <p:grpSpPr>
          <a:xfrm>
            <a:off x="384120" y="2052720"/>
            <a:ext cx="5915880" cy="4279680"/>
            <a:chOff x="384120" y="2052720"/>
            <a:chExt cx="5915880" cy="4279680"/>
          </a:xfrm>
        </p:grpSpPr>
        <p:pic>
          <p:nvPicPr>
            <p:cNvPr id="671" name="" descr=""/>
            <p:cNvPicPr/>
            <p:nvPr/>
          </p:nvPicPr>
          <p:blipFill>
            <a:blip r:embed="rId1"/>
            <a:stretch/>
          </p:blipFill>
          <p:spPr>
            <a:xfrm>
              <a:off x="2967120" y="205272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2" name=""/>
            <p:cNvSpPr/>
            <p:nvPr/>
          </p:nvSpPr>
          <p:spPr>
            <a:xfrm>
              <a:off x="2152800" y="326232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73" name="" descr=""/>
            <p:cNvPicPr/>
            <p:nvPr/>
          </p:nvPicPr>
          <p:blipFill>
            <a:blip r:embed="rId2"/>
            <a:stretch/>
          </p:blipFill>
          <p:spPr>
            <a:xfrm>
              <a:off x="5167440" y="3868560"/>
              <a:ext cx="610920" cy="52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4" name="" descr=""/>
            <p:cNvPicPr/>
            <p:nvPr/>
          </p:nvPicPr>
          <p:blipFill>
            <a:blip r:embed="rId3"/>
            <a:stretch/>
          </p:blipFill>
          <p:spPr>
            <a:xfrm>
              <a:off x="2952720" y="581184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5" name="" descr=""/>
            <p:cNvPicPr/>
            <p:nvPr/>
          </p:nvPicPr>
          <p:blipFill>
            <a:blip r:embed="rId4"/>
            <a:stretch/>
          </p:blipFill>
          <p:spPr>
            <a:xfrm>
              <a:off x="492120" y="3711600"/>
              <a:ext cx="61128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4968720" y="4017960"/>
              <a:ext cx="270000" cy="204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038240" y="3835440"/>
              <a:ext cx="270000" cy="2048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238560" y="2546280"/>
              <a:ext cx="191880" cy="255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171960" y="5557680"/>
              <a:ext cx="191880" cy="2556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300320" y="3940200"/>
              <a:ext cx="90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09840" y="2808360"/>
              <a:ext cx="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>
              <a:off x="4173480" y="4108320"/>
              <a:ext cx="79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3271680" y="511308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696120" y="2516040"/>
              <a:ext cx="176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1A-2F-BB-76-09-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3438000" y="2652480"/>
              <a:ext cx="257400" cy="12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V="1">
              <a:off x="5087880" y="421164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560120" y="4602240"/>
              <a:ext cx="1739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58-23-D7-FA-20-B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3374640" y="56674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3844080" y="5554800"/>
              <a:ext cx="170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0C-C4-11-6F-E3-9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flipV="1">
              <a:off x="1170000" y="4040280"/>
              <a:ext cx="0" cy="37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4120" y="4473720"/>
              <a:ext cx="1700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mic Sans MS"/>
                </a:rPr>
                <a:t>71-65-F7-2B-08-5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640240" y="3625920"/>
              <a:ext cx="1223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  </a:t>
              </a: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LA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(cablata 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mic Sans MS"/>
                </a:rPr>
                <a:t>wireless</a:t>
              </a: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DE0-52EB-41A2-A4CA-97C1098615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97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Livello di collegamento: introduzion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2200" y="1218960"/>
            <a:ext cx="4402080" cy="38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Alcuni termini util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host e router sono i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nod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canali di comunicazione che collegano nodi adiacenti lungo un cammino sono i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collegamenti (link)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llegamenti cablati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collegamenti wireles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unità di dati scambiate dai protocolli a livello di link sono chiamate </a:t>
            </a:r>
            <a:r>
              <a:rPr b="1" lang="it-IT" sz="1800" spc="-1" strike="noStrike">
                <a:solidFill>
                  <a:srgbClr val="ff0000"/>
                </a:solidFill>
                <a:latin typeface="Comic Sans MS"/>
              </a:rPr>
              <a:t>fram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745160" y="922320"/>
            <a:ext cx="4182840" cy="4878360"/>
            <a:chOff x="4745160" y="922320"/>
            <a:chExt cx="4182840" cy="4878360"/>
          </a:xfrm>
        </p:grpSpPr>
        <p:sp>
          <p:nvSpPr>
            <p:cNvPr id="52" name=""/>
            <p:cNvSpPr/>
            <p:nvPr/>
          </p:nvSpPr>
          <p:spPr>
            <a:xfrm>
              <a:off x="6881760" y="1485720"/>
              <a:ext cx="2046240" cy="2049480"/>
            </a:xfrm>
            <a:custGeom>
              <a:avLst/>
              <a:gdLst/>
              <a:ahLst/>
              <a:rect l="l" t="t" r="r" b="b"/>
              <a:pathLst>
                <a:path w="1292" h="1255">
                  <a:moveTo>
                    <a:pt x="239" y="7"/>
                  </a:moveTo>
                  <a:cubicBezTo>
                    <a:pt x="120" y="14"/>
                    <a:pt x="70" y="71"/>
                    <a:pt x="35" y="157"/>
                  </a:cubicBezTo>
                  <a:cubicBezTo>
                    <a:pt x="0" y="243"/>
                    <a:pt x="26" y="411"/>
                    <a:pt x="29" y="523"/>
                  </a:cubicBezTo>
                  <a:cubicBezTo>
                    <a:pt x="32" y="635"/>
                    <a:pt x="17" y="771"/>
                    <a:pt x="53" y="829"/>
                  </a:cubicBezTo>
                  <a:cubicBezTo>
                    <a:pt x="89" y="887"/>
                    <a:pt x="146" y="821"/>
                    <a:pt x="245" y="871"/>
                  </a:cubicBezTo>
                  <a:cubicBezTo>
                    <a:pt x="344" y="921"/>
                    <a:pt x="522" y="1068"/>
                    <a:pt x="647" y="1129"/>
                  </a:cubicBezTo>
                  <a:cubicBezTo>
                    <a:pt x="772" y="1190"/>
                    <a:pt x="903" y="1255"/>
                    <a:pt x="995" y="1237"/>
                  </a:cubicBezTo>
                  <a:cubicBezTo>
                    <a:pt x="1087" y="1219"/>
                    <a:pt x="1153" y="1153"/>
                    <a:pt x="1199" y="1021"/>
                  </a:cubicBezTo>
                  <a:cubicBezTo>
                    <a:pt x="1245" y="889"/>
                    <a:pt x="1270" y="580"/>
                    <a:pt x="1271" y="445"/>
                  </a:cubicBezTo>
                  <a:cubicBezTo>
                    <a:pt x="1272" y="310"/>
                    <a:pt x="1292" y="266"/>
                    <a:pt x="1205" y="211"/>
                  </a:cubicBezTo>
                  <a:cubicBezTo>
                    <a:pt x="1118" y="156"/>
                    <a:pt x="908" y="150"/>
                    <a:pt x="749" y="115"/>
                  </a:cubicBezTo>
                  <a:cubicBezTo>
                    <a:pt x="590" y="80"/>
                    <a:pt x="358" y="0"/>
                    <a:pt x="239" y="7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745160" y="1311120"/>
              <a:ext cx="2122560" cy="1943280"/>
            </a:xfrm>
            <a:custGeom>
              <a:avLst/>
              <a:gdLst/>
              <a:ahLst/>
              <a:rect l="l" t="t" r="r" b="b"/>
              <a:pathLst>
                <a:path w="1340" h="1191">
                  <a:moveTo>
                    <a:pt x="550" y="42"/>
                  </a:moveTo>
                  <a:cubicBezTo>
                    <a:pt x="437" y="4"/>
                    <a:pt x="164" y="0"/>
                    <a:pt x="82" y="60"/>
                  </a:cubicBezTo>
                  <a:cubicBezTo>
                    <a:pt x="0" y="120"/>
                    <a:pt x="67" y="292"/>
                    <a:pt x="58" y="402"/>
                  </a:cubicBezTo>
                  <a:cubicBezTo>
                    <a:pt x="49" y="512"/>
                    <a:pt x="19" y="642"/>
                    <a:pt x="28" y="720"/>
                  </a:cubicBezTo>
                  <a:cubicBezTo>
                    <a:pt x="37" y="798"/>
                    <a:pt x="27" y="844"/>
                    <a:pt x="112" y="870"/>
                  </a:cubicBezTo>
                  <a:cubicBezTo>
                    <a:pt x="197" y="896"/>
                    <a:pt x="450" y="833"/>
                    <a:pt x="538" y="876"/>
                  </a:cubicBezTo>
                  <a:cubicBezTo>
                    <a:pt x="626" y="919"/>
                    <a:pt x="524" y="1091"/>
                    <a:pt x="640" y="1128"/>
                  </a:cubicBezTo>
                  <a:cubicBezTo>
                    <a:pt x="756" y="1165"/>
                    <a:pt x="1128" y="1191"/>
                    <a:pt x="1234" y="1098"/>
                  </a:cubicBezTo>
                  <a:cubicBezTo>
                    <a:pt x="1340" y="1005"/>
                    <a:pt x="1281" y="696"/>
                    <a:pt x="1276" y="570"/>
                  </a:cubicBezTo>
                  <a:cubicBezTo>
                    <a:pt x="1271" y="444"/>
                    <a:pt x="1290" y="389"/>
                    <a:pt x="1204" y="342"/>
                  </a:cubicBezTo>
                  <a:cubicBezTo>
                    <a:pt x="1118" y="295"/>
                    <a:pt x="868" y="338"/>
                    <a:pt x="760" y="288"/>
                  </a:cubicBezTo>
                  <a:cubicBezTo>
                    <a:pt x="652" y="238"/>
                    <a:pt x="663" y="80"/>
                    <a:pt x="550" y="4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164200" y="3085920"/>
              <a:ext cx="3382920" cy="2714760"/>
            </a:xfrm>
            <a:custGeom>
              <a:avLst/>
              <a:gdLst/>
              <a:ahLst/>
              <a:rect l="l" t="t" r="r" b="b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4878360" y="1476360"/>
              <a:ext cx="834840" cy="390600"/>
              <a:chOff x="4878360" y="1476360"/>
              <a:chExt cx="834840" cy="390600"/>
            </a:xfrm>
          </p:grpSpPr>
          <p:pic>
            <p:nvPicPr>
              <p:cNvPr id="5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78360" y="147636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394960" y="162108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flipV="1">
                <a:off x="5340960" y="177228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4878360" y="2205000"/>
              <a:ext cx="834840" cy="390600"/>
              <a:chOff x="4878360" y="2205000"/>
              <a:chExt cx="834840" cy="390600"/>
            </a:xfrm>
          </p:grpSpPr>
          <p:pic>
            <p:nvPicPr>
              <p:cNvPr id="6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78360" y="2205000"/>
                <a:ext cx="473760" cy="390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394960" y="2349720"/>
                <a:ext cx="318240" cy="22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" name=""/>
              <p:cNvSpPr/>
              <p:nvPr/>
            </p:nvSpPr>
            <p:spPr>
              <a:xfrm flipV="1">
                <a:off x="5340960" y="2500920"/>
                <a:ext cx="12996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07120" y="1944720"/>
              <a:ext cx="78840" cy="261360"/>
              <a:chOff x="5307120" y="1944720"/>
              <a:chExt cx="78840" cy="261360"/>
            </a:xfrm>
          </p:grpSpPr>
          <p:sp>
            <p:nvSpPr>
              <p:cNvPr id="64" name=""/>
              <p:cNvSpPr/>
              <p:nvPr/>
            </p:nvSpPr>
            <p:spPr>
              <a:xfrm>
                <a:off x="5307120" y="1944720"/>
                <a:ext cx="72720" cy="738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10000" y="2038680"/>
                <a:ext cx="72720" cy="73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13240" y="2132640"/>
                <a:ext cx="72720" cy="734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040" bIns="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" name=""/>
            <p:cNvGrpSpPr/>
            <p:nvPr/>
          </p:nvGrpSpPr>
          <p:grpSpPr>
            <a:xfrm>
              <a:off x="5840640" y="2560680"/>
              <a:ext cx="237960" cy="482040"/>
              <a:chOff x="5840640" y="2560680"/>
              <a:chExt cx="237960" cy="482040"/>
            </a:xfrm>
          </p:grpSpPr>
          <p:sp>
            <p:nvSpPr>
              <p:cNvPr id="68" name=""/>
              <p:cNvSpPr/>
              <p:nvPr/>
            </p:nvSpPr>
            <p:spPr>
              <a:xfrm>
                <a:off x="5840640" y="293148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961240" y="2563560"/>
                <a:ext cx="109440" cy="3704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42080" y="2668680"/>
                <a:ext cx="150840" cy="37080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40640" y="2560680"/>
                <a:ext cx="237960" cy="111240"/>
              </a:xfrm>
              <a:prstGeom prst="parallelogram">
                <a:avLst>
                  <a:gd name="adj" fmla="val 82407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160" bIns="11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078600" y="2568240"/>
                <a:ext cx="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>
                <a:off x="5992920" y="2931480"/>
                <a:ext cx="856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61160" y="2717640"/>
                <a:ext cx="100080" cy="21348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75560" y="2782080"/>
                <a:ext cx="75960" cy="7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" name=""/>
            <p:cNvGrpSpPr/>
            <p:nvPr/>
          </p:nvGrpSpPr>
          <p:grpSpPr>
            <a:xfrm>
              <a:off x="6110280" y="2748240"/>
              <a:ext cx="265320" cy="99720"/>
              <a:chOff x="6110280" y="2748240"/>
              <a:chExt cx="265320" cy="99720"/>
            </a:xfrm>
          </p:grpSpPr>
          <p:sp>
            <p:nvSpPr>
              <p:cNvPr id="77" name=""/>
              <p:cNvSpPr/>
              <p:nvPr/>
            </p:nvSpPr>
            <p:spPr>
              <a:xfrm rot="16200000">
                <a:off x="6101640" y="2764440"/>
                <a:ext cx="91800" cy="7488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6200000">
                <a:off x="6197040" y="2760840"/>
                <a:ext cx="91800" cy="74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rot="16200000">
                <a:off x="6292440" y="2756880"/>
                <a:ext cx="91800" cy="7452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5996160" y="2448000"/>
              <a:ext cx="563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99400" y="2442960"/>
              <a:ext cx="2880" cy="11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62800" y="2441520"/>
              <a:ext cx="1440" cy="100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54880" y="1787400"/>
              <a:ext cx="32832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5668920" y="2136600"/>
              <a:ext cx="314280" cy="403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6269040" y="2241360"/>
              <a:ext cx="1800" cy="200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6404040" y="2531880"/>
              <a:ext cx="237960" cy="483840"/>
              <a:chOff x="6404040" y="2531880"/>
              <a:chExt cx="237960" cy="483840"/>
            </a:xfrm>
          </p:grpSpPr>
          <p:sp>
            <p:nvSpPr>
              <p:cNvPr id="87" name=""/>
              <p:cNvSpPr/>
              <p:nvPr/>
            </p:nvSpPr>
            <p:spPr>
              <a:xfrm>
                <a:off x="6404040" y="290412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524640" y="2534760"/>
                <a:ext cx="109440" cy="37188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6405480" y="2640240"/>
                <a:ext cx="150840" cy="3722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404040" y="2531880"/>
                <a:ext cx="237960" cy="111600"/>
              </a:xfrm>
              <a:prstGeom prst="parallelogram">
                <a:avLst>
                  <a:gd name="adj" fmla="val 8214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6642000" y="2539440"/>
                <a:ext cx="0" cy="36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>
                <a:off x="6556320" y="2904120"/>
                <a:ext cx="85680" cy="10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6424560" y="2689560"/>
                <a:ext cx="100080" cy="21456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438960" y="2754000"/>
                <a:ext cx="75960" cy="75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5315040" y="3289320"/>
              <a:ext cx="546120" cy="1132920"/>
              <a:chOff x="5315040" y="3289320"/>
              <a:chExt cx="546120" cy="1132920"/>
            </a:xfrm>
          </p:grpSpPr>
          <p:pic>
            <p:nvPicPr>
              <p:cNvPr id="9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315040" y="328932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" name=""/>
              <p:cNvSpPr/>
              <p:nvPr/>
            </p:nvSpPr>
            <p:spPr>
              <a:xfrm flipV="1">
                <a:off x="5778360" y="3591360"/>
                <a:ext cx="82800" cy="7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9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315040" y="4017240"/>
                <a:ext cx="474480" cy="40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flipV="1">
                <a:off x="5778360" y="4323960"/>
                <a:ext cx="82800" cy="3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0" name=""/>
              <p:cNvGrpSpPr/>
              <p:nvPr/>
            </p:nvGrpSpPr>
            <p:grpSpPr>
              <a:xfrm>
                <a:off x="5457960" y="3707280"/>
                <a:ext cx="81000" cy="272160"/>
                <a:chOff x="5457960" y="3707280"/>
                <a:chExt cx="81000" cy="27216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5457960" y="3707280"/>
                  <a:ext cx="74520" cy="7668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560" bIns="7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61200" y="3805200"/>
                  <a:ext cx="74520" cy="7632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5464440" y="3903120"/>
                  <a:ext cx="74520" cy="76320"/>
                </a:xfrm>
                <a:prstGeom prst="ellipse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" name=""/>
              <p:cNvSpPr/>
              <p:nvPr/>
            </p:nvSpPr>
            <p:spPr>
              <a:xfrm>
                <a:off x="5854680" y="3587760"/>
                <a:ext cx="0" cy="73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6302520" y="4524480"/>
              <a:ext cx="476280" cy="40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8"/>
            <a:stretch/>
          </p:blipFill>
          <p:spPr>
            <a:xfrm>
              <a:off x="5603760" y="4511520"/>
              <a:ext cx="473400" cy="40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 rot="16200000">
              <a:off x="6076080" y="4640760"/>
              <a:ext cx="7632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16200000">
              <a:off x="6172200" y="4638600"/>
              <a:ext cx="7776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16200000">
              <a:off x="6260040" y="4644000"/>
              <a:ext cx="76320" cy="7452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6591240" y="4458960"/>
              <a:ext cx="3240" cy="7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5881680" y="4444920"/>
              <a:ext cx="0" cy="7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5884920" y="4452840"/>
              <a:ext cx="7128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861160" y="3993840"/>
              <a:ext cx="10620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7450200" y="4046400"/>
              <a:ext cx="317520" cy="480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9"/>
            <a:stretch/>
          </p:blipFill>
          <p:spPr>
            <a:xfrm>
              <a:off x="7651800" y="3500280"/>
              <a:ext cx="231840" cy="293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10"/>
            <a:stretch/>
          </p:blipFill>
          <p:spPr>
            <a:xfrm>
              <a:off x="6131160" y="3598920"/>
              <a:ext cx="231480" cy="29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6222960" y="3322440"/>
              <a:ext cx="1540080" cy="373320"/>
            </a:xfrm>
            <a:custGeom>
              <a:avLst/>
              <a:gdLst/>
              <a:ahLst/>
              <a:rect l="l" t="t" r="r" b="b"/>
              <a:pathLst>
                <a:path w="972" h="228">
                  <a:moveTo>
                    <a:pt x="0" y="228"/>
                  </a:moveTo>
                  <a:cubicBezTo>
                    <a:pt x="135" y="123"/>
                    <a:pt x="270" y="18"/>
                    <a:pt x="432" y="9"/>
                  </a:cubicBezTo>
                  <a:cubicBezTo>
                    <a:pt x="594" y="0"/>
                    <a:pt x="783" y="85"/>
                    <a:pt x="972" y="171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6526440" y="5062320"/>
              <a:ext cx="462960" cy="522000"/>
              <a:chOff x="6526440" y="5062320"/>
              <a:chExt cx="462960" cy="522000"/>
            </a:xfrm>
          </p:grpSpPr>
          <p:pic>
            <p:nvPicPr>
              <p:cNvPr id="119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526440" y="5062320"/>
                <a:ext cx="431280" cy="460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594480" y="5199120"/>
                <a:ext cx="394920" cy="3852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" name=""/>
            <p:cNvGrpSpPr/>
            <p:nvPr/>
          </p:nvGrpSpPr>
          <p:grpSpPr>
            <a:xfrm>
              <a:off x="7412040" y="5102280"/>
              <a:ext cx="461520" cy="521640"/>
              <a:chOff x="7412040" y="5102280"/>
              <a:chExt cx="461520" cy="521640"/>
            </a:xfrm>
          </p:grpSpPr>
          <p:pic>
            <p:nvPicPr>
              <p:cNvPr id="12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7412040" y="5102280"/>
                <a:ext cx="429840" cy="46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7480080" y="5239080"/>
                <a:ext cx="393480" cy="384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" name=""/>
            <p:cNvGrpSpPr/>
            <p:nvPr/>
          </p:nvGrpSpPr>
          <p:grpSpPr>
            <a:xfrm>
              <a:off x="6940440" y="4754520"/>
              <a:ext cx="432000" cy="460080"/>
              <a:chOff x="6940440" y="4754520"/>
              <a:chExt cx="432000" cy="460080"/>
            </a:xfrm>
          </p:grpSpPr>
          <p:pic>
            <p:nvPicPr>
              <p:cNvPr id="12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940440" y="4754520"/>
                <a:ext cx="432000" cy="460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6" name=""/>
              <p:cNvSpPr/>
              <p:nvPr/>
            </p:nvSpPr>
            <p:spPr>
              <a:xfrm>
                <a:off x="7066080" y="4916160"/>
                <a:ext cx="304560" cy="29844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"/>
            <p:cNvSpPr/>
            <p:nvPr/>
          </p:nvSpPr>
          <p:spPr>
            <a:xfrm>
              <a:off x="7288200" y="4635360"/>
              <a:ext cx="0" cy="27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"/>
            <p:cNvGrpSpPr/>
            <p:nvPr/>
          </p:nvGrpSpPr>
          <p:grpSpPr>
            <a:xfrm>
              <a:off x="8109000" y="3930480"/>
              <a:ext cx="236520" cy="501480"/>
              <a:chOff x="8109000" y="3930480"/>
              <a:chExt cx="236520" cy="501480"/>
            </a:xfrm>
          </p:grpSpPr>
          <p:sp>
            <p:nvSpPr>
              <p:cNvPr id="129" name=""/>
              <p:cNvSpPr/>
              <p:nvPr/>
            </p:nvSpPr>
            <p:spPr>
              <a:xfrm>
                <a:off x="8109000" y="431604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228520" y="3933720"/>
                <a:ext cx="108720" cy="38520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10080" y="4042800"/>
                <a:ext cx="149760" cy="38556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109000" y="3930480"/>
                <a:ext cx="236520" cy="115920"/>
              </a:xfrm>
              <a:prstGeom prst="parallelogram">
                <a:avLst>
                  <a:gd name="adj" fmla="val 78601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345520" y="3938400"/>
                <a:ext cx="0" cy="37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>
                <a:off x="8260200" y="4316040"/>
                <a:ext cx="84960" cy="11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129160" y="4093920"/>
                <a:ext cx="99360" cy="2221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143560" y="4160880"/>
                <a:ext cx="75240" cy="78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8094600" y="4475160"/>
              <a:ext cx="236520" cy="499680"/>
              <a:chOff x="8094600" y="4475160"/>
              <a:chExt cx="236520" cy="499680"/>
            </a:xfrm>
          </p:grpSpPr>
          <p:sp>
            <p:nvSpPr>
              <p:cNvPr id="138" name=""/>
              <p:cNvSpPr/>
              <p:nvPr/>
            </p:nvSpPr>
            <p:spPr>
              <a:xfrm>
                <a:off x="8094600" y="485928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8214120" y="4478400"/>
                <a:ext cx="108720" cy="38376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095680" y="4587120"/>
                <a:ext cx="149760" cy="384120"/>
              </a:xfrm>
              <a:prstGeom prst="rect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094600" y="4475160"/>
                <a:ext cx="236520" cy="115560"/>
              </a:xfrm>
              <a:prstGeom prst="parallelogram">
                <a:avLst>
                  <a:gd name="adj" fmla="val 78846"/>
                </a:avLst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331120" y="4483080"/>
                <a:ext cx="0" cy="37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8245800" y="4859280"/>
                <a:ext cx="84960" cy="11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8114760" y="4637880"/>
                <a:ext cx="99360" cy="22140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129160" y="4704840"/>
                <a:ext cx="75240" cy="77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 flipV="1">
              <a:off x="8016840" y="4014360"/>
              <a:ext cx="0" cy="747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012160" y="4759200"/>
              <a:ext cx="11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008920" y="4176720"/>
              <a:ext cx="101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6558120" y="1800000"/>
              <a:ext cx="52056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21560" y="1830240"/>
              <a:ext cx="552600" cy="254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212320" y="2241360"/>
              <a:ext cx="272880" cy="833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35720" y="1966680"/>
              <a:ext cx="0" cy="528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364520" y="2759040"/>
              <a:ext cx="608040" cy="45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7888320" y="3328920"/>
              <a:ext cx="303120" cy="441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7629120" y="2201760"/>
              <a:ext cx="638280" cy="46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7640280" y="1517760"/>
              <a:ext cx="398520" cy="312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456400" y="1731960"/>
              <a:ext cx="230040" cy="21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" name=""/>
            <p:cNvGrpSpPr/>
            <p:nvPr/>
          </p:nvGrpSpPr>
          <p:grpSpPr>
            <a:xfrm>
              <a:off x="5967360" y="1966680"/>
              <a:ext cx="569880" cy="285480"/>
              <a:chOff x="5967360" y="1966680"/>
              <a:chExt cx="569880" cy="285480"/>
            </a:xfrm>
          </p:grpSpPr>
          <p:sp>
            <p:nvSpPr>
              <p:cNvPr id="159" name=""/>
              <p:cNvSpPr/>
              <p:nvPr/>
            </p:nvSpPr>
            <p:spPr>
              <a:xfrm>
                <a:off x="5971680" y="2094120"/>
                <a:ext cx="56520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971680" y="2080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537240" y="20808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971680" y="2080800"/>
                <a:ext cx="56016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967360" y="1966680"/>
                <a:ext cx="56484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4" name=""/>
              <p:cNvGrpSpPr/>
              <p:nvPr/>
            </p:nvGrpSpPr>
            <p:grpSpPr>
              <a:xfrm>
                <a:off x="6103080" y="2007360"/>
                <a:ext cx="279720" cy="107640"/>
                <a:chOff x="6103080" y="2007360"/>
                <a:chExt cx="279720" cy="107640"/>
              </a:xfrm>
            </p:grpSpPr>
            <p:sp>
              <p:nvSpPr>
                <p:cNvPr id="165" name=""/>
                <p:cNvSpPr/>
                <p:nvPr/>
              </p:nvSpPr>
              <p:spPr>
                <a:xfrm flipV="1">
                  <a:off x="6103080" y="20073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6294960" y="21150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194880" y="200952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103080" y="2005560"/>
                <a:ext cx="279720" cy="107640"/>
                <a:chOff x="6103080" y="2005560"/>
                <a:chExt cx="279720" cy="1076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6103080" y="21110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294960" y="20055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 flipV="1">
                  <a:off x="6194880" y="20055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2" name=""/>
            <p:cNvGrpSpPr/>
            <p:nvPr/>
          </p:nvGrpSpPr>
          <p:grpSpPr>
            <a:xfrm>
              <a:off x="7050240" y="1687320"/>
              <a:ext cx="571320" cy="285480"/>
              <a:chOff x="7050240" y="1687320"/>
              <a:chExt cx="571320" cy="285480"/>
            </a:xfrm>
          </p:grpSpPr>
          <p:sp>
            <p:nvSpPr>
              <p:cNvPr id="173" name=""/>
              <p:cNvSpPr/>
              <p:nvPr/>
            </p:nvSpPr>
            <p:spPr>
              <a:xfrm>
                <a:off x="7054560" y="1814760"/>
                <a:ext cx="56664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54560" y="18014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21560" y="180144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054560" y="1801440"/>
                <a:ext cx="5616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50240" y="1687320"/>
                <a:ext cx="56628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7186320" y="1728000"/>
                <a:ext cx="280440" cy="107640"/>
                <a:chOff x="7186320" y="1728000"/>
                <a:chExt cx="280440" cy="107640"/>
              </a:xfrm>
            </p:grpSpPr>
            <p:sp>
              <p:nvSpPr>
                <p:cNvPr id="179" name=""/>
                <p:cNvSpPr/>
                <p:nvPr/>
              </p:nvSpPr>
              <p:spPr>
                <a:xfrm flipV="1">
                  <a:off x="7186320" y="172800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378560" y="183564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7278480" y="173016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" name=""/>
              <p:cNvGrpSpPr/>
              <p:nvPr/>
            </p:nvGrpSpPr>
            <p:grpSpPr>
              <a:xfrm>
                <a:off x="7186320" y="1726200"/>
                <a:ext cx="280440" cy="107640"/>
                <a:chOff x="7186320" y="1726200"/>
                <a:chExt cx="280440" cy="10764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7186320" y="1831680"/>
                  <a:ext cx="10008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7378560" y="1726200"/>
                  <a:ext cx="8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 flipV="1">
                  <a:off x="7278480" y="1726200"/>
                  <a:ext cx="10404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6" name=""/>
            <p:cNvGrpSpPr/>
            <p:nvPr/>
          </p:nvGrpSpPr>
          <p:grpSpPr>
            <a:xfrm>
              <a:off x="7070760" y="2492280"/>
              <a:ext cx="569880" cy="285480"/>
              <a:chOff x="7070760" y="2492280"/>
              <a:chExt cx="569880" cy="285480"/>
            </a:xfrm>
          </p:grpSpPr>
          <p:sp>
            <p:nvSpPr>
              <p:cNvPr id="187" name=""/>
              <p:cNvSpPr/>
              <p:nvPr/>
            </p:nvSpPr>
            <p:spPr>
              <a:xfrm>
                <a:off x="7075080" y="2619720"/>
                <a:ext cx="565200" cy="1580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075080" y="26064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640640" y="260640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075080" y="2606400"/>
                <a:ext cx="56016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070760" y="2492280"/>
                <a:ext cx="564840" cy="184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2" name=""/>
              <p:cNvGrpSpPr/>
              <p:nvPr/>
            </p:nvGrpSpPr>
            <p:grpSpPr>
              <a:xfrm>
                <a:off x="7206480" y="2532960"/>
                <a:ext cx="279720" cy="107640"/>
                <a:chOff x="7206480" y="2532960"/>
                <a:chExt cx="279720" cy="107640"/>
              </a:xfrm>
            </p:grpSpPr>
            <p:sp>
              <p:nvSpPr>
                <p:cNvPr id="193" name=""/>
                <p:cNvSpPr/>
                <p:nvPr/>
              </p:nvSpPr>
              <p:spPr>
                <a:xfrm flipV="1">
                  <a:off x="7206480" y="25329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7398360" y="26406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7298280" y="253512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7206480" y="2531160"/>
                <a:ext cx="279720" cy="107640"/>
                <a:chOff x="7206480" y="2531160"/>
                <a:chExt cx="279720" cy="10764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7206480" y="26366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398360" y="25311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flipV="1">
                  <a:off x="7298280" y="2531160"/>
                  <a:ext cx="10368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8174160" y="1942920"/>
              <a:ext cx="568440" cy="284040"/>
              <a:chOff x="8174160" y="1942920"/>
              <a:chExt cx="568440" cy="284040"/>
            </a:xfrm>
          </p:grpSpPr>
          <p:sp>
            <p:nvSpPr>
              <p:cNvPr id="201" name=""/>
              <p:cNvSpPr/>
              <p:nvPr/>
            </p:nvSpPr>
            <p:spPr>
              <a:xfrm>
                <a:off x="8178480" y="2069640"/>
                <a:ext cx="56376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178480" y="20563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42600" y="20563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178480" y="2056320"/>
                <a:ext cx="55872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174160" y="1942920"/>
                <a:ext cx="56340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8309520" y="1983240"/>
                <a:ext cx="278640" cy="107280"/>
                <a:chOff x="8309520" y="1983240"/>
                <a:chExt cx="278640" cy="107280"/>
              </a:xfrm>
            </p:grpSpPr>
            <p:sp>
              <p:nvSpPr>
                <p:cNvPr id="207" name=""/>
                <p:cNvSpPr/>
                <p:nvPr/>
              </p:nvSpPr>
              <p:spPr>
                <a:xfrm flipV="1">
                  <a:off x="8309520" y="19832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500680" y="209052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401320" y="19854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8309520" y="1981800"/>
                <a:ext cx="278640" cy="107280"/>
                <a:chOff x="8309520" y="1981800"/>
                <a:chExt cx="278640" cy="107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8309520" y="20869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500680" y="19818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flipV="1">
                  <a:off x="8401320" y="19818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7953480" y="3039840"/>
              <a:ext cx="569880" cy="284040"/>
              <a:chOff x="7953480" y="3039840"/>
              <a:chExt cx="569880" cy="284040"/>
            </a:xfrm>
          </p:grpSpPr>
          <p:sp>
            <p:nvSpPr>
              <p:cNvPr id="215" name=""/>
              <p:cNvSpPr/>
              <p:nvPr/>
            </p:nvSpPr>
            <p:spPr>
              <a:xfrm>
                <a:off x="7957800" y="316656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957800" y="315324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523360" y="315324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957800" y="315324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953480" y="303984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0" name=""/>
              <p:cNvGrpSpPr/>
              <p:nvPr/>
            </p:nvGrpSpPr>
            <p:grpSpPr>
              <a:xfrm>
                <a:off x="8089200" y="3080160"/>
                <a:ext cx="279720" cy="107280"/>
                <a:chOff x="8089200" y="3080160"/>
                <a:chExt cx="279720" cy="107280"/>
              </a:xfrm>
            </p:grpSpPr>
            <p:sp>
              <p:nvSpPr>
                <p:cNvPr id="221" name=""/>
                <p:cNvSpPr/>
                <p:nvPr/>
              </p:nvSpPr>
              <p:spPr>
                <a:xfrm flipV="1">
                  <a:off x="8089200" y="30801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8281080" y="31874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8181000" y="308232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8089200" y="3078720"/>
                <a:ext cx="279720" cy="107280"/>
                <a:chOff x="8089200" y="3078720"/>
                <a:chExt cx="279720" cy="10728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8089200" y="31838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281080" y="30787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8181000" y="307872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" name=""/>
            <p:cNvGrpSpPr/>
            <p:nvPr/>
          </p:nvGrpSpPr>
          <p:grpSpPr>
            <a:xfrm>
              <a:off x="7574040" y="3754440"/>
              <a:ext cx="569880" cy="286920"/>
              <a:chOff x="7574040" y="3754440"/>
              <a:chExt cx="569880" cy="286920"/>
            </a:xfrm>
          </p:grpSpPr>
          <p:sp>
            <p:nvSpPr>
              <p:cNvPr id="229" name=""/>
              <p:cNvSpPr/>
              <p:nvPr/>
            </p:nvSpPr>
            <p:spPr>
              <a:xfrm>
                <a:off x="7578360" y="3882600"/>
                <a:ext cx="565200" cy="1587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578360" y="386892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143920" y="3868920"/>
                <a:ext cx="0" cy="98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578360" y="3868920"/>
                <a:ext cx="560160" cy="972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574040" y="3754440"/>
                <a:ext cx="564840" cy="185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4" name=""/>
              <p:cNvGrpSpPr/>
              <p:nvPr/>
            </p:nvGrpSpPr>
            <p:grpSpPr>
              <a:xfrm>
                <a:off x="7709760" y="3795120"/>
                <a:ext cx="279720" cy="108360"/>
                <a:chOff x="7709760" y="3795120"/>
                <a:chExt cx="279720" cy="108360"/>
              </a:xfrm>
            </p:grpSpPr>
            <p:sp>
              <p:nvSpPr>
                <p:cNvPr id="235" name=""/>
                <p:cNvSpPr/>
                <p:nvPr/>
              </p:nvSpPr>
              <p:spPr>
                <a:xfrm flipV="1">
                  <a:off x="7709760" y="37951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7901640" y="390348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801560" y="379728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7709760" y="3793320"/>
                <a:ext cx="279720" cy="108360"/>
                <a:chOff x="7709760" y="3793320"/>
                <a:chExt cx="279720" cy="108360"/>
              </a:xfrm>
            </p:grpSpPr>
            <p:sp>
              <p:nvSpPr>
                <p:cNvPr id="239" name=""/>
                <p:cNvSpPr/>
                <p:nvPr/>
              </p:nvSpPr>
              <p:spPr>
                <a:xfrm>
                  <a:off x="7709760" y="38995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7901640" y="37933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flipV="1">
                  <a:off x="7801560" y="3793320"/>
                  <a:ext cx="103680" cy="10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880320" y="4352760"/>
              <a:ext cx="569880" cy="284040"/>
              <a:chOff x="6880320" y="4352760"/>
              <a:chExt cx="569880" cy="284040"/>
            </a:xfrm>
          </p:grpSpPr>
          <p:sp>
            <p:nvSpPr>
              <p:cNvPr id="243" name=""/>
              <p:cNvSpPr/>
              <p:nvPr/>
            </p:nvSpPr>
            <p:spPr>
              <a:xfrm>
                <a:off x="6884640" y="447948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884640" y="4466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450200" y="446616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884640" y="446616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80320" y="435276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8" name=""/>
              <p:cNvGrpSpPr/>
              <p:nvPr/>
            </p:nvGrpSpPr>
            <p:grpSpPr>
              <a:xfrm>
                <a:off x="7016040" y="4393080"/>
                <a:ext cx="279720" cy="107280"/>
                <a:chOff x="7016040" y="4393080"/>
                <a:chExt cx="279720" cy="107280"/>
              </a:xfrm>
            </p:grpSpPr>
            <p:sp>
              <p:nvSpPr>
                <p:cNvPr id="249" name=""/>
                <p:cNvSpPr/>
                <p:nvPr/>
              </p:nvSpPr>
              <p:spPr>
                <a:xfrm flipV="1">
                  <a:off x="7016040" y="439308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7207920" y="450036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7107840" y="43952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7016040" y="4391640"/>
                <a:ext cx="279720" cy="107280"/>
                <a:chOff x="7016040" y="4391640"/>
                <a:chExt cx="279720" cy="107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16040" y="449676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7207920" y="439164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V="1">
                  <a:off x="7107840" y="439164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6" name=""/>
            <p:cNvGrpSpPr/>
            <p:nvPr/>
          </p:nvGrpSpPr>
          <p:grpSpPr>
            <a:xfrm>
              <a:off x="5967360" y="3892320"/>
              <a:ext cx="569880" cy="284040"/>
              <a:chOff x="5967360" y="3892320"/>
              <a:chExt cx="569880" cy="284040"/>
            </a:xfrm>
          </p:grpSpPr>
          <p:sp>
            <p:nvSpPr>
              <p:cNvPr id="257" name=""/>
              <p:cNvSpPr/>
              <p:nvPr/>
            </p:nvSpPr>
            <p:spPr>
              <a:xfrm>
                <a:off x="5971680" y="4019040"/>
                <a:ext cx="565200" cy="1573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971680" y="40057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537240" y="4005720"/>
                <a:ext cx="0" cy="97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971680" y="4005720"/>
                <a:ext cx="560160" cy="961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967360" y="3892320"/>
                <a:ext cx="564840" cy="1836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103080" y="3932640"/>
                <a:ext cx="279720" cy="107280"/>
                <a:chOff x="6103080" y="3932640"/>
                <a:chExt cx="279720" cy="107280"/>
              </a:xfrm>
            </p:grpSpPr>
            <p:sp>
              <p:nvSpPr>
                <p:cNvPr id="263" name=""/>
                <p:cNvSpPr/>
                <p:nvPr/>
              </p:nvSpPr>
              <p:spPr>
                <a:xfrm flipV="1">
                  <a:off x="6103080" y="393264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294960" y="403992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94880" y="393480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103080" y="3931200"/>
                <a:ext cx="279720" cy="107280"/>
                <a:chOff x="6103080" y="3931200"/>
                <a:chExt cx="279720" cy="10728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103080" y="4036320"/>
                  <a:ext cx="99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294960" y="3931200"/>
                  <a:ext cx="878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V="1">
                  <a:off x="6194880" y="3931200"/>
                  <a:ext cx="10368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0" name=""/>
            <p:cNvSpPr/>
            <p:nvPr/>
          </p:nvSpPr>
          <p:spPr>
            <a:xfrm>
              <a:off x="6249960" y="4184640"/>
              <a:ext cx="1800" cy="252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6824880" y="5103720"/>
              <a:ext cx="330120" cy="171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7215120" y="4494240"/>
              <a:ext cx="0" cy="487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470640" y="4029120"/>
              <a:ext cx="56196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84960" y="4114800"/>
              <a:ext cx="611280" cy="366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275520" y="3870000"/>
              <a:ext cx="1404720" cy="73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8021520" y="3224160"/>
              <a:ext cx="390600" cy="5983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 flipV="1">
              <a:off x="7472520" y="2721960"/>
              <a:ext cx="573120" cy="4287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7459560" y="1904400"/>
              <a:ext cx="0" cy="598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519960" y="1917720"/>
              <a:ext cx="598320" cy="280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251760" y="2198520"/>
              <a:ext cx="255600" cy="365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83400" y="1135080"/>
              <a:ext cx="263520" cy="892080"/>
            </a:xfrm>
            <a:custGeom>
              <a:avLst/>
              <a:gdLst/>
              <a:ahLst/>
              <a:rect l="l" t="t" r="r" b="b"/>
              <a:pathLst>
                <a:path w="166" h="562">
                  <a:moveTo>
                    <a:pt x="166" y="0"/>
                  </a:moveTo>
                  <a:cubicBezTo>
                    <a:pt x="118" y="34"/>
                    <a:pt x="70" y="69"/>
                    <a:pt x="43" y="123"/>
                  </a:cubicBezTo>
                  <a:cubicBezTo>
                    <a:pt x="16" y="177"/>
                    <a:pt x="0" y="250"/>
                    <a:pt x="5" y="323"/>
                  </a:cubicBezTo>
                  <a:cubicBezTo>
                    <a:pt x="10" y="396"/>
                    <a:pt x="63" y="522"/>
                    <a:pt x="74" y="562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23520" y="922320"/>
              <a:ext cx="60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li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24920" y="5297400"/>
            <a:ext cx="6805440" cy="10994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I protocolli a livello di collegamento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si occupa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el trasporto di datagrammi lungo un singol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canale di comunicazio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F13-0C79-4CC4-9557-32DD439B03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ndirizz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LAN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4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IEEE sovrintende alla gestione degli indirizzi MA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a società vuole costruire adattatori, compra un blocco di spazio di indirizzi (unicità degli indirizzi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i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a) Indirizzo MAC: come il codice fiscale di una perso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b) Indirizzo IP: come l’indirizzo postale di una person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dirizzo orizzontale MAC </a:t>
            </a:r>
            <a:r>
              <a:rPr b="0" lang="it-IT" sz="2000" spc="-1" strike="noStrike">
                <a:solidFill>
                  <a:srgbClr val="000000"/>
                </a:solidFill>
                <a:latin typeface="MS Mincho"/>
                <a:ea typeface="MS Mincho"/>
              </a:rPr>
              <a:t>--&gt;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portabilità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possibile spostare una scheda LAN da una LAN a un’altr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li indirizzi IP hanno una struttura gerarchica e devono essere aggiornati se spost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pendono dalla sottorete IP cui il nodo è collega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FE22-045B-4854-ABEF-F3586102828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120" y="240840"/>
            <a:ext cx="819180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per la risoluzione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degli indirizzi (ARP)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908240" y="1474560"/>
            <a:ext cx="4235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gni nodo IP (host, router) nella LAN ha una 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tabella AR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abella ARP: contiene la corrispondenza tra indirizzi IP e MA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&lt; Indirizzo IP; Indirizzo MAC; TTL&gt;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ZapfDingba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TL (tempo di vita): valore che indica quando bisognerà eliminare una data voce nella tabella (il tempo di vita tipico è di 20 min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30040" y="1487520"/>
            <a:ext cx="4343400" cy="1278000"/>
            <a:chOff x="230040" y="1487520"/>
            <a:chExt cx="4343400" cy="1278000"/>
          </a:xfrm>
        </p:grpSpPr>
        <p:sp>
          <p:nvSpPr>
            <p:cNvPr id="698" name=""/>
            <p:cNvSpPr/>
            <p:nvPr/>
          </p:nvSpPr>
          <p:spPr>
            <a:xfrm>
              <a:off x="393480" y="1557360"/>
              <a:ext cx="38336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Domanda: come si determin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l’indirizzo MAC di B se s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Comic Sans MS"/>
                </a:rPr>
                <a:t>conosce solo l’indirizzo IP di B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0040" y="1487520"/>
              <a:ext cx="4343400" cy="12780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2354400" y="3044880"/>
            <a:ext cx="415800" cy="38736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800360" y="3944880"/>
            <a:ext cx="1393560" cy="152568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/>
          <a:stretch/>
        </p:blipFill>
        <p:spPr>
          <a:xfrm>
            <a:off x="3852720" y="439740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703" name="" descr=""/>
          <p:cNvPicPr/>
          <p:nvPr/>
        </p:nvPicPr>
        <p:blipFill>
          <a:blip r:embed="rId3"/>
          <a:stretch/>
        </p:blipFill>
        <p:spPr>
          <a:xfrm>
            <a:off x="2344680" y="5843520"/>
            <a:ext cx="416160" cy="38736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4"/>
          <a:stretch/>
        </p:blipFill>
        <p:spPr>
          <a:xfrm>
            <a:off x="668160" y="4280040"/>
            <a:ext cx="416160" cy="38736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3718080" y="4508640"/>
            <a:ext cx="18396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041480" y="4371840"/>
            <a:ext cx="18252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540160" y="3413160"/>
            <a:ext cx="129960" cy="189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494080" y="5654520"/>
            <a:ext cx="129960" cy="190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219320" y="444960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587680" y="3606840"/>
            <a:ext cx="0" cy="48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H="1">
            <a:off x="3176640" y="4575240"/>
            <a:ext cx="54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562120" y="5322960"/>
            <a:ext cx="0" cy="32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872080" y="3389400"/>
            <a:ext cx="176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A-2F-BB-76-09-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H="1" flipV="1">
            <a:off x="2674800" y="3490920"/>
            <a:ext cx="176400" cy="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3798720" y="4651200"/>
            <a:ext cx="0" cy="27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464640" y="4943520"/>
            <a:ext cx="173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58-23-D7-FA-20-B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2631960" y="57355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967840" y="565164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C-C4-11-6F-E3-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1130400" y="4524120"/>
            <a:ext cx="0" cy="27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800" y="4834080"/>
            <a:ext cx="17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71-65-F7-2B-08-5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045160" y="4435560"/>
            <a:ext cx="79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41920" y="379080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76240" y="404352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956680" y="29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7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H="1" flipV="1">
            <a:off x="2704680" y="3116160"/>
            <a:ext cx="282600" cy="1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4054320" y="4156200"/>
            <a:ext cx="0" cy="24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442680" y="389088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1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136600" y="6002280"/>
            <a:ext cx="231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0440" y="5861160"/>
            <a:ext cx="124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37.196.7.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1A55-46B5-47F1-B213-D2630C8DD883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86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ARP nella stessa sottoret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84040" y="1119240"/>
            <a:ext cx="4159440" cy="517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vuole inviare un datagramma a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, e l’indirizzo MAC di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non è nella tabella ARP di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 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 trasmette in un pacchetto </a:t>
            </a: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broadcast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il messaggio di richiesta ARP, contenente l’indirizzo IP di B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dirizzo MAC del destinatario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= FF-FF-FF-FF-FF-FF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utte le macchine della  LAN ricevono una richiesta ARP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riceve il pacchetto ARP, e risponde ad 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comunicandogli il proprio indirizzo MAC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frame viene inviato all’indirizzo MAC di 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506840" y="1149120"/>
            <a:ext cx="381024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messaggio di richiesta ARP è inviato in un pacchetto broadcast mentre il messaggio di risposta ARP è inviato in un pacchetto stand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RP è “plug-and-play”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 tabella ARP di un nodo si costituisce automaticamente e non deve essere configurata dall’amministratore del sistem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F22-47C2-4472-A2BE-F77E013221D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62080" y="-360"/>
            <a:ext cx="865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vio verso un nodo esterno alla sottorete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33520" y="1143000"/>
            <a:ext cx="82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nvio di un datagramma da A a B attraverso R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ipotizzando che A conosca l’indirizzo IP di B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Due tabelle ARP nel router R, una per ciascuna rete IP (LAN)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35" name=""/>
          <p:cNvGrpSpPr/>
          <p:nvPr/>
        </p:nvGrpSpPr>
        <p:grpSpPr>
          <a:xfrm>
            <a:off x="793080" y="2328840"/>
            <a:ext cx="7332120" cy="2746080"/>
            <a:chOff x="793080" y="2328840"/>
            <a:chExt cx="7332120" cy="2746080"/>
          </a:xfrm>
        </p:grpSpPr>
        <p:sp>
          <p:nvSpPr>
            <p:cNvPr id="736" name=""/>
            <p:cNvSpPr/>
            <p:nvPr/>
          </p:nvSpPr>
          <p:spPr>
            <a:xfrm>
              <a:off x="4141440" y="42390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3835440" y="3404160"/>
              <a:ext cx="922320" cy="345240"/>
              <a:chOff x="3835440" y="3404160"/>
              <a:chExt cx="922320" cy="345240"/>
            </a:xfrm>
          </p:grpSpPr>
          <p:sp>
            <p:nvSpPr>
              <p:cNvPr id="738" name=""/>
              <p:cNvSpPr/>
              <p:nvPr/>
            </p:nvSpPr>
            <p:spPr>
              <a:xfrm>
                <a:off x="3842640" y="3558240"/>
                <a:ext cx="914760" cy="1911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842640" y="35420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4757760" y="3542040"/>
                <a:ext cx="0" cy="11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3842640" y="3542040"/>
                <a:ext cx="906480" cy="11664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3835440" y="3404160"/>
                <a:ext cx="914040" cy="222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43" name=""/>
              <p:cNvGrpSpPr/>
              <p:nvPr/>
            </p:nvGrpSpPr>
            <p:grpSpPr>
              <a:xfrm>
                <a:off x="4055400" y="3452760"/>
                <a:ext cx="452880" cy="130680"/>
                <a:chOff x="4055400" y="3452760"/>
                <a:chExt cx="452880" cy="130680"/>
              </a:xfrm>
            </p:grpSpPr>
            <p:sp>
              <p:nvSpPr>
                <p:cNvPr id="744" name=""/>
                <p:cNvSpPr/>
                <p:nvPr/>
              </p:nvSpPr>
              <p:spPr>
                <a:xfrm flipV="1">
                  <a:off x="4055400" y="345276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366080" y="358344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4204440" y="345564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7" name=""/>
              <p:cNvGrpSpPr/>
              <p:nvPr/>
            </p:nvGrpSpPr>
            <p:grpSpPr>
              <a:xfrm>
                <a:off x="4055400" y="3451320"/>
                <a:ext cx="452880" cy="130680"/>
                <a:chOff x="4055400" y="3451320"/>
                <a:chExt cx="452880" cy="130680"/>
              </a:xfrm>
            </p:grpSpPr>
            <p:sp>
              <p:nvSpPr>
                <p:cNvPr id="748" name=""/>
                <p:cNvSpPr/>
                <p:nvPr/>
              </p:nvSpPr>
              <p:spPr>
                <a:xfrm>
                  <a:off x="4055400" y="3579480"/>
                  <a:ext cx="161280" cy="2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4366080" y="3451320"/>
                  <a:ext cx="142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 flipV="1">
                  <a:off x="4204440" y="3451680"/>
                  <a:ext cx="168120" cy="1274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1" name=""/>
            <p:cNvSpPr/>
            <p:nvPr/>
          </p:nvSpPr>
          <p:spPr>
            <a:xfrm rot="16200000">
              <a:off x="4788000" y="34858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6200000">
              <a:off x="3687840" y="349920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14800" y="3083040"/>
              <a:ext cx="154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181040" y="376632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225240" y="39704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95360" y="2858040"/>
              <a:ext cx="1540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388880" y="4798440"/>
              <a:ext cx="1628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93080" y="424440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59" name=""/>
            <p:cNvGraphicFramePr/>
            <p:nvPr/>
          </p:nvGraphicFramePr>
          <p:xfrm>
            <a:off x="1365480" y="4437720"/>
            <a:ext cx="447840" cy="32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65480" y="443772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61" name=""/>
            <p:cNvSpPr/>
            <p:nvPr/>
          </p:nvSpPr>
          <p:spPr>
            <a:xfrm rot="16200000">
              <a:off x="1816560" y="44920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65800" y="320004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893520" y="2583360"/>
              <a:ext cx="844200" cy="629640"/>
              <a:chOff x="893520" y="2583360"/>
              <a:chExt cx="844200" cy="629640"/>
            </a:xfrm>
          </p:grpSpPr>
          <p:graphicFrame>
            <p:nvGraphicFramePr>
              <p:cNvPr id="764" name=""/>
              <p:cNvGraphicFramePr/>
              <p:nvPr/>
            </p:nvGraphicFramePr>
            <p:xfrm>
              <a:off x="893520" y="2601000"/>
              <a:ext cx="844200" cy="612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765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893520" y="2601000"/>
                        <a:ext cx="844200" cy="612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66" name=""/>
              <p:cNvSpPr/>
              <p:nvPr/>
            </p:nvSpPr>
            <p:spPr>
              <a:xfrm>
                <a:off x="1137600" y="2583360"/>
                <a:ext cx="3758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 rot="16200000">
              <a:off x="1734840" y="2759760"/>
              <a:ext cx="111240" cy="1767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195560" y="237636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69" name=""/>
            <p:cNvGraphicFramePr/>
            <p:nvPr/>
          </p:nvGraphicFramePr>
          <p:xfrm>
            <a:off x="6972120" y="2607840"/>
            <a:ext cx="447840" cy="3250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70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972120" y="2607840"/>
                      <a:ext cx="447840" cy="32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1" name=""/>
            <p:cNvSpPr/>
            <p:nvPr/>
          </p:nvSpPr>
          <p:spPr>
            <a:xfrm rot="16200000">
              <a:off x="6867720" y="269208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767280" y="295236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271200" y="2328840"/>
              <a:ext cx="1505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4" name=""/>
            <p:cNvGrpSpPr/>
            <p:nvPr/>
          </p:nvGrpSpPr>
          <p:grpSpPr>
            <a:xfrm>
              <a:off x="6975000" y="3914640"/>
              <a:ext cx="843840" cy="630000"/>
              <a:chOff x="6975000" y="3914640"/>
              <a:chExt cx="843840" cy="630000"/>
            </a:xfrm>
          </p:grpSpPr>
          <p:graphicFrame>
            <p:nvGraphicFramePr>
              <p:cNvPr id="775" name=""/>
              <p:cNvGraphicFramePr/>
              <p:nvPr/>
            </p:nvGraphicFramePr>
            <p:xfrm>
              <a:off x="6975000" y="3932280"/>
              <a:ext cx="843840" cy="61236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776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975000" y="3932280"/>
                        <a:ext cx="843840" cy="612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77" name=""/>
              <p:cNvSpPr/>
              <p:nvPr/>
            </p:nvSpPr>
            <p:spPr>
              <a:xfrm>
                <a:off x="7202160" y="3914640"/>
                <a:ext cx="378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6792480" y="3727080"/>
              <a:ext cx="133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379560" y="4515120"/>
              <a:ext cx="1563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rot="16200000">
              <a:off x="6914160" y="4076640"/>
              <a:ext cx="111600" cy="177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30760" y="2883960"/>
              <a:ext cx="1344240" cy="135576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343480" y="2934360"/>
              <a:ext cx="1496160" cy="135612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878840" y="2854080"/>
              <a:ext cx="43776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1954800" y="4216680"/>
              <a:ext cx="308160" cy="34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63480" y="3601440"/>
              <a:ext cx="28836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4935600" y="3588840"/>
              <a:ext cx="449280" cy="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677280" y="4032000"/>
              <a:ext cx="196200" cy="13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491520" y="2790360"/>
              <a:ext cx="33480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1871640" y="4653720"/>
              <a:ext cx="0" cy="16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782360" y="2595240"/>
              <a:ext cx="0" cy="1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738600" y="3069360"/>
              <a:ext cx="0" cy="43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10320" y="3269520"/>
              <a:ext cx="0" cy="20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V="1">
              <a:off x="6936480" y="4262040"/>
              <a:ext cx="0" cy="27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918120" y="2505600"/>
              <a:ext cx="468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C2D-30D5-414C-A9A3-CD8427516E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/>
          </p:nvPr>
        </p:nvSpPr>
        <p:spPr>
          <a:xfrm>
            <a:off x="485280" y="317160"/>
            <a:ext cx="8078760" cy="356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crea un datagramma con origine A, e destinazione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usa ARP per ottenere l’indirizzo MAC di R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crea un collegamento a livello di rete con l’indirizzo MAC di destinazione di R, il frame contiene il datagramma IP da A a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dattatore di A invia il datagram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dattatore di R riceve il datagramma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rimuove il datagramma IP dal frame Ethernet, e vede che la sua destinazione è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usa ARP per ottenere l’indirizzo MAC di B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 crea un frame contenente il datagramma IP da A a B IP e lo invia a B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1345680" y="4400640"/>
            <a:ext cx="6078600" cy="2223000"/>
            <a:chOff x="1345680" y="4400640"/>
            <a:chExt cx="6078600" cy="2223000"/>
          </a:xfrm>
        </p:grpSpPr>
        <p:sp>
          <p:nvSpPr>
            <p:cNvPr id="797" name=""/>
            <p:cNvSpPr/>
            <p:nvPr/>
          </p:nvSpPr>
          <p:spPr>
            <a:xfrm>
              <a:off x="4100760" y="59086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846600" y="5241600"/>
              <a:ext cx="760680" cy="275040"/>
              <a:chOff x="3846600" y="5241600"/>
              <a:chExt cx="760680" cy="2750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52720" y="5364360"/>
                <a:ext cx="754560" cy="15228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852720" y="535140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607280" y="5351400"/>
                <a:ext cx="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52720" y="5351400"/>
                <a:ext cx="747720" cy="928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080" bIns="46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846600" y="5241600"/>
                <a:ext cx="754200" cy="177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4" name=""/>
              <p:cNvGrpSpPr/>
              <p:nvPr/>
            </p:nvGrpSpPr>
            <p:grpSpPr>
              <a:xfrm>
                <a:off x="4028040" y="5280480"/>
                <a:ext cx="373320" cy="104040"/>
                <a:chOff x="4028040" y="5280480"/>
                <a:chExt cx="373320" cy="104040"/>
              </a:xfrm>
            </p:grpSpPr>
            <p:sp>
              <p:nvSpPr>
                <p:cNvPr id="805" name=""/>
                <p:cNvSpPr/>
                <p:nvPr/>
              </p:nvSpPr>
              <p:spPr>
                <a:xfrm flipV="1">
                  <a:off x="4028040" y="5280480"/>
                  <a:ext cx="133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4284000" y="538452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4150800" y="5282640"/>
                  <a:ext cx="13860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8" name=""/>
              <p:cNvGrpSpPr/>
              <p:nvPr/>
            </p:nvGrpSpPr>
            <p:grpSpPr>
              <a:xfrm>
                <a:off x="4028040" y="5279400"/>
                <a:ext cx="373320" cy="104040"/>
                <a:chOff x="4028040" y="5279400"/>
                <a:chExt cx="373320" cy="104040"/>
              </a:xfrm>
            </p:grpSpPr>
            <p:sp>
              <p:nvSpPr>
                <p:cNvPr id="809" name=""/>
                <p:cNvSpPr/>
                <p:nvPr/>
              </p:nvSpPr>
              <p:spPr>
                <a:xfrm>
                  <a:off x="4028040" y="5381640"/>
                  <a:ext cx="133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4284000" y="5279400"/>
                  <a:ext cx="1173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 flipV="1">
                  <a:off x="4150800" y="5279760"/>
                  <a:ext cx="138600" cy="1015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2" name=""/>
            <p:cNvSpPr/>
            <p:nvPr/>
          </p:nvSpPr>
          <p:spPr>
            <a:xfrm rot="16200000">
              <a:off x="4634640" y="5303880"/>
              <a:ext cx="8892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rot="16200000">
              <a:off x="3727080" y="5314680"/>
              <a:ext cx="8856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082400" y="5003640"/>
              <a:ext cx="1312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A-23-F9-CD-06-9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141080" y="55515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51600" y="571284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325320" y="4824720"/>
              <a:ext cx="1303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6-E9-00-17-BB-4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1830600" y="6377400"/>
              <a:ext cx="1383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C-49-DE-D0-AB-7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345680" y="59338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20" name=""/>
            <p:cNvGraphicFramePr/>
            <p:nvPr/>
          </p:nvGraphicFramePr>
          <p:xfrm>
            <a:off x="1807560" y="6067440"/>
            <a:ext cx="370800" cy="2602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807560" y="6067440"/>
                      <a:ext cx="37080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22" name=""/>
            <p:cNvSpPr/>
            <p:nvPr/>
          </p:nvSpPr>
          <p:spPr>
            <a:xfrm rot="16200000">
              <a:off x="2181240" y="6109560"/>
              <a:ext cx="9000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405800" y="509796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11.111.111.11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1418400" y="4583520"/>
              <a:ext cx="696960" cy="503640"/>
              <a:chOff x="1418400" y="4583520"/>
              <a:chExt cx="696960" cy="503640"/>
            </a:xfrm>
          </p:grpSpPr>
          <p:graphicFrame>
            <p:nvGraphicFramePr>
              <p:cNvPr id="825" name=""/>
              <p:cNvGraphicFramePr/>
              <p:nvPr/>
            </p:nvGraphicFramePr>
            <p:xfrm>
              <a:off x="1418400" y="4597560"/>
              <a:ext cx="696960" cy="4896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2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1418400" y="4597560"/>
                        <a:ext cx="696960" cy="48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27" name=""/>
              <p:cNvSpPr/>
              <p:nvPr/>
            </p:nvSpPr>
            <p:spPr>
              <a:xfrm>
                <a:off x="1619280" y="458352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8" name=""/>
            <p:cNvSpPr/>
            <p:nvPr/>
          </p:nvSpPr>
          <p:spPr>
            <a:xfrm rot="16200000">
              <a:off x="2113560" y="4722840"/>
              <a:ext cx="90000" cy="146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1671840" y="4438440"/>
              <a:ext cx="1285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74-29-9C-E8-FF-5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0" name=""/>
            <p:cNvGraphicFramePr/>
            <p:nvPr/>
          </p:nvGraphicFramePr>
          <p:xfrm>
            <a:off x="6436080" y="4603680"/>
            <a:ext cx="369360" cy="26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1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436080" y="4603680"/>
                      <a:ext cx="369360" cy="26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32" name=""/>
            <p:cNvSpPr/>
            <p:nvPr/>
          </p:nvSpPr>
          <p:spPr>
            <a:xfrm rot="16200000">
              <a:off x="6351840" y="4669200"/>
              <a:ext cx="8856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276960" y="489852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861880" y="4400640"/>
              <a:ext cx="1278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88-B2-2F-54-1A-0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5" name=""/>
            <p:cNvGrpSpPr/>
            <p:nvPr/>
          </p:nvGrpSpPr>
          <p:grpSpPr>
            <a:xfrm>
              <a:off x="6438600" y="5651640"/>
              <a:ext cx="696960" cy="501480"/>
              <a:chOff x="6438600" y="5651640"/>
              <a:chExt cx="696960" cy="501480"/>
            </a:xfrm>
          </p:grpSpPr>
          <p:graphicFrame>
            <p:nvGraphicFramePr>
              <p:cNvPr id="836" name=""/>
              <p:cNvGraphicFramePr/>
              <p:nvPr/>
            </p:nvGraphicFramePr>
            <p:xfrm>
              <a:off x="6438600" y="5663520"/>
              <a:ext cx="696960" cy="48960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837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6438600" y="5663520"/>
                        <a:ext cx="696960" cy="4896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38" name=""/>
              <p:cNvSpPr/>
              <p:nvPr/>
            </p:nvSpPr>
            <p:spPr>
              <a:xfrm>
                <a:off x="6624360" y="56516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9" name=""/>
            <p:cNvSpPr/>
            <p:nvPr/>
          </p:nvSpPr>
          <p:spPr>
            <a:xfrm>
              <a:off x="6297120" y="5519880"/>
              <a:ext cx="1127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22.222.222.22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952600" y="6149880"/>
              <a:ext cx="132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9-BD-D2-C7-56-2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rot="16200000">
              <a:off x="6389640" y="5776920"/>
              <a:ext cx="88920" cy="145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356560" y="4824720"/>
              <a:ext cx="1109880" cy="108468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91480" y="4865400"/>
              <a:ext cx="1235520" cy="1085040"/>
            </a:xfrm>
            <a:custGeom>
              <a:avLst/>
              <a:gdLst/>
              <a:ahLst/>
              <a:rect l="l" t="t" r="r" b="b"/>
              <a:pathLst>
                <a:path w="1005" h="996">
                  <a:moveTo>
                    <a:pt x="307" y="83"/>
                  </a:moveTo>
                  <a:cubicBezTo>
                    <a:pt x="218" y="117"/>
                    <a:pt x="182" y="156"/>
                    <a:pt x="134" y="227"/>
                  </a:cubicBezTo>
                  <a:cubicBezTo>
                    <a:pt x="86" y="298"/>
                    <a:pt x="38" y="426"/>
                    <a:pt x="19" y="507"/>
                  </a:cubicBezTo>
                  <a:cubicBezTo>
                    <a:pt x="0" y="588"/>
                    <a:pt x="8" y="648"/>
                    <a:pt x="19" y="716"/>
                  </a:cubicBezTo>
                  <a:cubicBezTo>
                    <a:pt x="30" y="784"/>
                    <a:pt x="54" y="873"/>
                    <a:pt x="84" y="918"/>
                  </a:cubicBezTo>
                  <a:cubicBezTo>
                    <a:pt x="114" y="963"/>
                    <a:pt x="148" y="984"/>
                    <a:pt x="199" y="990"/>
                  </a:cubicBezTo>
                  <a:cubicBezTo>
                    <a:pt x="250" y="996"/>
                    <a:pt x="310" y="961"/>
                    <a:pt x="393" y="954"/>
                  </a:cubicBezTo>
                  <a:cubicBezTo>
                    <a:pt x="476" y="947"/>
                    <a:pt x="614" y="967"/>
                    <a:pt x="696" y="947"/>
                  </a:cubicBezTo>
                  <a:cubicBezTo>
                    <a:pt x="778" y="927"/>
                    <a:pt x="833" y="898"/>
                    <a:pt x="883" y="831"/>
                  </a:cubicBezTo>
                  <a:cubicBezTo>
                    <a:pt x="933" y="764"/>
                    <a:pt x="991" y="644"/>
                    <a:pt x="998" y="543"/>
                  </a:cubicBezTo>
                  <a:cubicBezTo>
                    <a:pt x="1005" y="442"/>
                    <a:pt x="981" y="313"/>
                    <a:pt x="926" y="227"/>
                  </a:cubicBezTo>
                  <a:cubicBezTo>
                    <a:pt x="871" y="141"/>
                    <a:pt x="768" y="50"/>
                    <a:pt x="667" y="25"/>
                  </a:cubicBezTo>
                  <a:cubicBezTo>
                    <a:pt x="566" y="0"/>
                    <a:pt x="396" y="49"/>
                    <a:pt x="307" y="83"/>
                  </a:cubicBezTo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32000" y="4800600"/>
              <a:ext cx="36144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2295000" y="5892120"/>
              <a:ext cx="25380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457440" y="5399280"/>
              <a:ext cx="23832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754880" y="5389200"/>
              <a:ext cx="3708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92360" y="5743440"/>
              <a:ext cx="16236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039000" y="4749840"/>
              <a:ext cx="27648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2225520" y="6241320"/>
              <a:ext cx="0" cy="13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52080" y="4593600"/>
              <a:ext cx="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766680" y="4973400"/>
              <a:ext cx="0" cy="34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651200" y="5133600"/>
              <a:ext cx="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6406200" y="592704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391080" y="4521240"/>
              <a:ext cx="3960" cy="16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6" name=""/>
          <p:cNvSpPr/>
          <p:nvPr/>
        </p:nvSpPr>
        <p:spPr>
          <a:xfrm>
            <a:off x="5857920" y="1623960"/>
            <a:ext cx="328608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Questo esempio è </a:t>
            </a:r>
            <a:r>
              <a:rPr b="1" lang="en-US" sz="1400" spc="-1" strike="noStrike">
                <a:solidFill>
                  <a:srgbClr val="ff0000"/>
                </a:solidFill>
                <a:latin typeface="Comic Sans MS"/>
              </a:rPr>
              <a:t>molto</a:t>
            </a: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 important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cc"/>
                </a:solidFill>
                <a:latin typeface="Comic Sans MS"/>
              </a:rPr>
              <a:t>Siete sicuri di averlo compreso ben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ACDE-6DBF-44B4-9ABF-304E2331FF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5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CF0-4A02-4CC7-AC4F-DA6AF38E93A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738360" y="1275840"/>
            <a:ext cx="7519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tiene una posizione dominante nel merca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lle LAN cabla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È stata la prima LAN ad alta velocità con vasta diffusio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iù semplice e meno costosa di token ring, FDDI e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mpre al passo dei tempi con il tasso trasmissivo: 10 Mbps - 10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1"/>
          <a:stretch/>
        </p:blipFill>
        <p:spPr>
          <a:xfrm>
            <a:off x="830160" y="3908520"/>
            <a:ext cx="5192640" cy="277956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6218280" y="4487760"/>
            <a:ext cx="2619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getto originale di Bob Metcal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he portò allo standard Etherne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E2BD-D6CA-422A-B41C-F6EA91A2E9B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 u="sng">
                <a:solidFill>
                  <a:srgbClr val="3333cc"/>
                </a:solidFill>
                <a:uFillTx/>
                <a:latin typeface="Comic Sans MS"/>
              </a:rPr>
              <a:t>Topologia a stella</a:t>
            </a:r>
            <a:endParaRPr b="0" lang="en-US" sz="4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7600" y="1177560"/>
            <a:ext cx="8201160" cy="17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a topologia a bus era diffusa fino alla metà degli anni 90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si tutte le odierne reti Ethernet sono progettate con topologia a stell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 centro della stella è collocato un hub o commutatore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switch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5280" indent="-3052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 nodo esegue un protocollo Ethernet separato e non entra in collisione con gli altr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5" name=""/>
          <p:cNvSpPr/>
          <p:nvPr/>
        </p:nvSpPr>
        <p:spPr>
          <a:xfrm>
            <a:off x="6226200" y="5043600"/>
            <a:ext cx="417600" cy="91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" descr=""/>
          <p:cNvPicPr/>
          <p:nvPr/>
        </p:nvPicPr>
        <p:blipFill>
          <a:blip r:embed="rId1"/>
          <a:stretch/>
        </p:blipFill>
        <p:spPr>
          <a:xfrm>
            <a:off x="7880400" y="4782960"/>
            <a:ext cx="601560" cy="463680"/>
          </a:xfrm>
          <a:prstGeom prst="rect">
            <a:avLst/>
          </a:prstGeom>
          <a:ln w="0">
            <a:noFill/>
          </a:ln>
        </p:spPr>
      </p:pic>
      <p:pic>
        <p:nvPicPr>
          <p:cNvPr id="867" name="" descr=""/>
          <p:cNvPicPr/>
          <p:nvPr/>
        </p:nvPicPr>
        <p:blipFill>
          <a:blip r:embed="rId2"/>
          <a:stretch/>
        </p:blipFill>
        <p:spPr>
          <a:xfrm>
            <a:off x="4572000" y="4784760"/>
            <a:ext cx="601560" cy="463680"/>
          </a:xfrm>
          <a:prstGeom prst="rect">
            <a:avLst/>
          </a:prstGeom>
          <a:ln w="0">
            <a:noFill/>
          </a:ln>
        </p:spPr>
      </p:pic>
      <p:sp>
        <p:nvSpPr>
          <p:cNvPr id="868" name=""/>
          <p:cNvSpPr/>
          <p:nvPr/>
        </p:nvSpPr>
        <p:spPr>
          <a:xfrm>
            <a:off x="5138640" y="4903920"/>
            <a:ext cx="181080" cy="136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7770960" y="4941720"/>
            <a:ext cx="180720" cy="136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5316480" y="4983120"/>
            <a:ext cx="974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6556320" y="43909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6746400" y="499896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6556320" y="5124240"/>
            <a:ext cx="12600" cy="70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469480" y="53593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5834160" y="5148360"/>
            <a:ext cx="417240" cy="239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6283440" y="4919760"/>
            <a:ext cx="444240" cy="100080"/>
          </a:xfrm>
          <a:custGeom>
            <a:avLst/>
            <a:gdLst/>
            <a:ahLst/>
            <a:rect l="l" t="t" r="r" b="b"/>
            <a:pathLst>
              <a:path w="280" h="63">
                <a:moveTo>
                  <a:pt x="0" y="63"/>
                </a:moveTo>
                <a:lnTo>
                  <a:pt x="37" y="62"/>
                </a:lnTo>
                <a:lnTo>
                  <a:pt x="219" y="0"/>
                </a:lnTo>
                <a:lnTo>
                  <a:pt x="28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6396120" y="4915080"/>
            <a:ext cx="230040" cy="102960"/>
          </a:xfrm>
          <a:custGeom>
            <a:avLst/>
            <a:gdLst/>
            <a:ahLst/>
            <a:rect l="l" t="t" r="r" b="b"/>
            <a:pathLst>
              <a:path w="148" h="74">
                <a:moveTo>
                  <a:pt x="0" y="0"/>
                </a:moveTo>
                <a:lnTo>
                  <a:pt x="40" y="0"/>
                </a:lnTo>
                <a:lnTo>
                  <a:pt x="102" y="74"/>
                </a:lnTo>
                <a:lnTo>
                  <a:pt x="148" y="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8" name=""/>
          <p:cNvGrpSpPr/>
          <p:nvPr/>
        </p:nvGrpSpPr>
        <p:grpSpPr>
          <a:xfrm>
            <a:off x="1254240" y="3828960"/>
            <a:ext cx="2304720" cy="1945800"/>
            <a:chOff x="1254240" y="3828960"/>
            <a:chExt cx="2304720" cy="1945800"/>
          </a:xfrm>
        </p:grpSpPr>
        <p:graphicFrame>
          <p:nvGraphicFramePr>
            <p:cNvPr id="879" name=""/>
            <p:cNvGraphicFramePr/>
            <p:nvPr/>
          </p:nvGraphicFramePr>
          <p:xfrm>
            <a:off x="1254240" y="5170320"/>
            <a:ext cx="708840" cy="6044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8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254240" y="5170320"/>
                      <a:ext cx="70884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1" name=""/>
            <p:cNvGraphicFramePr/>
            <p:nvPr/>
          </p:nvGraphicFramePr>
          <p:xfrm>
            <a:off x="1504800" y="4536360"/>
            <a:ext cx="709560" cy="6044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8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504800" y="45363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3" name=""/>
            <p:cNvGraphicFramePr/>
            <p:nvPr/>
          </p:nvGraphicFramePr>
          <p:xfrm>
            <a:off x="2849400" y="4363560"/>
            <a:ext cx="709560" cy="604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84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849400" y="4363560"/>
                      <a:ext cx="709560" cy="604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5" name=""/>
            <p:cNvGraphicFramePr/>
            <p:nvPr/>
          </p:nvGraphicFramePr>
          <p:xfrm>
            <a:off x="2559960" y="5138640"/>
            <a:ext cx="708840" cy="605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86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59960" y="5138640"/>
                      <a:ext cx="70884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7" name=""/>
            <p:cNvSpPr/>
            <p:nvPr/>
          </p:nvSpPr>
          <p:spPr>
            <a:xfrm flipH="1">
              <a:off x="2160720" y="4101480"/>
              <a:ext cx="752400" cy="146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132640" y="4879080"/>
              <a:ext cx="39132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914840" y="5434560"/>
              <a:ext cx="3070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V="1">
              <a:off x="2631600" y="4648680"/>
              <a:ext cx="286560" cy="1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91" name=""/>
            <p:cNvGraphicFramePr/>
            <p:nvPr/>
          </p:nvGraphicFramePr>
          <p:xfrm>
            <a:off x="1781280" y="3828960"/>
            <a:ext cx="709560" cy="6051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1781280" y="3828960"/>
                      <a:ext cx="709560" cy="605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424240" y="4274280"/>
              <a:ext cx="3916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314440" y="5324760"/>
              <a:ext cx="3070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6" name="" descr=""/>
          <p:cNvPicPr/>
          <p:nvPr/>
        </p:nvPicPr>
        <p:blipFill>
          <a:blip r:embed="rId13"/>
          <a:stretch/>
        </p:blipFill>
        <p:spPr>
          <a:xfrm>
            <a:off x="6235560" y="5835600"/>
            <a:ext cx="601920" cy="463680"/>
          </a:xfrm>
          <a:prstGeom prst="rect">
            <a:avLst/>
          </a:prstGeom>
          <a:ln w="0">
            <a:noFill/>
          </a:ln>
        </p:spPr>
      </p:pic>
      <p:sp>
        <p:nvSpPr>
          <p:cNvPr id="897" name=""/>
          <p:cNvSpPr/>
          <p:nvPr/>
        </p:nvSpPr>
        <p:spPr>
          <a:xfrm>
            <a:off x="6492960" y="5637240"/>
            <a:ext cx="141120" cy="214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8" name="" descr=""/>
          <p:cNvPicPr/>
          <p:nvPr/>
        </p:nvPicPr>
        <p:blipFill>
          <a:blip r:embed="rId14"/>
          <a:stretch/>
        </p:blipFill>
        <p:spPr>
          <a:xfrm>
            <a:off x="6218280" y="3890880"/>
            <a:ext cx="603360" cy="463680"/>
          </a:xfrm>
          <a:prstGeom prst="rect">
            <a:avLst/>
          </a:prstGeom>
          <a:ln w="0">
            <a:noFill/>
          </a:ln>
        </p:spPr>
      </p:pic>
      <p:sp>
        <p:nvSpPr>
          <p:cNvPr id="899" name=""/>
          <p:cNvSpPr/>
          <p:nvPr/>
        </p:nvSpPr>
        <p:spPr>
          <a:xfrm>
            <a:off x="6496200" y="4344840"/>
            <a:ext cx="141120" cy="21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404720" y="5908680"/>
            <a:ext cx="222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us: cavo coassi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46240" y="61977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pologia a st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2B81-F4A8-4EDC-8C36-4CD8456C367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379080" y="345960"/>
            <a:ext cx="8211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ttura dei pacchetti 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52320" y="1325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dattatore trasmittente incapsula i datagrammi IP in un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pacchetto Ethern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Preambol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pacchetti Ethernet iniziano con un campo di otto byte: sette hanno i bit 10101010 e l’ultimo è 1010101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rvono per “attivare” gli adattatori dei riceventi e sincronizzare i loro orologi con quello del trasmitten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4" name="" descr=""/>
          <p:cNvPicPr/>
          <p:nvPr/>
        </p:nvPicPr>
        <p:blipFill>
          <a:blip r:embed="rId1"/>
          <a:stretch/>
        </p:blipFill>
        <p:spPr>
          <a:xfrm>
            <a:off x="1749600" y="2406600"/>
            <a:ext cx="5487840" cy="9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006-78FE-46D8-BED7-2E6EBF223A3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47480" y="275760"/>
            <a:ext cx="844380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truttura dei pacchetti Ethernet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Indirizzi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6 by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un adattatore riceve un pacchetto contenente l’indirizzo di destinazione o con l’indirizzo broadcast (es.: un pacchetto ARP), trasferisce il contenuto del campo dati del pacchetto al livello di re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pacchetti con altri indirizzi MAC vengono ignor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ampo tip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 Ethernet di supportare vari protocolli di rete  (in gergo questa è la funzione di “multiplexare” i protocolli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trollo CRC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nsente all’adattatore ricevente di rilevare la presenza di un errore nei bit del pacchet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07" name="" descr=""/>
          <p:cNvPicPr/>
          <p:nvPr/>
        </p:nvPicPr>
        <p:blipFill>
          <a:blip r:embed="rId1"/>
          <a:stretch/>
        </p:blipFill>
        <p:spPr>
          <a:xfrm>
            <a:off x="698400" y="5559480"/>
            <a:ext cx="7558200" cy="1298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92BE-A2BD-4D03-B1A9-8EF5259D0F2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23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di collegament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288720" y="1258920"/>
            <a:ext cx="4151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Un datagramma può essere gestito da diversi protocolli,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 collegamenti different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., un datagramma può essere gestito da Ethernet sul primo collegamento, da PPP sull’ultimo e da un protocollo WAN nel collegamento intermedio.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che i servizi erogati dai protocolli del livello di link possono essere differenti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Ad esempio, non tutti i protocolli forniscono un servizio di consegna affidab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95400" y="1293840"/>
            <a:ext cx="4187880" cy="464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Analogia con un tour operator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Un viaggio da Princeton a Losanna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axi: da Princeton all’aeroporto JFK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ereo: dal JFK a Ginevr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eno:  da Ginevra a Losann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urista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datagramm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iascuna tratta del trasport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ipologia del trasport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protocollo di lin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gente di viaggio = 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protocollo di routi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D4C4-70E8-49CD-AE28-A09B08DEFB9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46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zio senza connessione 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non affidabile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enza connes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non è prevista nessuna forma di handshake preventiva con il destinatario prima di inviare un pacchett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on affidabil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’adattatore ricevente non invia un riscontro né se un pacchetto supera il controllo CRC né in caso contrar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l flusso dei datagrammi che attraversano il livello di rete può presentare delle lacun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applicazione può rilevare le lacune se viene impiegato TCP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ltrimenti, potrebbe accusare problemi a causa dell’incompletezza dei da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C73C-5AFF-4614-B2BD-A8792FB51F0F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1047600" y="158400"/>
            <a:ext cx="711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asi operative 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del protocollo CSMA/CD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252000" y="1643040"/>
            <a:ext cx="4351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1. L’adattatore riceve un datagramma di rete dal nodo cui è collegato e prepara un pacchetto Etherne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2. Se il canale è inattivo, inizia la trasmissione. Se il canale risulta occupato, resta in attesa fino a quando non rileva più il seg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3. Verifica, durante la trasmissione, la presenza di eventuali segnali provenienti da altri adattatori. Se non ne rileva, considera il pacchetto spedit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50840" y="1692000"/>
            <a:ext cx="433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4. Se rileva segnali da altri adattatori, interrompe immediatamente la trasmissione del pacchetto e invia un segnale di disturbo (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ja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. L’adattore rimane in attesa. Quando riscontra l’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esima collisione consecutiva, stabilisce un valor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tra {0,1,2,…,2</a:t>
            </a:r>
            <a:r>
              <a:rPr b="1" lang="it-IT" sz="2000" spc="-1" strike="noStrike" baseline="30000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-1}. L’adattatore aspetta un tempo pari a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K</a:t>
            </a: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volte</a:t>
            </a:r>
            <a:r>
              <a:rPr b="0" lang="it-IT" sz="20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512 bit e ritorna al Passo 2.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03651-DF54-4450-8CA6-B6D037B4C57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Protocollo CSMA/CD di Etherne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0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egnale di disturbo (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jam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la finalità è di avvisare della collisione tutti gli altri adattatori che sono in fase trasmissiva; 48 b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Bit di tempo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corrisponde a 0,1 microsec per Ethernet a 10 Mbps; per K=1023, il tempo di attesa è di circa 50 mse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343040" y="13716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ttesa esponenziale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cc"/>
                </a:solidFill>
                <a:latin typeface="Comic Sans MS"/>
              </a:rPr>
              <a:t>Obiettivo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: l’adattatore prova a stimare quanti sono gli adattatori coinvolti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Se sono numerosi il tempo di attesa potrebbe essere lung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ima collisione: sceglie K tra {0,1}; il tempo di attesa è pari a K volte 512 bi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la seconda collisione: sceglie K tra {0,1,2,3}…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opo dieci collisioni, sceglie K tra {0,1,2,3,4,…,1023}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6" name=""/>
          <p:cNvSpPr/>
          <p:nvPr/>
        </p:nvSpPr>
        <p:spPr>
          <a:xfrm>
            <a:off x="796320" y="4959360"/>
            <a:ext cx="3346200" cy="1313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ardate e interag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 l’applet Ja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l sito web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ltamente raccomandato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DB01-F24B-4E30-A81A-C48F66B2309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fficienza di Etherne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7772400" cy="16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4000"/>
          </a:bodyPr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= tempo massimo che occorre al segnale per propagarsi fra una coppia di adattator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tras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= tempo necessario per trasmettere un pacchetto della maggior dimensione possibi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 evince che quando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prop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nde a 0, l’efficienza tende a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l crescere di t</a:t>
            </a:r>
            <a:r>
              <a:rPr b="0" lang="it-IT" sz="2400" spc="-1" strike="noStrike" baseline="-25000">
                <a:solidFill>
                  <a:srgbClr val="000000"/>
                </a:solidFill>
                <a:latin typeface="Comic Sans MS"/>
              </a:rPr>
              <a:t>trans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, l’efficienza tende a 1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50840" indent="-150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olto meglio di ALOHA: decentralizzato, semplice, e poco costo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9" name=""/>
              <p:cNvSpPr txBox="1"/>
              <p:nvPr/>
            </p:nvSpPr>
            <p:spPr>
              <a:xfrm>
                <a:off x="2114640" y="3208320"/>
                <a:ext cx="420840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fficienz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rop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trasm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EAAC-F063-4A71-AD7A-C2684BFE4935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"/>
          <p:cNvSpPr/>
          <p:nvPr/>
        </p:nvSpPr>
        <p:spPr>
          <a:xfrm>
            <a:off x="152280" y="95400"/>
            <a:ext cx="871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cc"/>
                </a:solidFill>
                <a:uFillTx/>
                <a:latin typeface="Comic Sans MS"/>
              </a:rPr>
              <a:t>Ethernet 802.3 : livelli di collegamento e fisic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93560" y="1292400"/>
            <a:ext cx="77724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molti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fferenti standard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tocollo MAC e formato del frame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i velocità: 2 Mbps, 10 Mbps, 100 Mbps, 1Gbps, 10G 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fferenti mezzi trasmissivi del livello fisico: fibra, c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873520" y="4075200"/>
            <a:ext cx="1393560" cy="1527120"/>
          </a:xfrm>
          <a:custGeom>
            <a:avLst/>
            <a:gdLst/>
            <a:ahLst/>
            <a:rect l="l" t="t" r="r" b="b"/>
            <a:pathLst>
              <a:path w="878" h="962">
                <a:moveTo>
                  <a:pt x="851" y="0"/>
                </a:moveTo>
                <a:lnTo>
                  <a:pt x="0" y="622"/>
                </a:lnTo>
                <a:lnTo>
                  <a:pt x="7" y="962"/>
                </a:lnTo>
                <a:lnTo>
                  <a:pt x="878" y="960"/>
                </a:lnTo>
                <a:lnTo>
                  <a:pt x="851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10800000"/>
          </a:gradFill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1482480" y="4202280"/>
            <a:ext cx="1468440" cy="1435320"/>
            <a:chOff x="1482480" y="4202280"/>
            <a:chExt cx="1468440" cy="1435320"/>
          </a:xfrm>
        </p:grpSpPr>
        <p:sp>
          <p:nvSpPr>
            <p:cNvPr id="924" name=""/>
            <p:cNvSpPr/>
            <p:nvPr/>
          </p:nvSpPr>
          <p:spPr>
            <a:xfrm>
              <a:off x="1582920" y="4229280"/>
              <a:ext cx="1295280" cy="137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1482480" y="4202280"/>
              <a:ext cx="1468440" cy="143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raspor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isi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1582920" y="451980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1582920" y="4795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577880" y="5077080"/>
              <a:ext cx="12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585800" y="5326200"/>
              <a:ext cx="128268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585800" y="5407200"/>
              <a:ext cx="0" cy="168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876760" y="538956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2" name=""/>
          <p:cNvSpPr/>
          <p:nvPr/>
        </p:nvSpPr>
        <p:spPr>
          <a:xfrm>
            <a:off x="4230720" y="4038480"/>
            <a:ext cx="4195800" cy="1568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245120" y="4703760"/>
            <a:ext cx="4178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312160" y="4079880"/>
            <a:ext cx="193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tocollo M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formato del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4404240" y="479412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4415040" y="515448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7087320" y="4789440"/>
            <a:ext cx="12398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F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887560" y="4684680"/>
            <a:ext cx="1393920" cy="611280"/>
          </a:xfrm>
          <a:custGeom>
            <a:avLst/>
            <a:gdLst/>
            <a:ahLst/>
            <a:rect l="l" t="t" r="r" b="b"/>
            <a:pathLst>
              <a:path w="878" h="385">
                <a:moveTo>
                  <a:pt x="0" y="385"/>
                </a:moveTo>
                <a:lnTo>
                  <a:pt x="878" y="0"/>
                </a:ln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5747040" y="4788000"/>
            <a:ext cx="12200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T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5730120" y="514836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S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093800" y="5143680"/>
            <a:ext cx="125064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BASE-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5681520" y="4743360"/>
            <a:ext cx="3009240" cy="1563840"/>
            <a:chOff x="5681520" y="4743360"/>
            <a:chExt cx="3009240" cy="1563840"/>
          </a:xfrm>
        </p:grpSpPr>
        <p:sp>
          <p:nvSpPr>
            <p:cNvPr id="943" name=""/>
            <p:cNvSpPr/>
            <p:nvPr/>
          </p:nvSpPr>
          <p:spPr>
            <a:xfrm>
              <a:off x="5681520" y="4743360"/>
              <a:ext cx="2713320" cy="776520"/>
            </a:xfrm>
            <a:custGeom>
              <a:avLst/>
              <a:gdLst/>
              <a:ahLst/>
              <a:rect l="l" t="t" r="r" b="b"/>
              <a:pathLst>
                <a:path w="1709" h="489">
                  <a:moveTo>
                    <a:pt x="842" y="0"/>
                  </a:moveTo>
                  <a:lnTo>
                    <a:pt x="843" y="239"/>
                  </a:lnTo>
                  <a:lnTo>
                    <a:pt x="5" y="239"/>
                  </a:lnTo>
                  <a:lnTo>
                    <a:pt x="0" y="489"/>
                  </a:lnTo>
                  <a:lnTo>
                    <a:pt x="1709" y="489"/>
                  </a:lnTo>
                  <a:cubicBezTo>
                    <a:pt x="1707" y="330"/>
                    <a:pt x="1706" y="159"/>
                    <a:pt x="1704" y="0"/>
                  </a:cubicBezTo>
                  <a:lnTo>
                    <a:pt x="842" y="0"/>
                  </a:lnTo>
                  <a:close/>
                </a:path>
              </a:pathLst>
            </a:custGeom>
            <a:noFill/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000920" y="5546880"/>
              <a:ext cx="360360" cy="461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93240" y="5938920"/>
              <a:ext cx="2297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Comic Sans MS"/>
                </a:rPr>
                <a:t>Livello fisico in fib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3680280" y="4734000"/>
            <a:ext cx="3312720" cy="1871280"/>
            <a:chOff x="3680280" y="4734000"/>
            <a:chExt cx="3312720" cy="1871280"/>
          </a:xfrm>
        </p:grpSpPr>
        <p:sp>
          <p:nvSpPr>
            <p:cNvPr id="947" name=""/>
            <p:cNvSpPr/>
            <p:nvPr/>
          </p:nvSpPr>
          <p:spPr>
            <a:xfrm>
              <a:off x="4351320" y="4734000"/>
              <a:ext cx="2641680" cy="785880"/>
            </a:xfrm>
            <a:custGeom>
              <a:avLst/>
              <a:gdLst/>
              <a:ahLst/>
              <a:rect l="l" t="t" r="r" b="b"/>
              <a:pathLst>
                <a:path w="1664" h="495">
                  <a:moveTo>
                    <a:pt x="1664" y="0"/>
                  </a:moveTo>
                  <a:lnTo>
                    <a:pt x="1652" y="233"/>
                  </a:lnTo>
                  <a:lnTo>
                    <a:pt x="820" y="233"/>
                  </a:lnTo>
                  <a:lnTo>
                    <a:pt x="814" y="495"/>
                  </a:lnTo>
                  <a:lnTo>
                    <a:pt x="0" y="495"/>
                  </a:lnTo>
                  <a:lnTo>
                    <a:pt x="0" y="0"/>
                  </a:lnTo>
                  <a:lnTo>
                    <a:pt x="1664" y="0"/>
                  </a:lnTo>
                  <a:close/>
                </a:path>
              </a:pathLst>
            </a:custGeom>
            <a:noFill/>
            <a:ln w="2844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4649400" y="5560920"/>
              <a:ext cx="360360" cy="4618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0280" y="5962680"/>
              <a:ext cx="2412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livello fisico in r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Comic Sans MS"/>
                </a:rPr>
                <a:t>(doppino intreccia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3746-0B1B-45E1-BD21-8BF95F3FDD3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95120" y="218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difica Manchest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5440" y="3481560"/>
            <a:ext cx="8300880" cy="20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sata in 10Bas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rante la ricezione di ciascun bit si verifica una transizi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ermette di sincronizzare gli orologi degli adattatori trasmittenti e riceven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Non c’è bisogno di un clock centralizzato e globale tra i nodi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codifica Manchester è un’operazione del livello fisico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1465200" y="1174680"/>
            <a:ext cx="5872320" cy="232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DF2-6B13-4091-A296-A7FDB66E3D2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33520" y="312480"/>
            <a:ext cx="840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6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0BE9-9FF0-4696-81A4-ED4BCDA5299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22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Hub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85280" y="977400"/>
            <a:ext cx="8315640" cy="28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’hub (ripetitore) è un dispositivo “stupido” che opera sui singoli bit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l’arrivo di un bit, l’hub lo riproduce incrementandone l‘energia e lo trasmette attraverso tutte le sue altre interfacce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on implementa la rilevazione della portante né CSMA/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ripete il bit entrante su tutte le interfacce uscenti anche se su qualcuna di queste c’è un segnal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trasmette in broadcast, e quindi ciascun adattatore può sondare il canale per verificare se è libero e rilevare una collisione mentre trasmet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ornisce aspetti di gestione di re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4599000" y="4151160"/>
            <a:ext cx="3615120" cy="2347920"/>
            <a:chOff x="4599000" y="4151160"/>
            <a:chExt cx="3615120" cy="2347920"/>
          </a:xfrm>
        </p:grpSpPr>
        <p:sp>
          <p:nvSpPr>
            <p:cNvPr id="958" name=""/>
            <p:cNvSpPr/>
            <p:nvPr/>
          </p:nvSpPr>
          <p:spPr>
            <a:xfrm>
              <a:off x="5834520" y="5262120"/>
              <a:ext cx="308160" cy="770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59" name="" descr=""/>
            <p:cNvPicPr/>
            <p:nvPr/>
          </p:nvPicPr>
          <p:blipFill>
            <a:blip r:embed="rId1"/>
            <a:stretch/>
          </p:blipFill>
          <p:spPr>
            <a:xfrm>
              <a:off x="5828760" y="415116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0" name="" descr=""/>
            <p:cNvPicPr/>
            <p:nvPr/>
          </p:nvPicPr>
          <p:blipFill>
            <a:blip r:embed="rId2"/>
            <a:stretch/>
          </p:blipFill>
          <p:spPr>
            <a:xfrm>
              <a:off x="5855040" y="611064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1" name="" descr=""/>
            <p:cNvPicPr/>
            <p:nvPr/>
          </p:nvPicPr>
          <p:blipFill>
            <a:blip r:embed="rId3"/>
            <a:stretch/>
          </p:blipFill>
          <p:spPr>
            <a:xfrm>
              <a:off x="7054920" y="5043240"/>
              <a:ext cx="444600" cy="38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2" name="" descr=""/>
            <p:cNvPicPr/>
            <p:nvPr/>
          </p:nvPicPr>
          <p:blipFill>
            <a:blip r:embed="rId4"/>
            <a:stretch/>
          </p:blipFill>
          <p:spPr>
            <a:xfrm>
              <a:off x="4599000" y="5052600"/>
              <a:ext cx="444240" cy="38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3" name=""/>
            <p:cNvSpPr/>
            <p:nvPr/>
          </p:nvSpPr>
          <p:spPr>
            <a:xfrm>
              <a:off x="5016960" y="5176800"/>
              <a:ext cx="133560" cy="113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973920" y="5176800"/>
              <a:ext cx="133920" cy="113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037560" y="4532400"/>
              <a:ext cx="104760" cy="179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6044760" y="5943600"/>
              <a:ext cx="104760" cy="179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150520" y="5224320"/>
              <a:ext cx="73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077880" y="4714920"/>
              <a:ext cx="0" cy="42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6219000" y="5224320"/>
              <a:ext cx="74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 flipV="1">
              <a:off x="6077880" y="5329440"/>
              <a:ext cx="9360" cy="59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6404400" y="4798800"/>
              <a:ext cx="180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Comic Sans MS"/>
                </a:rPr>
                <a:t>doppino intrecciat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>
              <a:off x="6602400" y="4983840"/>
              <a:ext cx="216000" cy="23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258520" y="5526360"/>
              <a:ext cx="555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 flipV="1">
              <a:off x="5544360" y="5349960"/>
              <a:ext cx="308160" cy="20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253-AE36-46D7-843C-02BE39C8B00E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46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wit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09760" y="1171440"/>
            <a:ext cx="8138880" cy="380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Dispositivo del livello di link: più intelligente di un hub, svolge un ruolo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attiv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Filtra e inoltra i pacchetti Ethernet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samina l’indirizzo di destinazione e lo invia all’interfaccia corrispondente alla sua destinazion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Quando un pacchetto è stato inoltrato nel segmento, usa CSMA/CD per accedere al segment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Trasparent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host sono inconsapevoli della presenza di switch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Plug-and-play, autoapprendi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switch non hanno bisogno di essere configurat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BE2-828D-474D-8C1F-8663336BA92E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326880" y="309600"/>
            <a:ext cx="8534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 u="sng">
                <a:solidFill>
                  <a:srgbClr val="3333cc"/>
                </a:solidFill>
                <a:uFillTx/>
                <a:latin typeface="Comic Sans MS"/>
              </a:rPr>
              <a:t>Switch:  consente più trasmissioni simultanee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6680" y="1371600"/>
            <a:ext cx="4503600" cy="45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i host hanno collegamenti dedicati e diretti con lo switch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li switch bufferizzano i pacchett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Il protocollo Ethernet è usato su ciascun collegamento in entrata, ma non si verificano collisioni; full duplex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0000"/>
                </a:solidFill>
                <a:latin typeface="Comic Sans MS"/>
              </a:rPr>
              <a:t>switching: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 da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 ad A’ e da B a B’ simultaneamente, senza collision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on possibile con gli hub “stupidi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0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981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5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6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987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988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7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998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1" name=""/>
          <p:cNvSpPr/>
          <p:nvPr/>
        </p:nvSpPr>
        <p:spPr>
          <a:xfrm>
            <a:off x="5873400" y="506268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witch con sei inter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4D08-5587-428A-AC22-97C0A9C7FDD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Servizi offerti dal livello di link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84200" y="135864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Framing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protocolli incapsulano i datagrammi del livello di rete all’interno di un frame a livello di lin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protocollo MAC controlla l’accesso al mezz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identificare origine e destinatario vengono utilizzati indirizzi “MAC”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iversi rispetto agli indirizzi IP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segna affidabil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ome avviene, lo abbiamo già imparato nel Capitolo 3!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considerata non necessaria nei collegamenti che presentano un basso numero di errori sui bit (fibra ottica, cavo coassiale e doppino intrecciato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spesso utilizzata nei collegamenti soggetti a elevati tassi di errori (es.: collegamenti wireless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F1E1-0CDA-4FFD-883C-ECBBB5AD3D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"/>
          <p:cNvSpPr/>
          <p:nvPr/>
        </p:nvSpPr>
        <p:spPr>
          <a:xfrm>
            <a:off x="533520" y="309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abella di commut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71440" y="1359000"/>
            <a:ext cx="5137200" cy="48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come fa lo switch a sapere che A’ è raggiungibile attraverso l’interfaccia 4 e B’ attraverso l’interfaccia 5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R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ogni switch ha una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tabella di commutazione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switch tabl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,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 ciascuna vo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indirizzo MAC del nodo, interfaccia che conduce al nodo, time stamp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omiglia a una tabella d’instradamento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e si creano e si mantengono le voci di una tabella di commutazione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e in un protocollo di instradamen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0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1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7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18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19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0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021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029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"/>
          <p:cNvSpPr/>
          <p:nvPr/>
        </p:nvSpPr>
        <p:spPr>
          <a:xfrm>
            <a:off x="5873400" y="5062680"/>
            <a:ext cx="262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switch con sei interfac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en-US" sz="1800" spc="-1" strike="noStrike">
                <a:solidFill>
                  <a:srgbClr val="ff0000"/>
                </a:solidFill>
                <a:latin typeface="Comic Sans MS"/>
              </a:rPr>
              <a:t>1,2,3,4,5,6</a:t>
            </a: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8768-4A84-4CDC-997B-D526B806FE2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 u="sng">
                <a:solidFill>
                  <a:srgbClr val="3333cc"/>
                </a:solidFill>
                <a:uFillTx/>
                <a:latin typeface="Comic Sans MS"/>
              </a:rPr>
              <a:t>Switch: autoapprendimento</a:t>
            </a:r>
            <a:endParaRPr b="0" lang="en-US" sz="3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341280" y="1390320"/>
            <a:ext cx="467352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o switch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apprend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quali nodi possono essere raggiunti attraverso determinate interfac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quando riceve un pacchetto, lo switch “impara”  l’indirizzo del mitten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egistra la coppia mittente/indirizzo nella sua tabella di commut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41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2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43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7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8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49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1" name="" descr=""/>
          <p:cNvPicPr/>
          <p:nvPr/>
        </p:nvPicPr>
        <p:blipFill>
          <a:blip r:embed="rId6"/>
          <a:stretch/>
        </p:blipFill>
        <p:spPr>
          <a:xfrm>
            <a:off x="6523200" y="3951360"/>
            <a:ext cx="610920" cy="520560"/>
          </a:xfrm>
          <a:prstGeom prst="rect">
            <a:avLst/>
          </a:prstGeom>
          <a:ln w="0">
            <a:noFill/>
          </a:ln>
        </p:spPr>
      </p:pic>
      <p:sp>
        <p:nvSpPr>
          <p:cNvPr id="1052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060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6805800" y="1224000"/>
            <a:ext cx="1401120" cy="368280"/>
            <a:chOff x="6805800" y="1224000"/>
            <a:chExt cx="1401120" cy="368280"/>
          </a:xfrm>
        </p:grpSpPr>
        <p:sp>
          <p:nvSpPr>
            <p:cNvPr id="1070" name=""/>
            <p:cNvSpPr/>
            <p:nvPr/>
          </p:nvSpPr>
          <p:spPr>
            <a:xfrm>
              <a:off x="6811920" y="126828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05800" y="12240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073640" y="1257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359480" y="12650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6994440" y="525600"/>
            <a:ext cx="1517400" cy="713880"/>
            <a:chOff x="6994440" y="525600"/>
            <a:chExt cx="1517400" cy="713880"/>
          </a:xfrm>
        </p:grpSpPr>
        <p:sp>
          <p:nvSpPr>
            <p:cNvPr id="1075" name=""/>
            <p:cNvSpPr/>
            <p:nvPr/>
          </p:nvSpPr>
          <p:spPr>
            <a:xfrm flipV="1">
              <a:off x="6994440" y="69660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V="1">
              <a:off x="7182000" y="94248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7383240" y="52560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e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25000" y="781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9" name=""/>
          <p:cNvGrpSpPr/>
          <p:nvPr/>
        </p:nvGrpSpPr>
        <p:grpSpPr>
          <a:xfrm>
            <a:off x="1587240" y="4984920"/>
            <a:ext cx="3005280" cy="1443960"/>
            <a:chOff x="1587240" y="4984920"/>
            <a:chExt cx="3005280" cy="1443960"/>
          </a:xfrm>
        </p:grpSpPr>
        <p:sp>
          <p:nvSpPr>
            <p:cNvPr id="1080" name=""/>
            <p:cNvSpPr/>
            <p:nvPr/>
          </p:nvSpPr>
          <p:spPr>
            <a:xfrm>
              <a:off x="1587240" y="498492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685160" y="5032440"/>
              <a:ext cx="2783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Indir. MAC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cia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TT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820600" y="498492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990600" y="498924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591920" y="537048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5218200" y="5342040"/>
            <a:ext cx="278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bella di comm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inizialmente vuo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6" name=""/>
          <p:cNvGrpSpPr/>
          <p:nvPr/>
        </p:nvGrpSpPr>
        <p:grpSpPr>
          <a:xfrm>
            <a:off x="2030760" y="5418000"/>
            <a:ext cx="2458080" cy="376200"/>
            <a:chOff x="2030760" y="5418000"/>
            <a:chExt cx="2458080" cy="376200"/>
          </a:xfrm>
        </p:grpSpPr>
        <p:sp>
          <p:nvSpPr>
            <p:cNvPr id="1087" name=""/>
            <p:cNvSpPr/>
            <p:nvPr/>
          </p:nvSpPr>
          <p:spPr>
            <a:xfrm>
              <a:off x="2030760" y="542592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201840" y="5424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055040" y="54180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0014-0554-490A-86AD-00EBFB66930F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9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Switch: filtraggio e inoltro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630360" y="1150560"/>
            <a:ext cx="820080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Quando uno switch riceve un pacchetto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1. Registra il collegamento associato con l’host mitten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2. Indicizza la tabella utilizzando gli indirizzi MA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ry found for destination</a:t>
            </a:r>
            <a:br>
              <a:rPr sz="2400"/>
            </a:b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n{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st on segment from which frame arriv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the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rop the fra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orward the frame on interface indic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floo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9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268080" y="4776840"/>
            <a:ext cx="5250960" cy="8254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Lo inoltra a tutti tranne all’interfac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Comic Sans MS"/>
              </a:rPr>
              <a:t>dalla quale è arrivato il pacchet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 flipH="1" flipV="1">
            <a:off x="2503440" y="4965840"/>
            <a:ext cx="52560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E697-420A-48E1-9AB1-2FECDC2850A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39480" y="696600"/>
            <a:ext cx="550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Autoapprendimento, inoltro: un esempio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095" name="" descr=""/>
          <p:cNvPicPr/>
          <p:nvPr/>
        </p:nvPicPr>
        <p:blipFill>
          <a:blip r:embed="rId1"/>
          <a:stretch/>
        </p:blipFill>
        <p:spPr>
          <a:xfrm>
            <a:off x="5029200" y="218592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096" name="" descr=""/>
          <p:cNvPicPr/>
          <p:nvPr/>
        </p:nvPicPr>
        <p:blipFill>
          <a:blip r:embed="rId2"/>
          <a:stretch/>
        </p:blipFill>
        <p:spPr>
          <a:xfrm>
            <a:off x="7686720" y="331164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097" name=""/>
          <p:cNvSpPr/>
          <p:nvPr/>
        </p:nvSpPr>
        <p:spPr>
          <a:xfrm>
            <a:off x="5575320" y="2583000"/>
            <a:ext cx="754200" cy="433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 flipV="1">
            <a:off x="5637240" y="3200040"/>
            <a:ext cx="679320" cy="6555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 flipV="1">
            <a:off x="6761160" y="2533320"/>
            <a:ext cx="593640" cy="407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835680" y="3016080"/>
            <a:ext cx="939960" cy="39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1" name="" descr=""/>
          <p:cNvPicPr/>
          <p:nvPr/>
        </p:nvPicPr>
        <p:blipFill>
          <a:blip r:embed="rId3"/>
          <a:stretch/>
        </p:blipFill>
        <p:spPr>
          <a:xfrm>
            <a:off x="5365800" y="383688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102" name="" descr=""/>
          <p:cNvPicPr/>
          <p:nvPr/>
        </p:nvPicPr>
        <p:blipFill>
          <a:blip r:embed="rId4"/>
          <a:stretch/>
        </p:blipFill>
        <p:spPr>
          <a:xfrm>
            <a:off x="7297560" y="2201760"/>
            <a:ext cx="611280" cy="520920"/>
          </a:xfrm>
          <a:prstGeom prst="rect">
            <a:avLst/>
          </a:prstGeom>
          <a:ln w="0">
            <a:noFill/>
          </a:ln>
        </p:spPr>
      </p:pic>
      <p:pic>
        <p:nvPicPr>
          <p:cNvPr id="1103" name="" descr=""/>
          <p:cNvPicPr/>
          <p:nvPr/>
        </p:nvPicPr>
        <p:blipFill>
          <a:blip r:embed="rId5"/>
          <a:stretch/>
        </p:blipFill>
        <p:spPr>
          <a:xfrm>
            <a:off x="6203880" y="1622520"/>
            <a:ext cx="611280" cy="520560"/>
          </a:xfrm>
          <a:prstGeom prst="rect">
            <a:avLst/>
          </a:prstGeom>
          <a:ln w="0">
            <a:noFill/>
          </a:ln>
        </p:spPr>
      </p:pic>
      <p:sp>
        <p:nvSpPr>
          <p:cNvPr id="1104" name=""/>
          <p:cNvSpPr/>
          <p:nvPr/>
        </p:nvSpPr>
        <p:spPr>
          <a:xfrm flipH="1" flipV="1">
            <a:off x="6528960" y="2131920"/>
            <a:ext cx="11160" cy="78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5" name=""/>
          <p:cNvGraphicFramePr/>
          <p:nvPr/>
        </p:nvGraphicFramePr>
        <p:xfrm>
          <a:off x="6523200" y="3951360"/>
          <a:ext cx="610920" cy="5205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0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23200" y="3951360"/>
                    <a:ext cx="61092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7" name=""/>
          <p:cNvSpPr/>
          <p:nvPr/>
        </p:nvSpPr>
        <p:spPr>
          <a:xfrm flipH="1" flipV="1">
            <a:off x="6538680" y="3158640"/>
            <a:ext cx="204840" cy="808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423840" y="12430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618240" y="4502160"/>
            <a:ext cx="36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27120" y="191304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97560" y="4398840"/>
            <a:ext cx="36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7917120" y="378000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006160" y="1860480"/>
            <a:ext cx="3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6145200" y="2936880"/>
            <a:ext cx="720720" cy="279360"/>
            <a:chOff x="6145200" y="2936880"/>
            <a:chExt cx="720720" cy="279360"/>
          </a:xfrm>
        </p:grpSpPr>
        <p:sp>
          <p:nvSpPr>
            <p:cNvPr id="1115" name=""/>
            <p:cNvSpPr/>
            <p:nvPr/>
          </p:nvSpPr>
          <p:spPr>
            <a:xfrm>
              <a:off x="6145200" y="307656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216840" y="294480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53280" y="293688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8" name=""/>
          <p:cNvSpPr/>
          <p:nvPr/>
        </p:nvSpPr>
        <p:spPr>
          <a:xfrm>
            <a:off x="6274440" y="26067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6625800" y="2631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903720" y="2784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6587640" y="3165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6157440" y="3227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898600" y="2830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6805800" y="1224000"/>
            <a:ext cx="1401120" cy="368280"/>
            <a:chOff x="6805800" y="1224000"/>
            <a:chExt cx="1401120" cy="368280"/>
          </a:xfrm>
        </p:grpSpPr>
        <p:sp>
          <p:nvSpPr>
            <p:cNvPr id="1125" name=""/>
            <p:cNvSpPr/>
            <p:nvPr/>
          </p:nvSpPr>
          <p:spPr>
            <a:xfrm>
              <a:off x="6811920" y="126828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805800" y="12240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7073640" y="12571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359480" y="126504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6994440" y="525600"/>
            <a:ext cx="1517400" cy="713880"/>
            <a:chOff x="6994440" y="525600"/>
            <a:chExt cx="1517400" cy="713880"/>
          </a:xfrm>
        </p:grpSpPr>
        <p:sp>
          <p:nvSpPr>
            <p:cNvPr id="1130" name=""/>
            <p:cNvSpPr/>
            <p:nvPr/>
          </p:nvSpPr>
          <p:spPr>
            <a:xfrm flipV="1">
              <a:off x="6994440" y="696600"/>
              <a:ext cx="399960" cy="53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V="1">
              <a:off x="7182000" y="942480"/>
              <a:ext cx="217440" cy="29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7383240" y="525600"/>
              <a:ext cx="11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Origine: 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7425000" y="781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Dest: A’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1746000" y="4826160"/>
            <a:ext cx="3005280" cy="1443960"/>
            <a:chOff x="1746000" y="4826160"/>
            <a:chExt cx="3005280" cy="1443960"/>
          </a:xfrm>
        </p:grpSpPr>
        <p:sp>
          <p:nvSpPr>
            <p:cNvPr id="1135" name=""/>
            <p:cNvSpPr/>
            <p:nvPr/>
          </p:nvSpPr>
          <p:spPr>
            <a:xfrm>
              <a:off x="1746000" y="4826160"/>
              <a:ext cx="3005280" cy="143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843920" y="4873680"/>
              <a:ext cx="27838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Indir. MAC </a:t>
              </a:r>
              <a:r>
                <a:rPr b="0" lang="en-US" sz="1600" spc="-1" strike="noStrike">
                  <a:solidFill>
                    <a:srgbClr val="000000"/>
                  </a:solidFill>
                  <a:latin typeface="Comic Sans MS"/>
                </a:rPr>
                <a:t>Interfaccia </a:t>
              </a:r>
              <a:r>
                <a:rPr b="0" lang="en-US" sz="1700" spc="-1" strike="noStrike">
                  <a:solidFill>
                    <a:srgbClr val="000000"/>
                  </a:solidFill>
                  <a:latin typeface="Comic Sans MS"/>
                </a:rPr>
                <a:t> TT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979360" y="482616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149360" y="4830480"/>
              <a:ext cx="0" cy="143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1750680" y="5211720"/>
              <a:ext cx="299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0" name=""/>
          <p:cNvSpPr/>
          <p:nvPr/>
        </p:nvSpPr>
        <p:spPr>
          <a:xfrm>
            <a:off x="5307840" y="5199120"/>
            <a:ext cx="27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Tabella di commu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mic Sans MS"/>
              </a:rPr>
              <a:t>(inizialmente vuot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1" name=""/>
          <p:cNvGrpSpPr/>
          <p:nvPr/>
        </p:nvGrpSpPr>
        <p:grpSpPr>
          <a:xfrm>
            <a:off x="2221200" y="5259240"/>
            <a:ext cx="2458080" cy="376200"/>
            <a:chOff x="2221200" y="5259240"/>
            <a:chExt cx="2458080" cy="376200"/>
          </a:xfrm>
        </p:grpSpPr>
        <p:sp>
          <p:nvSpPr>
            <p:cNvPr id="1142" name=""/>
            <p:cNvSpPr/>
            <p:nvPr/>
          </p:nvSpPr>
          <p:spPr>
            <a:xfrm>
              <a:off x="2221200" y="526716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392280" y="52657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245480" y="525924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5" name=""/>
          <p:cNvGrpSpPr/>
          <p:nvPr/>
        </p:nvGrpSpPr>
        <p:grpSpPr>
          <a:xfrm>
            <a:off x="5826240" y="2881440"/>
            <a:ext cx="1401120" cy="368280"/>
            <a:chOff x="5826240" y="2881440"/>
            <a:chExt cx="1401120" cy="368280"/>
          </a:xfrm>
        </p:grpSpPr>
        <p:sp>
          <p:nvSpPr>
            <p:cNvPr id="1146" name=""/>
            <p:cNvSpPr/>
            <p:nvPr/>
          </p:nvSpPr>
          <p:spPr>
            <a:xfrm>
              <a:off x="5832360" y="292572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26240" y="28814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094080" y="29145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79920" y="29224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5826240" y="2879640"/>
            <a:ext cx="1401120" cy="368280"/>
            <a:chOff x="5826240" y="2879640"/>
            <a:chExt cx="1401120" cy="368280"/>
          </a:xfrm>
        </p:grpSpPr>
        <p:sp>
          <p:nvSpPr>
            <p:cNvPr id="1151" name=""/>
            <p:cNvSpPr/>
            <p:nvPr/>
          </p:nvSpPr>
          <p:spPr>
            <a:xfrm>
              <a:off x="5832360" y="292392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26240" y="28796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094080" y="29127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79920" y="2920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5826240" y="2882880"/>
            <a:ext cx="1401120" cy="368280"/>
            <a:chOff x="5826240" y="2882880"/>
            <a:chExt cx="1401120" cy="368280"/>
          </a:xfrm>
        </p:grpSpPr>
        <p:sp>
          <p:nvSpPr>
            <p:cNvPr id="1156" name=""/>
            <p:cNvSpPr/>
            <p:nvPr/>
          </p:nvSpPr>
          <p:spPr>
            <a:xfrm>
              <a:off x="5832360" y="29271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26240" y="28828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094080" y="29160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79920" y="2923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0" name=""/>
          <p:cNvGrpSpPr/>
          <p:nvPr/>
        </p:nvGrpSpPr>
        <p:grpSpPr>
          <a:xfrm>
            <a:off x="5826240" y="2882880"/>
            <a:ext cx="1401120" cy="368280"/>
            <a:chOff x="5826240" y="2882880"/>
            <a:chExt cx="1401120" cy="368280"/>
          </a:xfrm>
        </p:grpSpPr>
        <p:sp>
          <p:nvSpPr>
            <p:cNvPr id="1161" name=""/>
            <p:cNvSpPr/>
            <p:nvPr/>
          </p:nvSpPr>
          <p:spPr>
            <a:xfrm>
              <a:off x="5832360" y="2927160"/>
              <a:ext cx="139500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826240" y="288288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094080" y="291600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79920" y="29239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5823360" y="2879640"/>
            <a:ext cx="1401480" cy="368280"/>
            <a:chOff x="5823360" y="2879640"/>
            <a:chExt cx="1401480" cy="368280"/>
          </a:xfrm>
        </p:grpSpPr>
        <p:sp>
          <p:nvSpPr>
            <p:cNvPr id="1166" name=""/>
            <p:cNvSpPr/>
            <p:nvPr/>
          </p:nvSpPr>
          <p:spPr>
            <a:xfrm>
              <a:off x="5829480" y="292392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823360" y="287964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 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091200" y="291276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77040" y="292068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351000" y="2411280"/>
            <a:ext cx="404496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azione del frame ignota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1" name=""/>
          <p:cNvSpPr/>
          <p:nvPr/>
        </p:nvSpPr>
        <p:spPr>
          <a:xfrm>
            <a:off x="3156840" y="2892600"/>
            <a:ext cx="8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6158160" y="3981600"/>
            <a:ext cx="1401480" cy="368280"/>
            <a:chOff x="6158160" y="3981600"/>
            <a:chExt cx="1401480" cy="368280"/>
          </a:xfrm>
        </p:grpSpPr>
        <p:sp>
          <p:nvSpPr>
            <p:cNvPr id="1173" name=""/>
            <p:cNvSpPr/>
            <p:nvPr/>
          </p:nvSpPr>
          <p:spPr>
            <a:xfrm>
              <a:off x="6164280" y="4025880"/>
              <a:ext cx="1395360" cy="263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158160" y="3981600"/>
              <a:ext cx="57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A’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459480" y="4014720"/>
              <a:ext cx="0" cy="26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711840" y="4022640"/>
              <a:ext cx="0" cy="26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"/>
          <p:cNvSpPr/>
          <p:nvPr/>
        </p:nvSpPr>
        <p:spPr>
          <a:xfrm>
            <a:off x="365040" y="3328920"/>
            <a:ext cx="404496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stinazione A, location no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8" name=""/>
          <p:cNvGrpSpPr/>
          <p:nvPr/>
        </p:nvGrpSpPr>
        <p:grpSpPr>
          <a:xfrm>
            <a:off x="2202840" y="5545080"/>
            <a:ext cx="2457360" cy="376200"/>
            <a:chOff x="2202840" y="5545080"/>
            <a:chExt cx="2457360" cy="376200"/>
          </a:xfrm>
        </p:grpSpPr>
        <p:sp>
          <p:nvSpPr>
            <p:cNvPr id="1179" name=""/>
            <p:cNvSpPr/>
            <p:nvPr/>
          </p:nvSpPr>
          <p:spPr>
            <a:xfrm>
              <a:off x="2202840" y="55530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A’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391200" y="5551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226400" y="55450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2" name=""/>
          <p:cNvSpPr/>
          <p:nvPr/>
        </p:nvSpPr>
        <p:spPr>
          <a:xfrm>
            <a:off x="771480" y="4267080"/>
            <a:ext cx="40449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selective s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0829-3FA0-4DA4-A2FC-439B7134424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"/>
          <p:cNvSpPr/>
          <p:nvPr/>
        </p:nvSpPr>
        <p:spPr>
          <a:xfrm>
            <a:off x="546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ollegare gli swi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698400" y="1320840"/>
            <a:ext cx="788220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li switch possono essere interconnes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5" name="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186" name="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187" name="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188" name="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192" name="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5" name="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690480" y="4535640"/>
            <a:ext cx="78822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er inviare da A a G, come fa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 sapere che deve inoltrare il frame attraverso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e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utoapprende! (funziona esattamente come nel caso di unsingolo switch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2379600" y="1984320"/>
            <a:ext cx="4890960" cy="2043000"/>
            <a:chOff x="2379600" y="1984320"/>
            <a:chExt cx="4890960" cy="2043000"/>
          </a:xfrm>
        </p:grpSpPr>
        <p:pic>
          <p:nvPicPr>
            <p:cNvPr id="1201" name="" descr=""/>
            <p:cNvPicPr/>
            <p:nvPr/>
          </p:nvPicPr>
          <p:blipFill>
            <a:blip r:embed="rId4"/>
            <a:stretch/>
          </p:blipFill>
          <p:spPr>
            <a:xfrm>
              <a:off x="4351320" y="335916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2" name="" descr=""/>
            <p:cNvPicPr/>
            <p:nvPr/>
          </p:nvPicPr>
          <p:blipFill>
            <a:blip r:embed="rId5"/>
            <a:stretch/>
          </p:blipFill>
          <p:spPr>
            <a:xfrm>
              <a:off x="5164200" y="331308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3" name="" descr=""/>
            <p:cNvPicPr/>
            <p:nvPr/>
          </p:nvPicPr>
          <p:blipFill>
            <a:blip r:embed="rId6"/>
            <a:stretch/>
          </p:blipFill>
          <p:spPr>
            <a:xfrm>
              <a:off x="3246480" y="3206880"/>
              <a:ext cx="417600" cy="33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4" name="" descr=""/>
            <p:cNvPicPr/>
            <p:nvPr/>
          </p:nvPicPr>
          <p:blipFill>
            <a:blip r:embed="rId7"/>
            <a:stretch/>
          </p:blipFill>
          <p:spPr>
            <a:xfrm>
              <a:off x="3684600" y="368460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5" name="" descr=""/>
            <p:cNvPicPr/>
            <p:nvPr/>
          </p:nvPicPr>
          <p:blipFill>
            <a:blip r:embed="rId8"/>
            <a:stretch/>
          </p:blipFill>
          <p:spPr>
            <a:xfrm>
              <a:off x="6624720" y="317484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6" name="" descr=""/>
            <p:cNvPicPr/>
            <p:nvPr/>
          </p:nvPicPr>
          <p:blipFill>
            <a:blip r:embed="rId9"/>
            <a:stretch/>
          </p:blipFill>
          <p:spPr>
            <a:xfrm>
              <a:off x="5870520" y="3544920"/>
              <a:ext cx="417600" cy="33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7" name=""/>
            <p:cNvSpPr/>
            <p:nvPr/>
          </p:nvSpPr>
          <p:spPr>
            <a:xfrm flipH="1">
              <a:off x="3635280" y="3068640"/>
              <a:ext cx="346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 flipH="1">
              <a:off x="3949200" y="3087720"/>
              <a:ext cx="12564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54480" y="3030480"/>
              <a:ext cx="230040" cy="3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 flipH="1">
              <a:off x="5532120" y="3106800"/>
              <a:ext cx="42876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6035760" y="3078000"/>
              <a:ext cx="9360" cy="47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 flipH="1">
              <a:off x="2379600" y="2355840"/>
              <a:ext cx="1517760" cy="53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00480" y="2322360"/>
              <a:ext cx="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 flipH="1" flipV="1">
              <a:off x="4622760" y="2273040"/>
              <a:ext cx="1233360" cy="71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5" name=""/>
            <p:cNvGrpSpPr/>
            <p:nvPr/>
          </p:nvGrpSpPr>
          <p:grpSpPr>
            <a:xfrm>
              <a:off x="3870360" y="2147760"/>
              <a:ext cx="720720" cy="279360"/>
              <a:chOff x="3870360" y="2147760"/>
              <a:chExt cx="720720" cy="279360"/>
            </a:xfrm>
          </p:grpSpPr>
          <p:sp>
            <p:nvSpPr>
              <p:cNvPr id="1216" name=""/>
              <p:cNvSpPr/>
              <p:nvPr/>
            </p:nvSpPr>
            <p:spPr>
              <a:xfrm>
                <a:off x="3870360" y="22874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42000" y="21556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4078440" y="21477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9" name=""/>
            <p:cNvGrpSpPr/>
            <p:nvPr/>
          </p:nvGrpSpPr>
          <p:grpSpPr>
            <a:xfrm>
              <a:off x="5668920" y="2928960"/>
              <a:ext cx="720720" cy="279360"/>
              <a:chOff x="5668920" y="2928960"/>
              <a:chExt cx="720720" cy="279360"/>
            </a:xfrm>
          </p:grpSpPr>
          <p:sp>
            <p:nvSpPr>
              <p:cNvPr id="1220" name=""/>
              <p:cNvSpPr/>
              <p:nvPr/>
            </p:nvSpPr>
            <p:spPr>
              <a:xfrm>
                <a:off x="5668920" y="30686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740560" y="29368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77000" y="29289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3" name=""/>
            <p:cNvGrpSpPr/>
            <p:nvPr/>
          </p:nvGrpSpPr>
          <p:grpSpPr>
            <a:xfrm>
              <a:off x="3821040" y="2887560"/>
              <a:ext cx="720720" cy="279360"/>
              <a:chOff x="3821040" y="2887560"/>
              <a:chExt cx="720720" cy="279360"/>
            </a:xfrm>
          </p:grpSpPr>
          <p:sp>
            <p:nvSpPr>
              <p:cNvPr id="1224" name=""/>
              <p:cNvSpPr/>
              <p:nvPr/>
            </p:nvSpPr>
            <p:spPr>
              <a:xfrm>
                <a:off x="3821040" y="3027240"/>
                <a:ext cx="646200" cy="1396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3892680" y="2895480"/>
                <a:ext cx="649080" cy="107640"/>
              </a:xfrm>
              <a:custGeom>
                <a:avLst/>
                <a:gdLst/>
                <a:ahLst/>
                <a:rect l="l" t="t" r="r" b="b"/>
                <a:pathLst>
                  <a:path w="280" h="63">
                    <a:moveTo>
                      <a:pt x="0" y="63"/>
                    </a:moveTo>
                    <a:lnTo>
                      <a:pt x="37" y="62"/>
                    </a:lnTo>
                    <a:lnTo>
                      <a:pt x="219" y="0"/>
                    </a:lnTo>
                    <a:lnTo>
                      <a:pt x="28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4029120" y="2887560"/>
                <a:ext cx="398520" cy="118800"/>
              </a:xfrm>
              <a:custGeom>
                <a:avLst/>
                <a:gdLst/>
                <a:ahLst/>
                <a:rect l="l" t="t" r="r" b="b"/>
                <a:pathLst>
                  <a:path w="148" h="74">
                    <a:moveTo>
                      <a:pt x="0" y="0"/>
                    </a:moveTo>
                    <a:lnTo>
                      <a:pt x="40" y="0"/>
                    </a:lnTo>
                    <a:lnTo>
                      <a:pt x="102" y="74"/>
                    </a:lnTo>
                    <a:lnTo>
                      <a:pt x="148" y="74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7" name=""/>
            <p:cNvSpPr/>
            <p:nvPr/>
          </p:nvSpPr>
          <p:spPr>
            <a:xfrm>
              <a:off x="6411960" y="3132000"/>
              <a:ext cx="28584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621600" y="322272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104000" y="3659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78480" y="30574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3435480" y="276876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662720" y="198432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6037560" y="2570040"/>
              <a:ext cx="381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S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245640" y="3541680"/>
              <a:ext cx="34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012080" y="317988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100480" y="3595680"/>
              <a:ext cx="34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D06F-41E0-4D05-A8E4-CDE5D7F4445D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"/>
          <p:cNvSpPr/>
          <p:nvPr/>
        </p:nvSpPr>
        <p:spPr>
          <a:xfrm>
            <a:off x="495360" y="0"/>
            <a:ext cx="8121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3333cc"/>
                </a:solidFill>
                <a:uFillTx/>
                <a:latin typeface="Comic Sans MS"/>
              </a:rPr>
              <a:t>Esempio di apprendimento multi-swit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550800" y="1139760"/>
            <a:ext cx="818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omic Sans MS"/>
              </a:rPr>
              <a:t>Supponiamo che C invii un frame a I, e che I risponda a C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14240" y="4664160"/>
            <a:ext cx="7772400" cy="18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llustrate le tabelle di commutazione e l’inoltro dei pacchetti in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, 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" descr=""/>
          <p:cNvPicPr/>
          <p:nvPr/>
        </p:nvPicPr>
        <p:blipFill>
          <a:blip r:embed="rId1"/>
          <a:stretch/>
        </p:blipFill>
        <p:spPr>
          <a:xfrm>
            <a:off x="1646280" y="3346560"/>
            <a:ext cx="415800" cy="339480"/>
          </a:xfrm>
          <a:prstGeom prst="rect">
            <a:avLst/>
          </a:prstGeom>
          <a:ln w="0">
            <a:noFill/>
          </a:ln>
        </p:spPr>
      </p:pic>
      <p:pic>
        <p:nvPicPr>
          <p:cNvPr id="1241" name="" descr=""/>
          <p:cNvPicPr/>
          <p:nvPr/>
        </p:nvPicPr>
        <p:blipFill>
          <a:blip r:embed="rId2"/>
          <a:stretch/>
        </p:blipFill>
        <p:spPr>
          <a:xfrm>
            <a:off x="2305080" y="33717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42" name="" descr=""/>
          <p:cNvPicPr/>
          <p:nvPr/>
        </p:nvPicPr>
        <p:blipFill>
          <a:blip r:embed="rId3"/>
          <a:stretch/>
        </p:blipFill>
        <p:spPr>
          <a:xfrm>
            <a:off x="1206360" y="286704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243" name=""/>
          <p:cNvSpPr/>
          <p:nvPr/>
        </p:nvSpPr>
        <p:spPr>
          <a:xfrm flipH="1">
            <a:off x="1582560" y="30304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 flipH="1">
            <a:off x="1969560" y="3078000"/>
            <a:ext cx="271800" cy="31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389320" y="3106800"/>
            <a:ext cx="72720" cy="295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2006640" y="2822400"/>
            <a:ext cx="720720" cy="279360"/>
            <a:chOff x="2006640" y="2822400"/>
            <a:chExt cx="720720" cy="279360"/>
          </a:xfrm>
        </p:grpSpPr>
        <p:sp>
          <p:nvSpPr>
            <p:cNvPr id="1247" name=""/>
            <p:cNvSpPr/>
            <p:nvPr/>
          </p:nvSpPr>
          <p:spPr>
            <a:xfrm>
              <a:off x="2006640" y="296208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2078280" y="283032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2214720" y="282240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0" name=""/>
          <p:cNvSpPr/>
          <p:nvPr/>
        </p:nvSpPr>
        <p:spPr>
          <a:xfrm>
            <a:off x="970560" y="2844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407240" y="33066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2195640" y="2444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2654280" y="329868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4" name="" descr=""/>
          <p:cNvPicPr/>
          <p:nvPr/>
        </p:nvPicPr>
        <p:blipFill>
          <a:blip r:embed="rId4"/>
          <a:stretch/>
        </p:blipFill>
        <p:spPr>
          <a:xfrm>
            <a:off x="4351320" y="335916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5" name="" descr=""/>
          <p:cNvPicPr/>
          <p:nvPr/>
        </p:nvPicPr>
        <p:blipFill>
          <a:blip r:embed="rId5"/>
          <a:stretch/>
        </p:blipFill>
        <p:spPr>
          <a:xfrm>
            <a:off x="5164200" y="331308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6" name="" descr=""/>
          <p:cNvPicPr/>
          <p:nvPr/>
        </p:nvPicPr>
        <p:blipFill>
          <a:blip r:embed="rId6"/>
          <a:stretch/>
        </p:blipFill>
        <p:spPr>
          <a:xfrm>
            <a:off x="3246480" y="3206880"/>
            <a:ext cx="417600" cy="339480"/>
          </a:xfrm>
          <a:prstGeom prst="rect">
            <a:avLst/>
          </a:prstGeom>
          <a:ln w="0">
            <a:noFill/>
          </a:ln>
        </p:spPr>
      </p:pic>
      <p:pic>
        <p:nvPicPr>
          <p:cNvPr id="1257" name="" descr=""/>
          <p:cNvPicPr/>
          <p:nvPr/>
        </p:nvPicPr>
        <p:blipFill>
          <a:blip r:embed="rId7"/>
          <a:stretch/>
        </p:blipFill>
        <p:spPr>
          <a:xfrm>
            <a:off x="3684600" y="368460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8" name="" descr=""/>
          <p:cNvPicPr/>
          <p:nvPr/>
        </p:nvPicPr>
        <p:blipFill>
          <a:blip r:embed="rId8"/>
          <a:stretch/>
        </p:blipFill>
        <p:spPr>
          <a:xfrm>
            <a:off x="6624720" y="3174840"/>
            <a:ext cx="417600" cy="339840"/>
          </a:xfrm>
          <a:prstGeom prst="rect">
            <a:avLst/>
          </a:prstGeom>
          <a:ln w="0">
            <a:noFill/>
          </a:ln>
        </p:spPr>
      </p:pic>
      <p:pic>
        <p:nvPicPr>
          <p:cNvPr id="1259" name="" descr=""/>
          <p:cNvPicPr/>
          <p:nvPr/>
        </p:nvPicPr>
        <p:blipFill>
          <a:blip r:embed="rId9"/>
          <a:stretch/>
        </p:blipFill>
        <p:spPr>
          <a:xfrm>
            <a:off x="5870520" y="3544920"/>
            <a:ext cx="417600" cy="339840"/>
          </a:xfrm>
          <a:prstGeom prst="rect">
            <a:avLst/>
          </a:prstGeom>
          <a:ln w="0">
            <a:noFill/>
          </a:ln>
        </p:spPr>
      </p:pic>
      <p:sp>
        <p:nvSpPr>
          <p:cNvPr id="1260" name=""/>
          <p:cNvSpPr/>
          <p:nvPr/>
        </p:nvSpPr>
        <p:spPr>
          <a:xfrm flipH="1">
            <a:off x="3635280" y="3068640"/>
            <a:ext cx="3463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H="1">
            <a:off x="3949200" y="3087720"/>
            <a:ext cx="125640" cy="58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254480" y="3030480"/>
            <a:ext cx="230040" cy="3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H="1">
            <a:off x="5532120" y="3106800"/>
            <a:ext cx="428760" cy="24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H="1">
            <a:off x="6035760" y="3078000"/>
            <a:ext cx="9360" cy="470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H="1">
            <a:off x="2379600" y="2355840"/>
            <a:ext cx="1517760" cy="53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4200480" y="2322360"/>
            <a:ext cx="0" cy="60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H="1" flipV="1">
            <a:off x="4622760" y="2273040"/>
            <a:ext cx="123336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8" name=""/>
          <p:cNvGrpSpPr/>
          <p:nvPr/>
        </p:nvGrpSpPr>
        <p:grpSpPr>
          <a:xfrm>
            <a:off x="3870360" y="2147760"/>
            <a:ext cx="720720" cy="279360"/>
            <a:chOff x="3870360" y="2147760"/>
            <a:chExt cx="720720" cy="279360"/>
          </a:xfrm>
        </p:grpSpPr>
        <p:sp>
          <p:nvSpPr>
            <p:cNvPr id="1269" name=""/>
            <p:cNvSpPr/>
            <p:nvPr/>
          </p:nvSpPr>
          <p:spPr>
            <a:xfrm>
              <a:off x="3870360" y="22874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3942000" y="21556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078440" y="21477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5668920" y="2928960"/>
            <a:ext cx="720720" cy="279360"/>
            <a:chOff x="5668920" y="2928960"/>
            <a:chExt cx="720720" cy="279360"/>
          </a:xfrm>
        </p:grpSpPr>
        <p:sp>
          <p:nvSpPr>
            <p:cNvPr id="1273" name=""/>
            <p:cNvSpPr/>
            <p:nvPr/>
          </p:nvSpPr>
          <p:spPr>
            <a:xfrm>
              <a:off x="5668920" y="30686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740560" y="29368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877000" y="29289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6" name=""/>
          <p:cNvGrpSpPr/>
          <p:nvPr/>
        </p:nvGrpSpPr>
        <p:grpSpPr>
          <a:xfrm>
            <a:off x="3821040" y="2887560"/>
            <a:ext cx="720720" cy="279360"/>
            <a:chOff x="3821040" y="2887560"/>
            <a:chExt cx="720720" cy="279360"/>
          </a:xfrm>
        </p:grpSpPr>
        <p:sp>
          <p:nvSpPr>
            <p:cNvPr id="1277" name=""/>
            <p:cNvSpPr/>
            <p:nvPr/>
          </p:nvSpPr>
          <p:spPr>
            <a:xfrm>
              <a:off x="3821040" y="3027240"/>
              <a:ext cx="646200" cy="1396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92680" y="2895480"/>
              <a:ext cx="649080" cy="107640"/>
            </a:xfrm>
            <a:custGeom>
              <a:avLst/>
              <a:gdLst/>
              <a:ahLst/>
              <a:rect l="l" t="t" r="r" b="b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029120" y="2887560"/>
              <a:ext cx="398520" cy="118800"/>
            </a:xfrm>
            <a:custGeom>
              <a:avLst/>
              <a:gdLst/>
              <a:ahLst/>
              <a:rect l="l" t="t" r="r" b="b"/>
              <a:pathLst>
                <a:path w="148" h="74">
                  <a:moveTo>
                    <a:pt x="0" y="0"/>
                  </a:moveTo>
                  <a:lnTo>
                    <a:pt x="40" y="0"/>
                  </a:lnTo>
                  <a:lnTo>
                    <a:pt x="102" y="74"/>
                  </a:lnTo>
                  <a:lnTo>
                    <a:pt x="148" y="74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0" name=""/>
          <p:cNvSpPr/>
          <p:nvPr/>
        </p:nvSpPr>
        <p:spPr>
          <a:xfrm>
            <a:off x="6411960" y="3132000"/>
            <a:ext cx="28584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3621600" y="32227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104000" y="36590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578480" y="3057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35480" y="276876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62720" y="198432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6037560" y="2570040"/>
            <a:ext cx="381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6245640" y="35416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7012080" y="31798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100480" y="359568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3566160" y="2070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965040" y="2462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D71-B5FD-4F93-9018-FA6EFA45E3C1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 rot="5400000">
            <a:off x="2404080" y="-116640"/>
            <a:ext cx="4632120" cy="843444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Esempio di rete di un’istituzione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294" name=""/>
          <p:cNvSpPr/>
          <p:nvPr/>
        </p:nvSpPr>
        <p:spPr>
          <a:xfrm>
            <a:off x="4062240" y="498312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" descr=""/>
          <p:cNvPicPr/>
          <p:nvPr/>
        </p:nvPicPr>
        <p:blipFill>
          <a:blip r:embed="rId1"/>
          <a:stretch/>
        </p:blipFill>
        <p:spPr>
          <a:xfrm>
            <a:off x="1249200" y="540072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296" name="" descr=""/>
          <p:cNvPicPr/>
          <p:nvPr/>
        </p:nvPicPr>
        <p:blipFill>
          <a:blip r:embed="rId2"/>
          <a:stretch/>
        </p:blipFill>
        <p:spPr>
          <a:xfrm>
            <a:off x="4575240" y="54180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297" name="" descr=""/>
          <p:cNvPicPr/>
          <p:nvPr/>
        </p:nvPicPr>
        <p:blipFill>
          <a:blip r:embed="rId3"/>
          <a:stretch/>
        </p:blipFill>
        <p:spPr>
          <a:xfrm>
            <a:off x="5575320" y="5357880"/>
            <a:ext cx="512640" cy="447480"/>
          </a:xfrm>
          <a:prstGeom prst="rect">
            <a:avLst/>
          </a:prstGeom>
          <a:ln w="0">
            <a:noFill/>
          </a:ln>
        </p:spPr>
      </p:pic>
      <p:pic>
        <p:nvPicPr>
          <p:cNvPr id="1298" name="" descr=""/>
          <p:cNvPicPr/>
          <p:nvPr/>
        </p:nvPicPr>
        <p:blipFill>
          <a:blip r:embed="rId4"/>
          <a:stretch/>
        </p:blipFill>
        <p:spPr>
          <a:xfrm>
            <a:off x="2060640" y="5433840"/>
            <a:ext cx="512640" cy="447840"/>
          </a:xfrm>
          <a:prstGeom prst="rect">
            <a:avLst/>
          </a:prstGeom>
          <a:ln w="0">
            <a:noFill/>
          </a:ln>
        </p:spPr>
      </p:pic>
      <p:sp>
        <p:nvSpPr>
          <p:cNvPr id="1299" name=""/>
          <p:cNvSpPr/>
          <p:nvPr/>
        </p:nvSpPr>
        <p:spPr>
          <a:xfrm>
            <a:off x="6326280" y="499428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1857240" y="4979880"/>
            <a:ext cx="355680" cy="88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1" name="" descr=""/>
          <p:cNvPicPr/>
          <p:nvPr/>
        </p:nvPicPr>
        <p:blipFill>
          <a:blip r:embed="rId5"/>
          <a:stretch/>
        </p:blipFill>
        <p:spPr>
          <a:xfrm>
            <a:off x="3218040" y="521640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302" name="" descr=""/>
          <p:cNvPicPr/>
          <p:nvPr/>
        </p:nvPicPr>
        <p:blipFill>
          <a:blip r:embed="rId6"/>
          <a:stretch/>
        </p:blipFill>
        <p:spPr>
          <a:xfrm>
            <a:off x="3755880" y="5846760"/>
            <a:ext cx="513000" cy="447840"/>
          </a:xfrm>
          <a:prstGeom prst="rect">
            <a:avLst/>
          </a:prstGeom>
          <a:ln w="0">
            <a:noFill/>
          </a:ln>
        </p:spPr>
      </p:pic>
      <p:pic>
        <p:nvPicPr>
          <p:cNvPr id="1303" name="" descr=""/>
          <p:cNvPicPr/>
          <p:nvPr/>
        </p:nvPicPr>
        <p:blipFill>
          <a:blip r:embed="rId7"/>
          <a:stretch/>
        </p:blipFill>
        <p:spPr>
          <a:xfrm>
            <a:off x="7370640" y="5175360"/>
            <a:ext cx="513000" cy="447480"/>
          </a:xfrm>
          <a:prstGeom prst="rect">
            <a:avLst/>
          </a:prstGeom>
          <a:ln w="0">
            <a:noFill/>
          </a:ln>
        </p:spPr>
      </p:pic>
      <p:pic>
        <p:nvPicPr>
          <p:cNvPr id="1304" name="" descr=""/>
          <p:cNvPicPr/>
          <p:nvPr/>
        </p:nvPicPr>
        <p:blipFill>
          <a:blip r:embed="rId8"/>
          <a:stretch/>
        </p:blipFill>
        <p:spPr>
          <a:xfrm>
            <a:off x="6443640" y="5662440"/>
            <a:ext cx="512640" cy="447840"/>
          </a:xfrm>
          <a:prstGeom prst="rect">
            <a:avLst/>
          </a:prstGeom>
          <a:ln w="0">
            <a:noFill/>
          </a:ln>
        </p:spPr>
      </p:pic>
      <p:pic>
        <p:nvPicPr>
          <p:cNvPr id="1305" name="" descr=""/>
          <p:cNvPicPr/>
          <p:nvPr/>
        </p:nvPicPr>
        <p:blipFill>
          <a:blip r:embed="rId9"/>
          <a:stretch/>
        </p:blipFill>
        <p:spPr>
          <a:xfrm>
            <a:off x="709560" y="4768920"/>
            <a:ext cx="512640" cy="447480"/>
          </a:xfrm>
          <a:prstGeom prst="rect">
            <a:avLst/>
          </a:prstGeom>
          <a:ln w="0">
            <a:noFill/>
          </a:ln>
        </p:spPr>
      </p:pic>
      <p:sp>
        <p:nvSpPr>
          <p:cNvPr id="1306" name=""/>
          <p:cNvSpPr/>
          <p:nvPr/>
        </p:nvSpPr>
        <p:spPr>
          <a:xfrm flipH="1">
            <a:off x="1171080" y="4984920"/>
            <a:ext cx="68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 flipH="1">
            <a:off x="1647360" y="5048280"/>
            <a:ext cx="335160" cy="41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163600" y="5086440"/>
            <a:ext cx="88920" cy="38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 flipH="1">
            <a:off x="3695760" y="5035680"/>
            <a:ext cx="425520" cy="284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H="1">
            <a:off x="4080960" y="5060880"/>
            <a:ext cx="155880" cy="77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456080" y="4984920"/>
            <a:ext cx="282600" cy="47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 flipH="1">
            <a:off x="6027840" y="5086440"/>
            <a:ext cx="52704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 flipH="1">
            <a:off x="6644880" y="5048280"/>
            <a:ext cx="12600" cy="61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6799320" y="4944960"/>
            <a:ext cx="631800" cy="32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5" name=""/>
          <p:cNvGrpSpPr/>
          <p:nvPr/>
        </p:nvGrpSpPr>
        <p:grpSpPr>
          <a:xfrm>
            <a:off x="4125960" y="3052800"/>
            <a:ext cx="457200" cy="331920"/>
            <a:chOff x="4125960" y="3052800"/>
            <a:chExt cx="457200" cy="331920"/>
          </a:xfrm>
        </p:grpSpPr>
        <p:sp>
          <p:nvSpPr>
            <p:cNvPr id="1316" name=""/>
            <p:cNvSpPr/>
            <p:nvPr/>
          </p:nvSpPr>
          <p:spPr>
            <a:xfrm>
              <a:off x="4583160" y="30528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125960" y="3281400"/>
              <a:ext cx="423720" cy="1033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18" name=""/>
            <p:cNvGrpSpPr/>
            <p:nvPr/>
          </p:nvGrpSpPr>
          <p:grpSpPr>
            <a:xfrm>
              <a:off x="4354200" y="3129120"/>
              <a:ext cx="173160" cy="144360"/>
              <a:chOff x="4354200" y="3129120"/>
              <a:chExt cx="173160" cy="144360"/>
            </a:xfrm>
          </p:grpSpPr>
          <p:sp>
            <p:nvSpPr>
              <p:cNvPr id="1319" name=""/>
              <p:cNvSpPr/>
              <p:nvPr/>
            </p:nvSpPr>
            <p:spPr>
              <a:xfrm>
                <a:off x="4383360" y="3129120"/>
                <a:ext cx="11520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H="1">
                <a:off x="4354200" y="3129120"/>
                <a:ext cx="173160" cy="144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1" name=""/>
          <p:cNvSpPr/>
          <p:nvPr/>
        </p:nvSpPr>
        <p:spPr>
          <a:xfrm flipH="1">
            <a:off x="2150640" y="3387600"/>
            <a:ext cx="204804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390920" y="3375000"/>
            <a:ext cx="0" cy="146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flipH="1" flipV="1">
            <a:off x="4584600" y="3309480"/>
            <a:ext cx="1841760" cy="162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2368440" y="4721400"/>
            <a:ext cx="5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65880" y="473220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818400" y="4565520"/>
            <a:ext cx="60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4701960" y="31748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8" name=""/>
          <p:cNvGrpSpPr/>
          <p:nvPr/>
        </p:nvGrpSpPr>
        <p:grpSpPr>
          <a:xfrm>
            <a:off x="5910120" y="2484360"/>
            <a:ext cx="237960" cy="483840"/>
            <a:chOff x="5910120" y="2484360"/>
            <a:chExt cx="237960" cy="483840"/>
          </a:xfrm>
        </p:grpSpPr>
        <p:sp>
          <p:nvSpPr>
            <p:cNvPr id="1329" name=""/>
            <p:cNvSpPr/>
            <p:nvPr/>
          </p:nvSpPr>
          <p:spPr>
            <a:xfrm>
              <a:off x="5910120" y="285660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030720" y="248724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911560" y="259272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910120" y="248436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148080" y="249192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 flipH="1">
              <a:off x="6062400" y="285660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930640" y="264204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945040" y="270648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7" name=""/>
          <p:cNvGrpSpPr/>
          <p:nvPr/>
        </p:nvGrpSpPr>
        <p:grpSpPr>
          <a:xfrm>
            <a:off x="5149800" y="1992240"/>
            <a:ext cx="237960" cy="483840"/>
            <a:chOff x="5149800" y="1992240"/>
            <a:chExt cx="237960" cy="483840"/>
          </a:xfrm>
        </p:grpSpPr>
        <p:sp>
          <p:nvSpPr>
            <p:cNvPr id="1338" name=""/>
            <p:cNvSpPr/>
            <p:nvPr/>
          </p:nvSpPr>
          <p:spPr>
            <a:xfrm>
              <a:off x="5149800" y="236448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270400" y="1995120"/>
              <a:ext cx="109440" cy="3718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151240" y="2100600"/>
              <a:ext cx="150840" cy="3722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149800" y="1992240"/>
              <a:ext cx="237960" cy="111600"/>
            </a:xfrm>
            <a:prstGeom prst="parallelogram">
              <a:avLst>
                <a:gd name="adj" fmla="val 82141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87760" y="1999800"/>
              <a:ext cx="0" cy="36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5302080" y="2364480"/>
              <a:ext cx="85680" cy="10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170320" y="2149920"/>
              <a:ext cx="100080" cy="2145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184720" y="2214360"/>
              <a:ext cx="7596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6" name=""/>
          <p:cNvSpPr/>
          <p:nvPr/>
        </p:nvSpPr>
        <p:spPr>
          <a:xfrm flipV="1">
            <a:off x="4687920" y="2692080"/>
            <a:ext cx="1224000" cy="42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481640" y="2370240"/>
            <a:ext cx="669960" cy="75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"/>
          <p:cNvGrpSpPr/>
          <p:nvPr/>
        </p:nvGrpSpPr>
        <p:grpSpPr>
          <a:xfrm>
            <a:off x="2843280" y="2313000"/>
            <a:ext cx="569880" cy="285120"/>
            <a:chOff x="2843280" y="2313000"/>
            <a:chExt cx="569880" cy="285120"/>
          </a:xfrm>
        </p:grpSpPr>
        <p:grpSp>
          <p:nvGrpSpPr>
            <p:cNvPr id="1349" name=""/>
            <p:cNvGrpSpPr/>
            <p:nvPr/>
          </p:nvGrpSpPr>
          <p:grpSpPr>
            <a:xfrm>
              <a:off x="2843280" y="2313000"/>
              <a:ext cx="569880" cy="285120"/>
              <a:chOff x="2843280" y="2313000"/>
              <a:chExt cx="569880" cy="285120"/>
            </a:xfrm>
          </p:grpSpPr>
          <p:sp>
            <p:nvSpPr>
              <p:cNvPr id="1350" name=""/>
              <p:cNvSpPr/>
              <p:nvPr/>
            </p:nvSpPr>
            <p:spPr>
              <a:xfrm>
                <a:off x="2847960" y="2439720"/>
                <a:ext cx="564840" cy="15840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8479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3413160" y="2427120"/>
                <a:ext cx="0" cy="97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2847960" y="2427120"/>
                <a:ext cx="559800" cy="9648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2843280" y="2313000"/>
                <a:ext cx="564840" cy="183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2979720" y="2354040"/>
                <a:ext cx="278640" cy="107640"/>
                <a:chOff x="2979720" y="2354040"/>
                <a:chExt cx="278640" cy="107640"/>
              </a:xfrm>
            </p:grpSpPr>
            <p:sp>
              <p:nvSpPr>
                <p:cNvPr id="1356" name=""/>
                <p:cNvSpPr/>
                <p:nvPr/>
              </p:nvSpPr>
              <p:spPr>
                <a:xfrm flipV="1">
                  <a:off x="2979720" y="235404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170880" y="246168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071160" y="2356200"/>
                  <a:ext cx="103320" cy="10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9" name=""/>
              <p:cNvGrpSpPr/>
              <p:nvPr/>
            </p:nvGrpSpPr>
            <p:grpSpPr>
              <a:xfrm>
                <a:off x="2979720" y="2352600"/>
                <a:ext cx="278640" cy="107280"/>
                <a:chOff x="2979720" y="2352600"/>
                <a:chExt cx="278640" cy="10728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2979720" y="2457720"/>
                  <a:ext cx="9936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170880" y="2352600"/>
                  <a:ext cx="87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 flipV="1">
                  <a:off x="3071160" y="2352600"/>
                  <a:ext cx="103320" cy="105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63" name=""/>
            <p:cNvSpPr/>
            <p:nvPr/>
          </p:nvSpPr>
          <p:spPr>
            <a:xfrm>
              <a:off x="2846520" y="2387520"/>
              <a:ext cx="0" cy="9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4" name=""/>
          <p:cNvSpPr/>
          <p:nvPr/>
        </p:nvSpPr>
        <p:spPr>
          <a:xfrm>
            <a:off x="3387600" y="2523960"/>
            <a:ext cx="862200" cy="64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 flipH="1">
            <a:off x="1995480" y="2421000"/>
            <a:ext cx="851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779400" y="2041560"/>
            <a:ext cx="11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lla re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ste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723400" y="2608200"/>
            <a:ext cx="86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6494400" y="3516480"/>
            <a:ext cx="186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ttorete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427720" y="1835280"/>
            <a:ext cx="103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 po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230520" y="2505240"/>
            <a:ext cx="136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er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330B-DA6C-4F5E-991A-46B9378E2C6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42880" y="155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Switch e router a confronto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42880" y="1138320"/>
            <a:ext cx="7981920" cy="22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Entrambi sono dispositivi store-and-forwar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outer: dispositivi a livello di rete (esaminano le intestazioni del livello di ret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witch: dispositivi a livello di collegament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 router mantengono tabelle d’inoltro e implementano algoritmi d’instrada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Gli switch mantengono tabelle di commutazione e implementano il filtraggio e algoritmi di autoapprendiment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73" name="" descr=""/>
          <p:cNvPicPr/>
          <p:nvPr/>
        </p:nvPicPr>
        <p:blipFill>
          <a:blip r:embed="rId1"/>
          <a:stretch/>
        </p:blipFill>
        <p:spPr>
          <a:xfrm>
            <a:off x="1685880" y="4173480"/>
            <a:ext cx="5456160" cy="2157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BE0A-F90C-487F-A437-760A76377AB1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9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7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8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F21F-92B1-43EC-800C-C97E3F09513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/>
          </p:nvPr>
        </p:nvSpPr>
        <p:spPr>
          <a:xfrm>
            <a:off x="627120" y="144576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mittente, un destinatario, un collegamento: estremamente sempli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c’è protocollo di accesso al mezzo (MA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 occorre indirizzamento MAC esplici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collegamento potrebbe essere una linea telefonica serale commutata, un collegamento SONET/SDH, una connessine X.25 o un circuito ISD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tocolli punto-punto DLC più diffus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PP 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oint-to-point protoco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HDLC (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high-level data link control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7" name=""/>
          <p:cNvSpPr/>
          <p:nvPr/>
        </p:nvSpPr>
        <p:spPr>
          <a:xfrm>
            <a:off x="636480" y="222120"/>
            <a:ext cx="828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Protocollo punto-pu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D64E-6453-4E1A-B52D-744A0F4F23EF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9600" y="228600"/>
            <a:ext cx="8618400" cy="11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Servizi offerti dal livello di collegamento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33160" y="1251000"/>
            <a:ext cx="825660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ntrollo di flusso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Evita che il nodo trasmittente saturi quello ricevent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levazione degli errori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Gli errori sono causati dall’attenuazione del segnale e da rumore elettromagnetico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ricevente individua la presenza di error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è possibile grazie all’inserimento, da parte del nodo trasmittente, di un bit di controllo di errore all’interno del fra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rrezione degli errori: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nodo ricevente determina anche il punto in cui si è verificato l’errore, e lo correg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Half-duplex e full-duple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la trasmissione full-duplex gli estremi di un collegamento possono trasmettere contemporaneamente: non in quella half-duplex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1F52-30B1-4000-A3F8-92F99F8ACC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equisiti di IETF</a:t>
            </a:r>
            <a:br>
              <a:rPr sz="3600"/>
            </a:b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per il progetto PPP [RFC 1547]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335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Framing dei pacchetti: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l protocollo PP del mittente incapsula un pacchetto a livello di rete all’interno del un pacchetto PPP a livello di link.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Trasparenza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protocollo PPP non deve porre alcuna restrizione ai dati che appaiono nel pacchetto a livello di re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levazione degli errori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(ma non la correzio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Disponibilità della connession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l protocollo deve rilevare la presenza di eventuali guasti a livello di link e segnalare l’errore al livello di re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Negoziazione degli indirizzi di ret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 deve fornire un meccanismo ai livelli di rete comunicanti per ottenere o configurare gli indirizzi di rete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80B-4515-45DB-B9FD-AF1C61D0549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12480" y="166320"/>
            <a:ext cx="88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Requisiti che PPP </a:t>
            </a:r>
            <a:r>
              <a:rPr b="1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non</a:t>
            </a: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 deve implementare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8440" y="15854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rrezione degli error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ntrollo di fluss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quenza (non deve necessariamente trasferire i pacchetti al ricevente mantenendo lo stesso ordine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ollegamento multipunto (es., polling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2" name=""/>
          <p:cNvSpPr/>
          <p:nvPr/>
        </p:nvSpPr>
        <p:spPr>
          <a:xfrm>
            <a:off x="1297080" y="4646520"/>
            <a:ext cx="644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Correzione degli errori, controllo di fluss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ri-ordinamento dei pacchet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ono delegati ai livelli superiori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F92E-3586-4AC7-92E3-928E6FAC26AF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ormato dei pacchetti dati PP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546120" y="1368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Flag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ogni pacchetto inizia e termina con un byte con valore 01111110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Indirizz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unico valore (11111111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ontroll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unico valore; ulteriori valori potrebbero essere stabiliti in futuro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Protocollo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indica al PPP del ricevente qual è il protocollo del livello superiore cui appartengono i dati incapsulati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5" name="" descr=""/>
          <p:cNvPicPr/>
          <p:nvPr/>
        </p:nvPicPr>
        <p:blipFill>
          <a:blip r:embed="rId1"/>
          <a:stretch/>
        </p:blipFill>
        <p:spPr>
          <a:xfrm>
            <a:off x="955800" y="500868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6CEC-5F32-444B-8F4D-AB69A41A81D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Formato dei pacchetti dati PPP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informazioni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incapsula il pacchetto trasmesso da un protocollo del livello superiore (come IP) sul collegamento PP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hecksum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utilizzato per rilevare gli errori nei bit contenuti in un pacchetto; utilizza un codice a ridondanza ciclica HDLC a due o a quattro byte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388" name="" descr=""/>
          <p:cNvPicPr/>
          <p:nvPr/>
        </p:nvPicPr>
        <p:blipFill>
          <a:blip r:embed="rId1"/>
          <a:stretch/>
        </p:blipFill>
        <p:spPr>
          <a:xfrm>
            <a:off x="779400" y="4559400"/>
            <a:ext cx="7210440" cy="15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1915-80FB-41CA-8B31-6676A733AFC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3352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Riempimento dei byte </a:t>
            </a:r>
            <a:br>
              <a:rPr sz="3400"/>
            </a:b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(</a:t>
            </a:r>
            <a:r>
              <a:rPr b="0" i="1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)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33520" y="145692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Requisito di trasparenza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nel campo informazioni deve essere possibile inserire una stringa &lt;01111110&gt;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Comic Sans MS"/>
              </a:rPr>
              <a:t>D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e compare &lt;01111110&gt; come fa il ricevente a rilevare in modo corretto la fine del frame PPP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Mittente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aggiunge (“stuff”) un byte di control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&lt;01111110&gt; prima di ogni byte di dati &lt;01111110&gt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Destinatari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ue byte 01111110: scarta il primo e continua la ricezione dei dat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ngolo 01111110: valore di fl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6505-DBE7-46BB-8D91-CECB8DB89EF6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Byte stuff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1"/>
          <a:stretch/>
        </p:blipFill>
        <p:spPr>
          <a:xfrm>
            <a:off x="1995480" y="1695600"/>
            <a:ext cx="5996160" cy="2985840"/>
          </a:xfrm>
          <a:prstGeom prst="rect">
            <a:avLst/>
          </a:prstGeom>
          <a:ln w="0">
            <a:noFill/>
          </a:ln>
        </p:spPr>
      </p:pic>
      <p:sp>
        <p:nvSpPr>
          <p:cNvPr id="1393" name=""/>
          <p:cNvSpPr/>
          <p:nvPr/>
        </p:nvSpPr>
        <p:spPr>
          <a:xfrm>
            <a:off x="415080" y="1924200"/>
            <a:ext cx="144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flag n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da invi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481040" y="2152800"/>
            <a:ext cx="917640" cy="25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4013280" y="5203800"/>
            <a:ext cx="2824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Valore del f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iù byte aggi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nel flusso dei da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 flipV="1">
            <a:off x="4021200" y="4833720"/>
            <a:ext cx="504720" cy="36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V="1">
            <a:off x="5491080" y="4739760"/>
            <a:ext cx="42408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7C6E-949C-46B0-9840-912FC8F0A33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 u="sng">
                <a:solidFill>
                  <a:srgbClr val="3333cc"/>
                </a:solidFill>
                <a:uFillTx/>
                <a:latin typeface="Comic Sans MS"/>
              </a:rPr>
              <a:t>Protocollo di controllo del collegamento e protocolli di rete</a:t>
            </a:r>
            <a:endParaRPr b="0" lang="en-US" sz="34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399600" y="1321920"/>
            <a:ext cx="4627800" cy="53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rima di avviare lo scambio di dati, i due peer devono configurare il collegament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Configurazione del collegamento PPP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(massima dimensione del pacchetto, autenticazione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Scambio dei pacchetti di controllo propri del livello di rete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IP: viene utilizzato il protocollo di controllo IP (IPCP) e i dati IPCP sono inseriti in un pacchetto PPP (il cui campo protocollo contiene 8021) in modo analogo a quello in cui i dati LCP sono inseriti in un pacchetto PP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00" name="" descr=""/>
          <p:cNvPicPr/>
          <p:nvPr/>
        </p:nvPicPr>
        <p:blipFill>
          <a:blip r:embed="rId1"/>
          <a:stretch/>
        </p:blipFill>
        <p:spPr>
          <a:xfrm>
            <a:off x="5013360" y="2190600"/>
            <a:ext cx="3954600" cy="2752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6BAE-514A-48D5-B280-9034739C985A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9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pitolo 5: Livello di collegamento</a:t>
            </a:r>
            <a:br>
              <a:rPr sz="4000"/>
            </a:b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e reti local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3640" y="1968480"/>
            <a:ext cx="8059680" cy="412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1</a:t>
            </a: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ivello di collegamento: introduzione e servizi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ecniche di rilevazione e correzione degli error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rotocolli di accesso multiplo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4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Indirizzi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5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Ether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6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Switch a livello di collegame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Comic Sans MS"/>
              </a:rPr>
              <a:t>5.7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PPP: protocollo punto-punto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5.8 Canali virtuali: una rete come un livello di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1845-7AE2-40FB-8B92-5FEE2250BC1F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Virtualizzazione delle ret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rtualizzazione delle risorse: una potente astrazione nell’ingegneria dei sistem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sempi nell’informatica: memoria virtuale, dispositivi virtual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cchine virtuali: es. Jav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istema operativo IBM VM tra gli anni ‘60 e ’70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Il collegamento va considerato in modo astratto, come un canale piuttosto che un cav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5B1-BAFF-416C-9834-4003BCBA4E7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: virtualizzazione delle re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19120" y="1446120"/>
            <a:ext cx="46753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974: tante reti non collegate tra l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su ca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a pacchetto satellitari (Aloh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i ra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962600" y="1446120"/>
            <a:ext cx="4181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differiscono p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nzioni di indirizz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ato dei pacchet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ipristino degli erro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338040" indent="-22356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strad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322960" y="3963960"/>
            <a:ext cx="2170080" cy="1825560"/>
          </a:xfrm>
          <a:custGeom>
            <a:avLst/>
            <a:gdLst/>
            <a:ahLst/>
            <a:rect l="l" t="t" r="r" b="b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824040" y="4035600"/>
            <a:ext cx="3216240" cy="1674720"/>
          </a:xfrm>
          <a:custGeom>
            <a:avLst/>
            <a:gdLst/>
            <a:ahLst/>
            <a:rect l="l" t="t" r="r" b="b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0" name=""/>
          <p:cNvGraphicFramePr/>
          <p:nvPr/>
        </p:nvGraphicFramePr>
        <p:xfrm>
          <a:off x="3386160" y="505620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05620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12" name="" descr=""/>
          <p:cNvPicPr/>
          <p:nvPr/>
        </p:nvPicPr>
        <p:blipFill>
          <a:blip r:embed="rId3"/>
          <a:stretch/>
        </p:blipFill>
        <p:spPr>
          <a:xfrm>
            <a:off x="2712960" y="5232240"/>
            <a:ext cx="416160" cy="330480"/>
          </a:xfrm>
          <a:prstGeom prst="rect">
            <a:avLst/>
          </a:prstGeom>
          <a:ln w="0">
            <a:noFill/>
          </a:ln>
        </p:spPr>
      </p:pic>
      <p:sp>
        <p:nvSpPr>
          <p:cNvPr id="1413" name=""/>
          <p:cNvSpPr/>
          <p:nvPr/>
        </p:nvSpPr>
        <p:spPr>
          <a:xfrm flipV="1">
            <a:off x="1719360" y="447624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1990800" y="456084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 flipH="1">
            <a:off x="3116160" y="4519440"/>
            <a:ext cx="279360" cy="392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6" name=""/>
          <p:cNvGrpSpPr/>
          <p:nvPr/>
        </p:nvGrpSpPr>
        <p:grpSpPr>
          <a:xfrm>
            <a:off x="6473880" y="4262400"/>
            <a:ext cx="268200" cy="487080"/>
            <a:chOff x="6473880" y="4262400"/>
            <a:chExt cx="268200" cy="487080"/>
          </a:xfrm>
        </p:grpSpPr>
        <p:pic>
          <p:nvPicPr>
            <p:cNvPr id="1417" name="" descr=""/>
            <p:cNvPicPr/>
            <p:nvPr/>
          </p:nvPicPr>
          <p:blipFill>
            <a:blip r:embed="rId4"/>
            <a:stretch/>
          </p:blipFill>
          <p:spPr>
            <a:xfrm>
              <a:off x="6481800" y="426240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8" name=""/>
            <p:cNvSpPr/>
            <p:nvPr/>
          </p:nvSpPr>
          <p:spPr>
            <a:xfrm>
              <a:off x="6473880" y="450504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9" name=""/>
          <p:cNvSpPr/>
          <p:nvPr/>
        </p:nvSpPr>
        <p:spPr>
          <a:xfrm>
            <a:off x="2975040" y="5000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 flipV="1">
            <a:off x="3614760" y="4492440"/>
            <a:ext cx="0" cy="610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1" name=""/>
          <p:cNvGrpSpPr/>
          <p:nvPr/>
        </p:nvGrpSpPr>
        <p:grpSpPr>
          <a:xfrm>
            <a:off x="3225960" y="4280040"/>
            <a:ext cx="501480" cy="234360"/>
            <a:chOff x="3225960" y="4280040"/>
            <a:chExt cx="501480" cy="234360"/>
          </a:xfrm>
        </p:grpSpPr>
        <p:sp>
          <p:nvSpPr>
            <p:cNvPr id="1422" name=""/>
            <p:cNvSpPr/>
            <p:nvPr/>
          </p:nvSpPr>
          <p:spPr>
            <a:xfrm>
              <a:off x="3229920" y="438444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22992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727440" y="4373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229920" y="4373640"/>
              <a:ext cx="492840" cy="79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225960" y="4280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7" name=""/>
            <p:cNvGrpSpPr/>
            <p:nvPr/>
          </p:nvGrpSpPr>
          <p:grpSpPr>
            <a:xfrm>
              <a:off x="3345480" y="4313160"/>
              <a:ext cx="246240" cy="88920"/>
              <a:chOff x="3345480" y="4313160"/>
              <a:chExt cx="246240" cy="88920"/>
            </a:xfrm>
          </p:grpSpPr>
          <p:sp>
            <p:nvSpPr>
              <p:cNvPr id="1428" name=""/>
              <p:cNvSpPr/>
              <p:nvPr/>
            </p:nvSpPr>
            <p:spPr>
              <a:xfrm flipV="1">
                <a:off x="3345480" y="4313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514320" y="440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3426480" y="4315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1" name=""/>
            <p:cNvGrpSpPr/>
            <p:nvPr/>
          </p:nvGrpSpPr>
          <p:grpSpPr>
            <a:xfrm>
              <a:off x="3345480" y="4312080"/>
              <a:ext cx="246240" cy="88920"/>
              <a:chOff x="3345480" y="4312080"/>
              <a:chExt cx="246240" cy="88920"/>
            </a:xfrm>
          </p:grpSpPr>
          <p:sp>
            <p:nvSpPr>
              <p:cNvPr id="1432" name=""/>
              <p:cNvSpPr/>
              <p:nvPr/>
            </p:nvSpPr>
            <p:spPr>
              <a:xfrm>
                <a:off x="3345480" y="4399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14320" y="4312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426480" y="4312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5" name=""/>
          <p:cNvGrpSpPr/>
          <p:nvPr/>
        </p:nvGrpSpPr>
        <p:grpSpPr>
          <a:xfrm>
            <a:off x="2616120" y="4768920"/>
            <a:ext cx="500040" cy="232920"/>
            <a:chOff x="2616120" y="4768920"/>
            <a:chExt cx="500040" cy="232920"/>
          </a:xfrm>
        </p:grpSpPr>
        <p:sp>
          <p:nvSpPr>
            <p:cNvPr id="1436" name=""/>
            <p:cNvSpPr/>
            <p:nvPr/>
          </p:nvSpPr>
          <p:spPr>
            <a:xfrm>
              <a:off x="2620080" y="487296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62008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3116160" y="48618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620080" y="486180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2616120" y="476892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1" name=""/>
            <p:cNvGrpSpPr/>
            <p:nvPr/>
          </p:nvGrpSpPr>
          <p:grpSpPr>
            <a:xfrm>
              <a:off x="2735280" y="4801680"/>
              <a:ext cx="245520" cy="88200"/>
              <a:chOff x="2735280" y="4801680"/>
              <a:chExt cx="245520" cy="88200"/>
            </a:xfrm>
          </p:grpSpPr>
          <p:sp>
            <p:nvSpPr>
              <p:cNvPr id="1442" name=""/>
              <p:cNvSpPr/>
              <p:nvPr/>
            </p:nvSpPr>
            <p:spPr>
              <a:xfrm flipV="1">
                <a:off x="2735280" y="480168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2903760" y="488988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2815920" y="480384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5" name=""/>
            <p:cNvGrpSpPr/>
            <p:nvPr/>
          </p:nvGrpSpPr>
          <p:grpSpPr>
            <a:xfrm>
              <a:off x="2735280" y="4800960"/>
              <a:ext cx="245520" cy="88200"/>
              <a:chOff x="2735280" y="4800960"/>
              <a:chExt cx="245520" cy="88200"/>
            </a:xfrm>
          </p:grpSpPr>
          <p:sp>
            <p:nvSpPr>
              <p:cNvPr id="1446" name=""/>
              <p:cNvSpPr/>
              <p:nvPr/>
            </p:nvSpPr>
            <p:spPr>
              <a:xfrm>
                <a:off x="2735280" y="488736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2903760" y="480096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 flipV="1">
                <a:off x="2815920" y="480096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49" name=""/>
          <p:cNvGrpSpPr/>
          <p:nvPr/>
        </p:nvGrpSpPr>
        <p:grpSpPr>
          <a:xfrm>
            <a:off x="1673280" y="4392720"/>
            <a:ext cx="501480" cy="232920"/>
            <a:chOff x="1673280" y="4392720"/>
            <a:chExt cx="501480" cy="232920"/>
          </a:xfrm>
        </p:grpSpPr>
        <p:sp>
          <p:nvSpPr>
            <p:cNvPr id="1450" name=""/>
            <p:cNvSpPr/>
            <p:nvPr/>
          </p:nvSpPr>
          <p:spPr>
            <a:xfrm>
              <a:off x="1677240" y="4496760"/>
              <a:ext cx="49716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67724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2174760" y="4485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677240" y="448560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1673280" y="439272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5" name=""/>
            <p:cNvGrpSpPr/>
            <p:nvPr/>
          </p:nvGrpSpPr>
          <p:grpSpPr>
            <a:xfrm>
              <a:off x="1792800" y="4425480"/>
              <a:ext cx="246240" cy="88200"/>
              <a:chOff x="1792800" y="4425480"/>
              <a:chExt cx="246240" cy="88200"/>
            </a:xfrm>
          </p:grpSpPr>
          <p:sp>
            <p:nvSpPr>
              <p:cNvPr id="1456" name=""/>
              <p:cNvSpPr/>
              <p:nvPr/>
            </p:nvSpPr>
            <p:spPr>
              <a:xfrm flipV="1">
                <a:off x="1792800" y="4425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961640" y="4513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1873800" y="4427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9" name=""/>
            <p:cNvGrpSpPr/>
            <p:nvPr/>
          </p:nvGrpSpPr>
          <p:grpSpPr>
            <a:xfrm>
              <a:off x="1792800" y="4424760"/>
              <a:ext cx="246240" cy="88200"/>
              <a:chOff x="1792800" y="4424760"/>
              <a:chExt cx="246240" cy="88200"/>
            </a:xfrm>
          </p:grpSpPr>
          <p:sp>
            <p:nvSpPr>
              <p:cNvPr id="1460" name=""/>
              <p:cNvSpPr/>
              <p:nvPr/>
            </p:nvSpPr>
            <p:spPr>
              <a:xfrm>
                <a:off x="1792800" y="4511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961640" y="4424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V="1">
                <a:off x="1873800" y="44247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63" name=""/>
          <p:cNvSpPr/>
          <p:nvPr/>
        </p:nvSpPr>
        <p:spPr>
          <a:xfrm flipV="1">
            <a:off x="2176560" y="441648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 flipH="1" flipV="1">
            <a:off x="1465200" y="4530240"/>
            <a:ext cx="2160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5" name="" descr=""/>
          <p:cNvPicPr/>
          <p:nvPr/>
        </p:nvPicPr>
        <p:blipFill>
          <a:blip r:embed="rId5"/>
          <a:stretch/>
        </p:blipFill>
        <p:spPr>
          <a:xfrm>
            <a:off x="2179800" y="511812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466" name=""/>
          <p:cNvSpPr/>
          <p:nvPr/>
        </p:nvSpPr>
        <p:spPr>
          <a:xfrm flipH="1">
            <a:off x="2568600" y="5000760"/>
            <a:ext cx="216000" cy="215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7" name=""/>
          <p:cNvGrpSpPr/>
          <p:nvPr/>
        </p:nvGrpSpPr>
        <p:grpSpPr>
          <a:xfrm>
            <a:off x="5749920" y="4300560"/>
            <a:ext cx="268200" cy="487440"/>
            <a:chOff x="5749920" y="4300560"/>
            <a:chExt cx="268200" cy="487440"/>
          </a:xfrm>
        </p:grpSpPr>
        <p:pic>
          <p:nvPicPr>
            <p:cNvPr id="1468" name="" descr=""/>
            <p:cNvPicPr/>
            <p:nvPr/>
          </p:nvPicPr>
          <p:blipFill>
            <a:blip r:embed="rId6"/>
            <a:stretch/>
          </p:blipFill>
          <p:spPr>
            <a:xfrm>
              <a:off x="5757840" y="4300560"/>
              <a:ext cx="203400" cy="2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9" name=""/>
            <p:cNvSpPr/>
            <p:nvPr/>
          </p:nvSpPr>
          <p:spPr>
            <a:xfrm>
              <a:off x="5749920" y="45435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470" name="" descr=""/>
          <p:cNvPicPr/>
          <p:nvPr/>
        </p:nvPicPr>
        <p:blipFill>
          <a:blip r:embed="rId7"/>
          <a:stretch/>
        </p:blipFill>
        <p:spPr>
          <a:xfrm>
            <a:off x="5460840" y="485928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1471" name=""/>
          <p:cNvSpPr/>
          <p:nvPr/>
        </p:nvSpPr>
        <p:spPr>
          <a:xfrm flipH="1">
            <a:off x="5820840" y="4773600"/>
            <a:ext cx="63720" cy="27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>
            <a:off x="6748200" y="4481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3" name=""/>
          <p:cNvGrpSpPr/>
          <p:nvPr/>
        </p:nvGrpSpPr>
        <p:grpSpPr>
          <a:xfrm>
            <a:off x="6181560" y="4770360"/>
            <a:ext cx="268200" cy="487080"/>
            <a:chOff x="6181560" y="4770360"/>
            <a:chExt cx="268200" cy="487080"/>
          </a:xfrm>
        </p:grpSpPr>
        <p:pic>
          <p:nvPicPr>
            <p:cNvPr id="1474" name="" descr=""/>
            <p:cNvPicPr/>
            <p:nvPr/>
          </p:nvPicPr>
          <p:blipFill>
            <a:blip r:embed="rId8"/>
            <a:stretch/>
          </p:blipFill>
          <p:spPr>
            <a:xfrm>
              <a:off x="6189480" y="47703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5" name=""/>
            <p:cNvSpPr/>
            <p:nvPr/>
          </p:nvSpPr>
          <p:spPr>
            <a:xfrm>
              <a:off x="6181560" y="50130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476" name=""/>
          <p:cNvGraphicFramePr/>
          <p:nvPr/>
        </p:nvGraphicFramePr>
        <p:xfrm>
          <a:off x="6523200" y="519588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7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19588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8" name=""/>
          <p:cNvSpPr/>
          <p:nvPr/>
        </p:nvSpPr>
        <p:spPr>
          <a:xfrm>
            <a:off x="6316560" y="5256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2156040" y="572616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547600" y="57135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 satelli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1" name="" descr=""/>
          <p:cNvPicPr/>
          <p:nvPr/>
        </p:nvPicPr>
        <p:blipFill>
          <a:blip r:embed="rId11"/>
          <a:stretch/>
        </p:blipFill>
        <p:spPr>
          <a:xfrm>
            <a:off x="6743880" y="4173480"/>
            <a:ext cx="417240" cy="331920"/>
          </a:xfrm>
          <a:prstGeom prst="rect">
            <a:avLst/>
          </a:prstGeom>
          <a:ln w="0">
            <a:noFill/>
          </a:ln>
        </p:spPr>
      </p:pic>
      <p:pic>
        <p:nvPicPr>
          <p:cNvPr id="1482" name="" descr=""/>
          <p:cNvPicPr/>
          <p:nvPr/>
        </p:nvPicPr>
        <p:blipFill>
          <a:blip r:embed="rId12"/>
          <a:stretch/>
        </p:blipFill>
        <p:spPr>
          <a:xfrm>
            <a:off x="1104840" y="433872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1483" name=""/>
          <p:cNvSpPr/>
          <p:nvPr/>
        </p:nvSpPr>
        <p:spPr>
          <a:xfrm>
            <a:off x="251280" y="6130800"/>
            <a:ext cx="4082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"A Protocol for Packet Network Intercommunication"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V. Cerf, R. Kahn, IEEE Transactions on Communication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aggio 1974, pp. 637-64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5074-191D-4A4C-B442-4F154C1F14D4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69720" y="228600"/>
            <a:ext cx="841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3333cc"/>
                </a:solidFill>
                <a:uFillTx/>
                <a:latin typeface="Comic Sans MS"/>
              </a:rPr>
              <a:t>Dove è implementato il livello di collegamento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98520" y="1467000"/>
            <a:ext cx="4075200" cy="46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 tutti gli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realizzato in un adattatore (NIC, 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etwork interface card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cheda Ethernet, PCMCI, 802.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mplementa il livello di collegamento e fis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è una combinazione di hardware, software e firm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129360" y="2614680"/>
            <a:ext cx="1836720" cy="240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578640" y="4552920"/>
            <a:ext cx="666720" cy="28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578640" y="396540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448320" y="4573440"/>
            <a:ext cx="1037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smiss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30840" y="3484440"/>
            <a:ext cx="200160" cy="460440"/>
          </a:xfrm>
          <a:custGeom>
            <a:avLst/>
            <a:gdLst/>
            <a:ahLst/>
            <a:rect l="l" t="t" r="r" b="b"/>
            <a:pathLst>
              <a:path w="361" h="478">
                <a:moveTo>
                  <a:pt x="0" y="0"/>
                </a:moveTo>
                <a:lnTo>
                  <a:pt x="0" y="230"/>
                </a:lnTo>
                <a:lnTo>
                  <a:pt x="361" y="230"/>
                </a:lnTo>
                <a:lnTo>
                  <a:pt x="359" y="478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96200" y="3657600"/>
            <a:ext cx="135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6891480" y="3665160"/>
            <a:ext cx="0" cy="29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384960" y="2967120"/>
            <a:ext cx="657360" cy="519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203960" y="2968560"/>
            <a:ext cx="657360" cy="5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6687720" y="3487680"/>
            <a:ext cx="1800" cy="16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 flipH="1" flipV="1">
            <a:off x="7561440" y="3489480"/>
            <a:ext cx="1440" cy="17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010360" y="3786120"/>
            <a:ext cx="78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u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es, PC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6891120" y="4273560"/>
            <a:ext cx="12600" cy="3398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89680" y="4807080"/>
            <a:ext cx="0" cy="3664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H="1" flipV="1">
            <a:off x="7686360" y="3661920"/>
            <a:ext cx="38268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294680" y="5356080"/>
            <a:ext cx="871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datt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i r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 flipV="1">
            <a:off x="7504200" y="4680000"/>
            <a:ext cx="271440" cy="75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888960" y="228744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st schema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351480" y="3854520"/>
            <a:ext cx="1122480" cy="108252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5040000" y="2755800"/>
            <a:ext cx="1517760" cy="2052720"/>
            <a:chOff x="5040000" y="2755800"/>
            <a:chExt cx="1517760" cy="2052720"/>
          </a:xfrm>
        </p:grpSpPr>
        <p:sp>
          <p:nvSpPr>
            <p:cNvPr id="313" name=""/>
            <p:cNvSpPr/>
            <p:nvPr/>
          </p:nvSpPr>
          <p:spPr>
            <a:xfrm>
              <a:off x="5938560" y="3983040"/>
              <a:ext cx="619200" cy="825480"/>
            </a:xfrm>
            <a:custGeom>
              <a:avLst/>
              <a:gdLst/>
              <a:ahLst/>
              <a:rect l="l" t="t" r="r" b="b"/>
              <a:pathLst>
                <a:path w="390" h="520">
                  <a:moveTo>
                    <a:pt x="390" y="0"/>
                  </a:moveTo>
                  <a:lnTo>
                    <a:pt x="0" y="221"/>
                  </a:lnTo>
                  <a:lnTo>
                    <a:pt x="3" y="433"/>
                  </a:lnTo>
                  <a:lnTo>
                    <a:pt x="388" y="520"/>
                  </a:lnTo>
                  <a:lnTo>
                    <a:pt x="3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933880" y="2805120"/>
              <a:ext cx="436680" cy="703080"/>
            </a:xfrm>
            <a:custGeom>
              <a:avLst/>
              <a:gdLst/>
              <a:ahLst/>
              <a:rect l="l" t="t" r="r" b="b"/>
              <a:pathLst>
                <a:path w="275" h="443">
                  <a:moveTo>
                    <a:pt x="264" y="108"/>
                  </a:moveTo>
                  <a:lnTo>
                    <a:pt x="0" y="0"/>
                  </a:lnTo>
                  <a:lnTo>
                    <a:pt x="2" y="443"/>
                  </a:lnTo>
                  <a:lnTo>
                    <a:pt x="275" y="412"/>
                  </a:lnTo>
                  <a:lnTo>
                    <a:pt x="264" y="1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163840" y="2817720"/>
              <a:ext cx="776520" cy="83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040000" y="2755800"/>
              <a:ext cx="10126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raspor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ret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163840" y="299412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163840" y="316080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60960" y="333072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165640" y="3502080"/>
              <a:ext cx="768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97240" y="3511440"/>
              <a:ext cx="876240" cy="182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165640" y="3530520"/>
              <a:ext cx="0" cy="10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38560" y="352116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63840" y="3833640"/>
              <a:ext cx="776520" cy="83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43240" y="3722760"/>
              <a:ext cx="1012680" cy="9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collegament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fisco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63840" y="401004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63840" y="417816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60960" y="431964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57720" y="4502160"/>
              <a:ext cx="77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35400" y="3794040"/>
              <a:ext cx="822240" cy="47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63840" y="4149720"/>
              <a:ext cx="0" cy="103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0360" y="4149720"/>
              <a:ext cx="0" cy="101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62400" y="2822400"/>
              <a:ext cx="777960" cy="68436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157720" y="4319640"/>
              <a:ext cx="776160" cy="347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5" name=""/>
          <p:cNvGraphicFramePr/>
          <p:nvPr/>
        </p:nvGraphicFramePr>
        <p:xfrm>
          <a:off x="7467480" y="1854360"/>
          <a:ext cx="611280" cy="52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67480" y="1854360"/>
                    <a:ext cx="611280" cy="52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5460840" y="5173560"/>
            <a:ext cx="1351080" cy="13510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4"/>
          <a:stretch/>
        </p:blipFill>
        <p:spPr>
          <a:xfrm>
            <a:off x="4311720" y="5452920"/>
            <a:ext cx="1143000" cy="1171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3EFA-2DEF-4BA1-83DF-A94A9F297E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"/>
          <p:cNvSpPr/>
          <p:nvPr/>
        </p:nvSpPr>
        <p:spPr>
          <a:xfrm>
            <a:off x="533520" y="2286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: virtualizzazione delle re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322960" y="4567320"/>
            <a:ext cx="2170080" cy="1825560"/>
          </a:xfrm>
          <a:custGeom>
            <a:avLst/>
            <a:gdLst/>
            <a:ahLst/>
            <a:rect l="l" t="t" r="r" b="b"/>
            <a:pathLst>
              <a:path w="1367" h="1150">
                <a:moveTo>
                  <a:pt x="210" y="101"/>
                </a:moveTo>
                <a:cubicBezTo>
                  <a:pt x="105" y="107"/>
                  <a:pt x="61" y="155"/>
                  <a:pt x="31" y="227"/>
                </a:cubicBezTo>
                <a:cubicBezTo>
                  <a:pt x="0" y="299"/>
                  <a:pt x="23" y="441"/>
                  <a:pt x="25" y="535"/>
                </a:cubicBezTo>
                <a:cubicBezTo>
                  <a:pt x="28" y="629"/>
                  <a:pt x="15" y="743"/>
                  <a:pt x="46" y="792"/>
                </a:cubicBezTo>
                <a:cubicBezTo>
                  <a:pt x="78" y="841"/>
                  <a:pt x="128" y="785"/>
                  <a:pt x="215" y="827"/>
                </a:cubicBezTo>
                <a:cubicBezTo>
                  <a:pt x="302" y="869"/>
                  <a:pt x="458" y="993"/>
                  <a:pt x="567" y="1044"/>
                </a:cubicBezTo>
                <a:cubicBezTo>
                  <a:pt x="677" y="1095"/>
                  <a:pt x="792" y="1150"/>
                  <a:pt x="873" y="1135"/>
                </a:cubicBezTo>
                <a:cubicBezTo>
                  <a:pt x="953" y="1120"/>
                  <a:pt x="1011" y="1064"/>
                  <a:pt x="1051" y="953"/>
                </a:cubicBezTo>
                <a:cubicBezTo>
                  <a:pt x="1092" y="842"/>
                  <a:pt x="1077" y="617"/>
                  <a:pt x="1115" y="469"/>
                </a:cubicBezTo>
                <a:cubicBezTo>
                  <a:pt x="1153" y="321"/>
                  <a:pt x="1367" y="134"/>
                  <a:pt x="1278" y="67"/>
                </a:cubicBezTo>
                <a:cubicBezTo>
                  <a:pt x="1189" y="0"/>
                  <a:pt x="760" y="61"/>
                  <a:pt x="582" y="67"/>
                </a:cubicBezTo>
                <a:cubicBezTo>
                  <a:pt x="404" y="73"/>
                  <a:pt x="287" y="94"/>
                  <a:pt x="210" y="101"/>
                </a:cubicBezTo>
                <a:close/>
              </a:path>
            </a:pathLst>
          </a:cu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824040" y="4638600"/>
            <a:ext cx="3216240" cy="1674720"/>
          </a:xfrm>
          <a:custGeom>
            <a:avLst/>
            <a:gdLst/>
            <a:ahLst/>
            <a:rect l="l" t="t" r="r" b="b"/>
            <a:pathLst>
              <a:path w="2026" h="1055">
                <a:moveTo>
                  <a:pt x="136" y="462"/>
                </a:moveTo>
                <a:cubicBezTo>
                  <a:pt x="101" y="364"/>
                  <a:pt x="0" y="195"/>
                  <a:pt x="144" y="142"/>
                </a:cubicBezTo>
                <a:cubicBezTo>
                  <a:pt x="288" y="89"/>
                  <a:pt x="773" y="165"/>
                  <a:pt x="1000" y="142"/>
                </a:cubicBezTo>
                <a:cubicBezTo>
                  <a:pt x="1227" y="119"/>
                  <a:pt x="1346" y="0"/>
                  <a:pt x="1504" y="6"/>
                </a:cubicBezTo>
                <a:cubicBezTo>
                  <a:pt x="1662" y="12"/>
                  <a:pt x="1874" y="44"/>
                  <a:pt x="1950" y="176"/>
                </a:cubicBezTo>
                <a:cubicBezTo>
                  <a:pt x="2026" y="308"/>
                  <a:pt x="1997" y="658"/>
                  <a:pt x="1961" y="796"/>
                </a:cubicBezTo>
                <a:cubicBezTo>
                  <a:pt x="1925" y="934"/>
                  <a:pt x="1882" y="966"/>
                  <a:pt x="1736" y="1006"/>
                </a:cubicBezTo>
                <a:cubicBezTo>
                  <a:pt x="1590" y="1046"/>
                  <a:pt x="1252" y="1055"/>
                  <a:pt x="1088" y="1038"/>
                </a:cubicBezTo>
                <a:cubicBezTo>
                  <a:pt x="924" y="1021"/>
                  <a:pt x="820" y="975"/>
                  <a:pt x="752" y="902"/>
                </a:cubicBezTo>
                <a:cubicBezTo>
                  <a:pt x="684" y="829"/>
                  <a:pt x="783" y="671"/>
                  <a:pt x="680" y="598"/>
                </a:cubicBezTo>
                <a:cubicBezTo>
                  <a:pt x="577" y="525"/>
                  <a:pt x="249" y="490"/>
                  <a:pt x="136" y="462"/>
                </a:cubicBezTo>
                <a:close/>
              </a:path>
            </a:pathLst>
          </a:cu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7" name=""/>
          <p:cNvGraphicFramePr/>
          <p:nvPr/>
        </p:nvGraphicFramePr>
        <p:xfrm>
          <a:off x="3386160" y="5659560"/>
          <a:ext cx="415800" cy="33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6160" y="565956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89" name="" descr=""/>
          <p:cNvPicPr/>
          <p:nvPr/>
        </p:nvPicPr>
        <p:blipFill>
          <a:blip r:embed="rId3"/>
          <a:stretch/>
        </p:blipFill>
        <p:spPr>
          <a:xfrm>
            <a:off x="2712960" y="5835600"/>
            <a:ext cx="416160" cy="33012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 flipV="1">
            <a:off x="1719360" y="5079600"/>
            <a:ext cx="936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1990800" y="5164200"/>
            <a:ext cx="633240" cy="347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3116160" y="5122800"/>
            <a:ext cx="279360" cy="392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3" name=""/>
          <p:cNvGrpSpPr/>
          <p:nvPr/>
        </p:nvGrpSpPr>
        <p:grpSpPr>
          <a:xfrm>
            <a:off x="6473880" y="4865760"/>
            <a:ext cx="268200" cy="487080"/>
            <a:chOff x="6473880" y="4865760"/>
            <a:chExt cx="268200" cy="487080"/>
          </a:xfrm>
        </p:grpSpPr>
        <p:pic>
          <p:nvPicPr>
            <p:cNvPr id="1494" name="" descr=""/>
            <p:cNvPicPr/>
            <p:nvPr/>
          </p:nvPicPr>
          <p:blipFill>
            <a:blip r:embed="rId4"/>
            <a:stretch/>
          </p:blipFill>
          <p:spPr>
            <a:xfrm>
              <a:off x="6481800" y="486576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5" name=""/>
            <p:cNvSpPr/>
            <p:nvPr/>
          </p:nvSpPr>
          <p:spPr>
            <a:xfrm>
              <a:off x="6473880" y="510840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6" name=""/>
          <p:cNvSpPr/>
          <p:nvPr/>
        </p:nvSpPr>
        <p:spPr>
          <a:xfrm>
            <a:off x="2975040" y="56037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 flipV="1">
            <a:off x="3614760" y="5095800"/>
            <a:ext cx="0" cy="611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8" name=""/>
          <p:cNvGrpSpPr/>
          <p:nvPr/>
        </p:nvGrpSpPr>
        <p:grpSpPr>
          <a:xfrm>
            <a:off x="3225960" y="4883040"/>
            <a:ext cx="501480" cy="234720"/>
            <a:chOff x="3225960" y="4883040"/>
            <a:chExt cx="501480" cy="234720"/>
          </a:xfrm>
        </p:grpSpPr>
        <p:sp>
          <p:nvSpPr>
            <p:cNvPr id="1499" name=""/>
            <p:cNvSpPr/>
            <p:nvPr/>
          </p:nvSpPr>
          <p:spPr>
            <a:xfrm>
              <a:off x="3229920" y="4987800"/>
              <a:ext cx="497160" cy="129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29920" y="4976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3727440" y="4976640"/>
              <a:ext cx="0" cy="80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229920" y="4976640"/>
              <a:ext cx="492840" cy="79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760" bIns="32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3225960" y="4883040"/>
              <a:ext cx="496800" cy="1515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4" name=""/>
            <p:cNvGrpSpPr/>
            <p:nvPr/>
          </p:nvGrpSpPr>
          <p:grpSpPr>
            <a:xfrm>
              <a:off x="3345480" y="4916160"/>
              <a:ext cx="246240" cy="88920"/>
              <a:chOff x="3345480" y="4916160"/>
              <a:chExt cx="246240" cy="88920"/>
            </a:xfrm>
          </p:grpSpPr>
          <p:sp>
            <p:nvSpPr>
              <p:cNvPr id="1505" name=""/>
              <p:cNvSpPr/>
              <p:nvPr/>
            </p:nvSpPr>
            <p:spPr>
              <a:xfrm flipV="1">
                <a:off x="3345480" y="4916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3514320" y="500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3426480" y="491832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8" name=""/>
            <p:cNvGrpSpPr/>
            <p:nvPr/>
          </p:nvGrpSpPr>
          <p:grpSpPr>
            <a:xfrm>
              <a:off x="3345480" y="4915080"/>
              <a:ext cx="246240" cy="88920"/>
              <a:chOff x="3345480" y="4915080"/>
              <a:chExt cx="246240" cy="88920"/>
            </a:xfrm>
          </p:grpSpPr>
          <p:sp>
            <p:nvSpPr>
              <p:cNvPr id="1509" name=""/>
              <p:cNvSpPr/>
              <p:nvPr/>
            </p:nvSpPr>
            <p:spPr>
              <a:xfrm>
                <a:off x="3345480" y="50022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3514320" y="4915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 flipV="1">
                <a:off x="3426480" y="4915080"/>
                <a:ext cx="91440" cy="8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12" name=""/>
          <p:cNvGrpSpPr/>
          <p:nvPr/>
        </p:nvGrpSpPr>
        <p:grpSpPr>
          <a:xfrm>
            <a:off x="2616120" y="5372280"/>
            <a:ext cx="500040" cy="232920"/>
            <a:chOff x="2616120" y="5372280"/>
            <a:chExt cx="500040" cy="232920"/>
          </a:xfrm>
        </p:grpSpPr>
        <p:sp>
          <p:nvSpPr>
            <p:cNvPr id="1513" name=""/>
            <p:cNvSpPr/>
            <p:nvPr/>
          </p:nvSpPr>
          <p:spPr>
            <a:xfrm>
              <a:off x="2620080" y="5476320"/>
              <a:ext cx="495720" cy="128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620080" y="5465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3116160" y="54651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620080" y="5465160"/>
              <a:ext cx="49140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616120" y="5372280"/>
              <a:ext cx="49536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8" name=""/>
            <p:cNvGrpSpPr/>
            <p:nvPr/>
          </p:nvGrpSpPr>
          <p:grpSpPr>
            <a:xfrm>
              <a:off x="2735280" y="5405040"/>
              <a:ext cx="245520" cy="88200"/>
              <a:chOff x="2735280" y="5405040"/>
              <a:chExt cx="245520" cy="88200"/>
            </a:xfrm>
          </p:grpSpPr>
          <p:sp>
            <p:nvSpPr>
              <p:cNvPr id="1519" name=""/>
              <p:cNvSpPr/>
              <p:nvPr/>
            </p:nvSpPr>
            <p:spPr>
              <a:xfrm flipV="1">
                <a:off x="2735280" y="540504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2903760" y="549324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815920" y="540720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2" name=""/>
            <p:cNvGrpSpPr/>
            <p:nvPr/>
          </p:nvGrpSpPr>
          <p:grpSpPr>
            <a:xfrm>
              <a:off x="2735280" y="5404320"/>
              <a:ext cx="245520" cy="88200"/>
              <a:chOff x="2735280" y="5404320"/>
              <a:chExt cx="245520" cy="88200"/>
            </a:xfrm>
          </p:grpSpPr>
          <p:sp>
            <p:nvSpPr>
              <p:cNvPr id="1523" name=""/>
              <p:cNvSpPr/>
              <p:nvPr/>
            </p:nvSpPr>
            <p:spPr>
              <a:xfrm>
                <a:off x="2735280" y="5490720"/>
                <a:ext cx="8748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903760" y="5404320"/>
                <a:ext cx="7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2815920" y="5404320"/>
                <a:ext cx="9108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26" name=""/>
          <p:cNvGrpSpPr/>
          <p:nvPr/>
        </p:nvGrpSpPr>
        <p:grpSpPr>
          <a:xfrm>
            <a:off x="1673280" y="4995720"/>
            <a:ext cx="501480" cy="233280"/>
            <a:chOff x="1673280" y="4995720"/>
            <a:chExt cx="501480" cy="233280"/>
          </a:xfrm>
        </p:grpSpPr>
        <p:sp>
          <p:nvSpPr>
            <p:cNvPr id="1527" name=""/>
            <p:cNvSpPr/>
            <p:nvPr/>
          </p:nvSpPr>
          <p:spPr>
            <a:xfrm>
              <a:off x="1677240" y="5099760"/>
              <a:ext cx="497160" cy="1292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677240" y="50889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174760" y="5088960"/>
              <a:ext cx="0" cy="8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1677240" y="5088960"/>
              <a:ext cx="492840" cy="7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1673280" y="4995720"/>
              <a:ext cx="496800" cy="150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1792800" y="5028480"/>
              <a:ext cx="246240" cy="88560"/>
              <a:chOff x="1792800" y="5028480"/>
              <a:chExt cx="246240" cy="88560"/>
            </a:xfrm>
          </p:grpSpPr>
          <p:sp>
            <p:nvSpPr>
              <p:cNvPr id="1533" name=""/>
              <p:cNvSpPr/>
              <p:nvPr/>
            </p:nvSpPr>
            <p:spPr>
              <a:xfrm flipV="1">
                <a:off x="1792800" y="5028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1961640" y="51170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73800" y="503064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1792800" y="5027400"/>
              <a:ext cx="246240" cy="88560"/>
              <a:chOff x="1792800" y="5027400"/>
              <a:chExt cx="246240" cy="88560"/>
            </a:xfrm>
          </p:grpSpPr>
          <p:sp>
            <p:nvSpPr>
              <p:cNvPr id="1537" name=""/>
              <p:cNvSpPr/>
              <p:nvPr/>
            </p:nvSpPr>
            <p:spPr>
              <a:xfrm>
                <a:off x="1792800" y="51141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961640" y="50274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1873800" y="5027400"/>
                <a:ext cx="91440" cy="8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0" name=""/>
          <p:cNvSpPr/>
          <p:nvPr/>
        </p:nvSpPr>
        <p:spPr>
          <a:xfrm flipV="1">
            <a:off x="2176560" y="5019840"/>
            <a:ext cx="1015920" cy="141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1465200" y="5133960"/>
            <a:ext cx="216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5"/>
          <a:stretch/>
        </p:blipFill>
        <p:spPr>
          <a:xfrm>
            <a:off x="2179800" y="5721480"/>
            <a:ext cx="415800" cy="330120"/>
          </a:xfrm>
          <a:prstGeom prst="rect">
            <a:avLst/>
          </a:prstGeom>
          <a:ln w="0">
            <a:noFill/>
          </a:ln>
        </p:spPr>
      </p:pic>
      <p:sp>
        <p:nvSpPr>
          <p:cNvPr id="1543" name=""/>
          <p:cNvSpPr/>
          <p:nvPr/>
        </p:nvSpPr>
        <p:spPr>
          <a:xfrm flipH="1">
            <a:off x="2568600" y="5603760"/>
            <a:ext cx="216000" cy="21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5749920" y="4903920"/>
            <a:ext cx="268200" cy="486720"/>
            <a:chOff x="5749920" y="4903920"/>
            <a:chExt cx="268200" cy="486720"/>
          </a:xfrm>
        </p:grpSpPr>
        <p:pic>
          <p:nvPicPr>
            <p:cNvPr id="1545" name="" descr=""/>
            <p:cNvPicPr/>
            <p:nvPr/>
          </p:nvPicPr>
          <p:blipFill>
            <a:blip r:embed="rId6"/>
            <a:stretch/>
          </p:blipFill>
          <p:spPr>
            <a:xfrm>
              <a:off x="5757840" y="49039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6" name=""/>
            <p:cNvSpPr/>
            <p:nvPr/>
          </p:nvSpPr>
          <p:spPr>
            <a:xfrm>
              <a:off x="5749920" y="5146560"/>
              <a:ext cx="26820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7" name="" descr=""/>
          <p:cNvPicPr/>
          <p:nvPr/>
        </p:nvPicPr>
        <p:blipFill>
          <a:blip r:embed="rId7"/>
          <a:stretch/>
        </p:blipFill>
        <p:spPr>
          <a:xfrm>
            <a:off x="5460840" y="5462640"/>
            <a:ext cx="417600" cy="331560"/>
          </a:xfrm>
          <a:prstGeom prst="rect">
            <a:avLst/>
          </a:prstGeom>
          <a:ln w="0">
            <a:noFill/>
          </a:ln>
        </p:spPr>
      </p:pic>
      <p:sp>
        <p:nvSpPr>
          <p:cNvPr id="1548" name=""/>
          <p:cNvSpPr/>
          <p:nvPr/>
        </p:nvSpPr>
        <p:spPr>
          <a:xfrm flipH="1">
            <a:off x="5820840" y="5376960"/>
            <a:ext cx="63720" cy="27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 flipH="1">
            <a:off x="6748200" y="5084640"/>
            <a:ext cx="152280" cy="239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6181560" y="5373720"/>
            <a:ext cx="268200" cy="487080"/>
            <a:chOff x="6181560" y="5373720"/>
            <a:chExt cx="268200" cy="487080"/>
          </a:xfrm>
        </p:grpSpPr>
        <p:pic>
          <p:nvPicPr>
            <p:cNvPr id="1551" name="" descr=""/>
            <p:cNvPicPr/>
            <p:nvPr/>
          </p:nvPicPr>
          <p:blipFill>
            <a:blip r:embed="rId8"/>
            <a:stretch/>
          </p:blipFill>
          <p:spPr>
            <a:xfrm>
              <a:off x="6189480" y="5373720"/>
              <a:ext cx="203400" cy="24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2" name=""/>
            <p:cNvSpPr/>
            <p:nvPr/>
          </p:nvSpPr>
          <p:spPr>
            <a:xfrm>
              <a:off x="6181560" y="5616360"/>
              <a:ext cx="268200" cy="2444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53" name=""/>
          <p:cNvGraphicFramePr/>
          <p:nvPr/>
        </p:nvGraphicFramePr>
        <p:xfrm>
          <a:off x="6523200" y="5799240"/>
          <a:ext cx="415800" cy="330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523200" y="579924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5" name=""/>
          <p:cNvSpPr/>
          <p:nvPr/>
        </p:nvSpPr>
        <p:spPr>
          <a:xfrm>
            <a:off x="6316560" y="5859360"/>
            <a:ext cx="241560" cy="163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156040" y="632952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PA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5547600" y="631656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 satellit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1"/>
          <a:stretch/>
        </p:blipFill>
        <p:spPr>
          <a:xfrm>
            <a:off x="6743880" y="4776840"/>
            <a:ext cx="417240" cy="331560"/>
          </a:xfrm>
          <a:prstGeom prst="rect">
            <a:avLst/>
          </a:prstGeom>
          <a:ln w="0">
            <a:noFill/>
          </a:ln>
        </p:spPr>
      </p:pic>
      <p:pic>
        <p:nvPicPr>
          <p:cNvPr id="1559" name="" descr=""/>
          <p:cNvPicPr/>
          <p:nvPr/>
        </p:nvPicPr>
        <p:blipFill>
          <a:blip r:embed="rId12"/>
          <a:stretch/>
        </p:blipFill>
        <p:spPr>
          <a:xfrm>
            <a:off x="1104840" y="4941720"/>
            <a:ext cx="417600" cy="331920"/>
          </a:xfrm>
          <a:prstGeom prst="rect">
            <a:avLst/>
          </a:prstGeom>
          <a:ln w="0">
            <a:noFill/>
          </a:ln>
        </p:spPr>
      </p:pic>
      <p:sp>
        <p:nvSpPr>
          <p:cNvPr id="1560" name=""/>
          <p:cNvSpPr/>
          <p:nvPr/>
        </p:nvSpPr>
        <p:spPr>
          <a:xfrm>
            <a:off x="4178160" y="4159080"/>
            <a:ext cx="317520" cy="698760"/>
          </a:xfrm>
          <a:prstGeom prst="rect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 flipV="1">
            <a:off x="3727440" y="4657320"/>
            <a:ext cx="444600" cy="141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4807080" y="4608360"/>
            <a:ext cx="939600" cy="430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4495680" y="4159080"/>
            <a:ext cx="317520" cy="698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911400" y="4875120"/>
            <a:ext cx="11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ate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431640" y="1866960"/>
            <a:ext cx="7035840" cy="3022560"/>
            <a:chOff x="431640" y="1866960"/>
            <a:chExt cx="7035840" cy="3022560"/>
          </a:xfrm>
        </p:grpSpPr>
        <p:grpSp>
          <p:nvGrpSpPr>
            <p:cNvPr id="1566" name=""/>
            <p:cNvGrpSpPr/>
            <p:nvPr/>
          </p:nvGrpSpPr>
          <p:grpSpPr>
            <a:xfrm>
              <a:off x="1054080" y="3772080"/>
              <a:ext cx="6413400" cy="1117440"/>
              <a:chOff x="1054080" y="3772080"/>
              <a:chExt cx="6413400" cy="1117440"/>
            </a:xfrm>
          </p:grpSpPr>
          <p:sp>
            <p:nvSpPr>
              <p:cNvPr id="1567" name=""/>
              <p:cNvSpPr/>
              <p:nvPr/>
            </p:nvSpPr>
            <p:spPr>
              <a:xfrm>
                <a:off x="1054080" y="3848400"/>
                <a:ext cx="6413400" cy="30456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33cc"/>
                  </a:gs>
                  <a:gs pos="100000">
                    <a:srgbClr val="fffff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1180800" y="3797280"/>
                <a:ext cx="266400" cy="1092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819480" y="3772080"/>
                <a:ext cx="266400" cy="10922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4152600" y="3835440"/>
                <a:ext cx="685440" cy="3175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71" name=""/>
            <p:cNvSpPr/>
            <p:nvPr/>
          </p:nvSpPr>
          <p:spPr>
            <a:xfrm>
              <a:off x="431640" y="1866960"/>
              <a:ext cx="3962520" cy="14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80000"/>
                </a:lnSpc>
                <a:spcBef>
                  <a:spcPts val="451"/>
                </a:spcBef>
                <a:buClr>
                  <a:srgbClr val="3333cc"/>
                </a:buClr>
                <a:buSzPct val="85000"/>
                <a:buFont typeface="ZapfDingbats" charset="2"/>
                <a:buChar char="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 flipV="1">
              <a:off x="2590920" y="3327120"/>
              <a:ext cx="799920" cy="64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3" name=""/>
          <p:cNvSpPr/>
          <p:nvPr/>
        </p:nvSpPr>
        <p:spPr>
          <a:xfrm>
            <a:off x="4280040" y="1181160"/>
            <a:ext cx="39621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ateway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acchiude i pacchetti della rete globale in pacchetti con il formato della rete locale o li estrae da questi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 instrada verso il gateway success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 flipH="1">
            <a:off x="4655880" y="3332160"/>
            <a:ext cx="477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333360" y="1301760"/>
            <a:ext cx="3659040" cy="22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P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ndirizzamento: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’interconnessione delle reti fa sì che tutto appaia come una singola entità uniforme nonostante la sottostante eterogeneità delle reti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te delle re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9544-2EE6-40F4-AAFC-C1440F884D0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"/>
          <p:cNvSpPr/>
          <p:nvPr/>
        </p:nvSpPr>
        <p:spPr>
          <a:xfrm>
            <a:off x="533520" y="228600"/>
            <a:ext cx="8140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L’architettura di Cerf &amp; Kah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447840" y="1276200"/>
            <a:ext cx="77724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 cosa è virtualizzat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ue livelli di indirizzamento: rete globale e rete lo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l nuovo livello (IP) rende tutto omogene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cnologia sottostante della rete loca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m telefonico a 56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ggi: ATM, MP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977B-2B07-483A-A5A0-77A616BB56A2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e MPLS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30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TM, MPLS utilizzano la commutazione a pacchetto e sono reti a circuito virtual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hanno propri formati di pacchetto e propri metodi d’invio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l punto di vista di Internet sono al pari di un qualunque collegamento che interconnette dispositivi I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e una rete telefonica e una Ethernet commut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ATM, MPSL: vedremo come queste reti forniscono connessione ai dispositivi 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A55B-B982-47BC-9CB0-FC2E9902253F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Trasferimento asincrono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: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796104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Gli standard per ATM cominciarono a essere sviluppati alla metà degli anni ’80 dall’ATM Forum e dall’ITU; in pratica fu utilizzata principalmente all’interno di reti telefoniche e IP servendo, per esempio, come tecnologia dei collegamenti che connettono router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0000"/>
                </a:solidFill>
                <a:uFillTx/>
                <a:latin typeface="Comic Sans MS"/>
              </a:rPr>
              <a:t>Obiettivo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progettare reti in grado di trasportare file audio e video in tempo reale, oltre a testo, e-mail e file di immagin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Rispondenza ai requisiti di tempo/QoS per voce e video (rispetto al modello best-effort di Interne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elefonia di ultima gener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ommutazione di pacchetto usando circuiti virtual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5833-AD0B-4DFE-90A1-10B4DD8D51C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396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Architettura di ATM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74760" y="3754440"/>
            <a:ext cx="7961040" cy="26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AAL (ATM </a:t>
            </a:r>
            <a:r>
              <a:rPr b="0" i="1" lang="it-IT" sz="2000" spc="-1" strike="noStrike">
                <a:solidFill>
                  <a:srgbClr val="ff0000"/>
                </a:solidFill>
                <a:latin typeface="Comic Sans MS"/>
              </a:rPr>
              <a:t>adaptation layer</a:t>
            </a: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è presente solo nei dispositivi alla periferia della rete AT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gmentazione e riassemblaggio dei pacchett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mile al livello di trasporto in Interne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Livello ATM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“livello di rete”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efinisce la struttura della cella ATM e il significato dei suoi campi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Livello fisico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84" name=""/>
          <p:cNvGrpSpPr/>
          <p:nvPr/>
        </p:nvGrpSpPr>
        <p:grpSpPr>
          <a:xfrm>
            <a:off x="1365120" y="1227240"/>
            <a:ext cx="5999040" cy="2479680"/>
            <a:chOff x="1365120" y="1227240"/>
            <a:chExt cx="5999040" cy="2479680"/>
          </a:xfrm>
        </p:grpSpPr>
        <p:grpSp>
          <p:nvGrpSpPr>
            <p:cNvPr id="1585" name=""/>
            <p:cNvGrpSpPr/>
            <p:nvPr/>
          </p:nvGrpSpPr>
          <p:grpSpPr>
            <a:xfrm>
              <a:off x="1407960" y="1235160"/>
              <a:ext cx="1187280" cy="2057400"/>
              <a:chOff x="1407960" y="1235160"/>
              <a:chExt cx="1187280" cy="2057400"/>
            </a:xfrm>
          </p:grpSpPr>
          <p:grpSp>
            <p:nvGrpSpPr>
              <p:cNvPr id="1586" name=""/>
              <p:cNvGrpSpPr/>
              <p:nvPr/>
            </p:nvGrpSpPr>
            <p:grpSpPr>
              <a:xfrm>
                <a:off x="1407960" y="1235160"/>
                <a:ext cx="1187280" cy="2057400"/>
                <a:chOff x="1407960" y="1235160"/>
                <a:chExt cx="1187280" cy="2057400"/>
              </a:xfrm>
            </p:grpSpPr>
            <p:sp>
              <p:nvSpPr>
                <p:cNvPr id="1587" name=""/>
                <p:cNvSpPr/>
                <p:nvPr/>
              </p:nvSpPr>
              <p:spPr>
                <a:xfrm>
                  <a:off x="1407960" y="1235160"/>
                  <a:ext cx="1187280" cy="20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 flipH="1">
                  <a:off x="1417320" y="259560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 flipH="1">
                  <a:off x="1409400" y="191304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0" name=""/>
              <p:cNvSpPr/>
              <p:nvPr/>
            </p:nvSpPr>
            <p:spPr>
              <a:xfrm>
                <a:off x="1522800" y="27543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1684440" y="20844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1690920" y="140364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3" name=""/>
            <p:cNvGrpSpPr/>
            <p:nvPr/>
          </p:nvGrpSpPr>
          <p:grpSpPr>
            <a:xfrm>
              <a:off x="6176880" y="1227240"/>
              <a:ext cx="1187280" cy="2057400"/>
              <a:chOff x="6176880" y="1227240"/>
              <a:chExt cx="1187280" cy="2057400"/>
            </a:xfrm>
          </p:grpSpPr>
          <p:grpSp>
            <p:nvGrpSpPr>
              <p:cNvPr id="1594" name=""/>
              <p:cNvGrpSpPr/>
              <p:nvPr/>
            </p:nvGrpSpPr>
            <p:grpSpPr>
              <a:xfrm>
                <a:off x="6176880" y="1227240"/>
                <a:ext cx="1187280" cy="2057400"/>
                <a:chOff x="6176880" y="1227240"/>
                <a:chExt cx="1187280" cy="205740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6176880" y="1227240"/>
                  <a:ext cx="1187280" cy="205740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 flipH="1">
                  <a:off x="6186240" y="258768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 flipH="1">
                  <a:off x="6178320" y="1905120"/>
                  <a:ext cx="115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8" name=""/>
              <p:cNvSpPr/>
              <p:nvPr/>
            </p:nvSpPr>
            <p:spPr>
              <a:xfrm>
                <a:off x="6291720" y="274644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453360" y="207648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6459840" y="139572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1" name=""/>
            <p:cNvGrpSpPr/>
            <p:nvPr/>
          </p:nvGrpSpPr>
          <p:grpSpPr>
            <a:xfrm>
              <a:off x="3002040" y="1963800"/>
              <a:ext cx="1187280" cy="1301760"/>
              <a:chOff x="3002040" y="1963800"/>
              <a:chExt cx="1187280" cy="1301760"/>
            </a:xfrm>
          </p:grpSpPr>
          <p:sp>
            <p:nvSpPr>
              <p:cNvPr id="1602" name=""/>
              <p:cNvSpPr/>
              <p:nvPr/>
            </p:nvSpPr>
            <p:spPr>
              <a:xfrm>
                <a:off x="3002040" y="1963800"/>
                <a:ext cx="1187280" cy="130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 flipH="1">
                <a:off x="3011400" y="2568600"/>
                <a:ext cx="11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3116160" y="27273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277800" y="20574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06" name=""/>
            <p:cNvGrpSpPr/>
            <p:nvPr/>
          </p:nvGrpSpPr>
          <p:grpSpPr>
            <a:xfrm>
              <a:off x="4594320" y="1967040"/>
              <a:ext cx="1187280" cy="1301760"/>
              <a:chOff x="4594320" y="1967040"/>
              <a:chExt cx="1187280" cy="1301760"/>
            </a:xfrm>
          </p:grpSpPr>
          <p:sp>
            <p:nvSpPr>
              <p:cNvPr id="1607" name=""/>
              <p:cNvSpPr/>
              <p:nvPr/>
            </p:nvSpPr>
            <p:spPr>
              <a:xfrm>
                <a:off x="4594320" y="1967040"/>
                <a:ext cx="1187280" cy="130176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 flipH="1">
                <a:off x="4603680" y="2571840"/>
                <a:ext cx="115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708440" y="27306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4870080" y="206064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1" name=""/>
            <p:cNvSpPr/>
            <p:nvPr/>
          </p:nvSpPr>
          <p:spPr>
            <a:xfrm>
              <a:off x="2274840" y="1419120"/>
              <a:ext cx="4000680" cy="1519200"/>
            </a:xfrm>
            <a:custGeom>
              <a:avLst/>
              <a:gdLst/>
              <a:ahLst/>
              <a:rect l="l" t="t" r="r" b="b"/>
              <a:pathLst>
                <a:path w="2520" h="957">
                  <a:moveTo>
                    <a:pt x="0" y="108"/>
                  </a:moveTo>
                  <a:lnTo>
                    <a:pt x="93" y="108"/>
                  </a:lnTo>
                  <a:lnTo>
                    <a:pt x="93" y="957"/>
                  </a:lnTo>
                  <a:lnTo>
                    <a:pt x="504" y="957"/>
                  </a:lnTo>
                  <a:lnTo>
                    <a:pt x="504" y="374"/>
                  </a:lnTo>
                  <a:lnTo>
                    <a:pt x="1152" y="374"/>
                  </a:lnTo>
                  <a:lnTo>
                    <a:pt x="1152" y="957"/>
                  </a:lnTo>
                  <a:lnTo>
                    <a:pt x="1505" y="957"/>
                  </a:lnTo>
                  <a:lnTo>
                    <a:pt x="1512" y="367"/>
                  </a:lnTo>
                  <a:lnTo>
                    <a:pt x="2153" y="367"/>
                  </a:lnTo>
                  <a:lnTo>
                    <a:pt x="2153" y="957"/>
                  </a:lnTo>
                  <a:lnTo>
                    <a:pt x="2520" y="957"/>
                  </a:lnTo>
                  <a:lnTo>
                    <a:pt x="252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1365120" y="333864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043320" y="32958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174840" y="33289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733640" y="330840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B5F5-2AF4-43BD-86B3-2EDA54DC927D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"/>
          <p:cNvSpPr/>
          <p:nvPr/>
        </p:nvSpPr>
        <p:spPr>
          <a:xfrm>
            <a:off x="295200" y="228600"/>
            <a:ext cx="8597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 u="sng">
                <a:solidFill>
                  <a:srgbClr val="3333cc"/>
                </a:solidFill>
                <a:uFillTx/>
                <a:latin typeface="Comic Sans MS"/>
              </a:rPr>
              <a:t>ATM:  livello di rete o collegamento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353880" y="1185840"/>
            <a:ext cx="382284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Vision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trasporto end to end: “ATM da scrivania a scrivania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è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na tecnologia di r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Comic Sans MS"/>
              </a:rPr>
              <a:t>Realtà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ato per collegare router di dorsale IP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P su ATM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4160" indent="-276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TM come livello di link commutato, che collega router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6946920" y="4498920"/>
            <a:ext cx="1623960" cy="501840"/>
          </a:xfrm>
          <a:custGeom>
            <a:avLst/>
            <a:gdLst/>
            <a:ahLst/>
            <a:rect l="l" t="t" r="r" b="b"/>
            <a:pathLst>
              <a:path w="1023" h="316">
                <a:moveTo>
                  <a:pt x="413" y="312"/>
                </a:moveTo>
                <a:cubicBezTo>
                  <a:pt x="235" y="316"/>
                  <a:pt x="104" y="311"/>
                  <a:pt x="52" y="285"/>
                </a:cubicBezTo>
                <a:cubicBezTo>
                  <a:pt x="0" y="258"/>
                  <a:pt x="50" y="169"/>
                  <a:pt x="99" y="149"/>
                </a:cubicBezTo>
                <a:cubicBezTo>
                  <a:pt x="148" y="130"/>
                  <a:pt x="316" y="182"/>
                  <a:pt x="349" y="165"/>
                </a:cubicBezTo>
                <a:cubicBezTo>
                  <a:pt x="382" y="148"/>
                  <a:pt x="277" y="73"/>
                  <a:pt x="299" y="47"/>
                </a:cubicBezTo>
                <a:cubicBezTo>
                  <a:pt x="321" y="21"/>
                  <a:pt x="414" y="0"/>
                  <a:pt x="482" y="8"/>
                </a:cubicBezTo>
                <a:cubicBezTo>
                  <a:pt x="550" y="16"/>
                  <a:pt x="670" y="67"/>
                  <a:pt x="705" y="93"/>
                </a:cubicBezTo>
                <a:cubicBezTo>
                  <a:pt x="740" y="119"/>
                  <a:pt x="657" y="148"/>
                  <a:pt x="694" y="163"/>
                </a:cubicBezTo>
                <a:cubicBezTo>
                  <a:pt x="731" y="177"/>
                  <a:pt x="893" y="157"/>
                  <a:pt x="932" y="179"/>
                </a:cubicBezTo>
                <a:cubicBezTo>
                  <a:pt x="972" y="201"/>
                  <a:pt x="1023" y="271"/>
                  <a:pt x="936" y="293"/>
                </a:cubicBezTo>
                <a:cubicBezTo>
                  <a:pt x="849" y="315"/>
                  <a:pt x="523" y="308"/>
                  <a:pt x="413" y="31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4843440" y="2352600"/>
            <a:ext cx="3073320" cy="189720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5208480" y="3755880"/>
            <a:ext cx="287280" cy="186876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1" name=""/>
          <p:cNvGrpSpPr/>
          <p:nvPr/>
        </p:nvGrpSpPr>
        <p:grpSpPr>
          <a:xfrm>
            <a:off x="6769080" y="4184640"/>
            <a:ext cx="623520" cy="317160"/>
            <a:chOff x="6769080" y="4184640"/>
            <a:chExt cx="623520" cy="317160"/>
          </a:xfrm>
        </p:grpSpPr>
        <p:sp>
          <p:nvSpPr>
            <p:cNvPr id="1622" name=""/>
            <p:cNvSpPr/>
            <p:nvPr/>
          </p:nvSpPr>
          <p:spPr>
            <a:xfrm>
              <a:off x="6774120" y="4326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6774120" y="4311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392600" y="4311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774120" y="4311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769080" y="4184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7" name=""/>
            <p:cNvGrpSpPr/>
            <p:nvPr/>
          </p:nvGrpSpPr>
          <p:grpSpPr>
            <a:xfrm>
              <a:off x="6917760" y="4229640"/>
              <a:ext cx="306000" cy="119520"/>
              <a:chOff x="6917760" y="4229640"/>
              <a:chExt cx="306000" cy="119520"/>
            </a:xfrm>
          </p:grpSpPr>
          <p:sp>
            <p:nvSpPr>
              <p:cNvPr id="1628" name=""/>
              <p:cNvSpPr/>
              <p:nvPr/>
            </p:nvSpPr>
            <p:spPr>
              <a:xfrm flipV="1">
                <a:off x="6917760" y="4229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27640" y="4349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7018560" y="4231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31" name=""/>
            <p:cNvGrpSpPr/>
            <p:nvPr/>
          </p:nvGrpSpPr>
          <p:grpSpPr>
            <a:xfrm>
              <a:off x="6917760" y="4228200"/>
              <a:ext cx="306000" cy="119520"/>
              <a:chOff x="6917760" y="4228200"/>
              <a:chExt cx="306000" cy="119520"/>
            </a:xfrm>
          </p:grpSpPr>
          <p:sp>
            <p:nvSpPr>
              <p:cNvPr id="1632" name=""/>
              <p:cNvSpPr/>
              <p:nvPr/>
            </p:nvSpPr>
            <p:spPr>
              <a:xfrm>
                <a:off x="6917760" y="4345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7127640" y="4228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 flipV="1">
                <a:off x="7018560" y="4228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35" name="" descr=""/>
          <p:cNvPicPr/>
          <p:nvPr/>
        </p:nvPicPr>
        <p:blipFill>
          <a:blip r:embed="rId1"/>
          <a:stretch/>
        </p:blipFill>
        <p:spPr>
          <a:xfrm>
            <a:off x="4724280" y="5022720"/>
            <a:ext cx="525600" cy="455760"/>
          </a:xfrm>
          <a:prstGeom prst="rect">
            <a:avLst/>
          </a:prstGeom>
          <a:ln w="0">
            <a:noFill/>
          </a:ln>
        </p:spPr>
      </p:pic>
      <p:pic>
        <p:nvPicPr>
          <p:cNvPr id="1636" name="" descr=""/>
          <p:cNvPicPr/>
          <p:nvPr/>
        </p:nvPicPr>
        <p:blipFill>
          <a:blip r:embed="rId2"/>
          <a:stretch/>
        </p:blipFill>
        <p:spPr>
          <a:xfrm>
            <a:off x="7410600" y="199404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1637" name="" descr=""/>
          <p:cNvPicPr/>
          <p:nvPr/>
        </p:nvPicPr>
        <p:blipFill>
          <a:blip r:embed="rId3"/>
          <a:stretch/>
        </p:blipFill>
        <p:spPr>
          <a:xfrm>
            <a:off x="6840360" y="5003640"/>
            <a:ext cx="524160" cy="454320"/>
          </a:xfrm>
          <a:prstGeom prst="rect">
            <a:avLst/>
          </a:prstGeom>
          <a:ln w="0">
            <a:noFill/>
          </a:ln>
        </p:spPr>
      </p:pic>
      <p:sp>
        <p:nvSpPr>
          <p:cNvPr id="1638" name=""/>
          <p:cNvSpPr/>
          <p:nvPr/>
        </p:nvSpPr>
        <p:spPr>
          <a:xfrm>
            <a:off x="5205240" y="390528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359320" y="444168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010120" y="4267080"/>
            <a:ext cx="9360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010120" y="44798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010120" y="466740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3" name=""/>
          <p:cNvGrpSpPr/>
          <p:nvPr/>
        </p:nvGrpSpPr>
        <p:grpSpPr>
          <a:xfrm>
            <a:off x="5478480" y="4273560"/>
            <a:ext cx="622080" cy="315720"/>
            <a:chOff x="5478480" y="4273560"/>
            <a:chExt cx="622080" cy="315720"/>
          </a:xfrm>
        </p:grpSpPr>
        <p:sp>
          <p:nvSpPr>
            <p:cNvPr id="1644" name=""/>
            <p:cNvSpPr/>
            <p:nvPr/>
          </p:nvSpPr>
          <p:spPr>
            <a:xfrm>
              <a:off x="5483520" y="4414320"/>
              <a:ext cx="61704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5483520" y="439956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6100560" y="439956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483520" y="4399560"/>
              <a:ext cx="61164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478480" y="4273560"/>
              <a:ext cx="61668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49" name=""/>
            <p:cNvGrpSpPr/>
            <p:nvPr/>
          </p:nvGrpSpPr>
          <p:grpSpPr>
            <a:xfrm>
              <a:off x="5626800" y="4318560"/>
              <a:ext cx="305640" cy="119160"/>
              <a:chOff x="5626800" y="4318560"/>
              <a:chExt cx="305640" cy="119160"/>
            </a:xfrm>
          </p:grpSpPr>
          <p:sp>
            <p:nvSpPr>
              <p:cNvPr id="1650" name=""/>
              <p:cNvSpPr/>
              <p:nvPr/>
            </p:nvSpPr>
            <p:spPr>
              <a:xfrm flipV="1">
                <a:off x="5626800" y="43185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5836320" y="443772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5727240" y="432072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3" name=""/>
            <p:cNvGrpSpPr/>
            <p:nvPr/>
          </p:nvGrpSpPr>
          <p:grpSpPr>
            <a:xfrm>
              <a:off x="5626800" y="4316400"/>
              <a:ext cx="305640" cy="119160"/>
              <a:chOff x="5626800" y="4316400"/>
              <a:chExt cx="305640" cy="119160"/>
            </a:xfrm>
          </p:grpSpPr>
          <p:sp>
            <p:nvSpPr>
              <p:cNvPr id="1654" name=""/>
              <p:cNvSpPr/>
              <p:nvPr/>
            </p:nvSpPr>
            <p:spPr>
              <a:xfrm>
                <a:off x="5626800" y="44334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836320" y="43164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 flipV="1">
                <a:off x="5727240" y="431676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657" name="" descr=""/>
          <p:cNvPicPr/>
          <p:nvPr/>
        </p:nvPicPr>
        <p:blipFill>
          <a:blip r:embed="rId4"/>
          <a:stretch/>
        </p:blipFill>
        <p:spPr>
          <a:xfrm>
            <a:off x="8029440" y="4965840"/>
            <a:ext cx="524160" cy="455400"/>
          </a:xfrm>
          <a:prstGeom prst="rect">
            <a:avLst/>
          </a:prstGeom>
          <a:ln w="0">
            <a:noFill/>
          </a:ln>
        </p:spPr>
      </p:pic>
      <p:sp>
        <p:nvSpPr>
          <p:cNvPr id="1658" name=""/>
          <p:cNvSpPr/>
          <p:nvPr/>
        </p:nvSpPr>
        <p:spPr>
          <a:xfrm rot="16209600">
            <a:off x="7644960" y="4270320"/>
            <a:ext cx="168480" cy="132408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 flipH="1" flipV="1">
            <a:off x="7336080" y="4457520"/>
            <a:ext cx="639360" cy="385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7408800" y="2384280"/>
            <a:ext cx="252360" cy="4334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264440" y="3929040"/>
            <a:ext cx="109440" cy="2858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772240" y="3462480"/>
            <a:ext cx="115920" cy="7506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3" name="" descr=""/>
          <p:cNvPicPr/>
          <p:nvPr/>
        </p:nvPicPr>
        <p:blipFill>
          <a:blip r:embed="rId5"/>
          <a:stretch/>
        </p:blipFill>
        <p:spPr>
          <a:xfrm>
            <a:off x="4697280" y="3549600"/>
            <a:ext cx="524160" cy="453960"/>
          </a:xfrm>
          <a:prstGeom prst="rect">
            <a:avLst/>
          </a:prstGeom>
          <a:ln w="0">
            <a:noFill/>
          </a:ln>
        </p:spPr>
      </p:pic>
      <p:sp>
        <p:nvSpPr>
          <p:cNvPr id="1664" name=""/>
          <p:cNvSpPr/>
          <p:nvPr/>
        </p:nvSpPr>
        <p:spPr>
          <a:xfrm>
            <a:off x="5549760" y="2743200"/>
            <a:ext cx="2219400" cy="128268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5157720" y="2387520"/>
            <a:ext cx="766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5783400" y="1770120"/>
            <a:ext cx="74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251400" y="2446200"/>
            <a:ext cx="630360" cy="63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046920" y="2890800"/>
            <a:ext cx="1006200" cy="7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17CD-288F-4D4E-AE45-55746AEA9CD4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AL: </a:t>
            </a: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ation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200" spc="-1" strike="noStrike">
                <a:solidFill>
                  <a:srgbClr val="000000"/>
                </a:solidFill>
                <a:latin typeface="Comic Sans MS"/>
              </a:rPr>
              <a:t>ATM </a:t>
            </a:r>
            <a:r>
              <a:rPr b="1" i="1" lang="it-IT" sz="2200" spc="-1" strike="noStrike">
                <a:solidFill>
                  <a:srgbClr val="000000"/>
                </a:solidFill>
                <a:latin typeface="Comic Sans MS"/>
              </a:rPr>
              <a:t>Adaptation Layer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(AAL): “adatta” i livelli superiori (IP o applicazioni ATM native) al sottostante livello ATM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AL è presente </a:t>
            </a:r>
            <a:r>
              <a:rPr b="1" lang="it-IT" sz="2200" spc="-1" strike="noStrike">
                <a:solidFill>
                  <a:srgbClr val="000000"/>
                </a:solidFill>
                <a:latin typeface="Comic Sans MS"/>
              </a:rPr>
              <a:t>solo nei sistemi terminali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e non nei commutatori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Segmento di livello AAL frammentato su più celle AT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819000" indent="-28548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Analogia: segmenti TCP in vari pacchetti IP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2047680" y="4799160"/>
            <a:ext cx="4500720" cy="1877040"/>
            <a:chOff x="2047680" y="4799160"/>
            <a:chExt cx="4500720" cy="1877040"/>
          </a:xfrm>
        </p:grpSpPr>
        <p:grpSp>
          <p:nvGrpSpPr>
            <p:cNvPr id="1672" name=""/>
            <p:cNvGrpSpPr/>
            <p:nvPr/>
          </p:nvGrpSpPr>
          <p:grpSpPr>
            <a:xfrm>
              <a:off x="2073240" y="4804560"/>
              <a:ext cx="848520" cy="1470240"/>
              <a:chOff x="2073240" y="4804560"/>
              <a:chExt cx="848520" cy="1470240"/>
            </a:xfrm>
          </p:grpSpPr>
          <p:grpSp>
            <p:nvGrpSpPr>
              <p:cNvPr id="1673" name=""/>
              <p:cNvGrpSpPr/>
              <p:nvPr/>
            </p:nvGrpSpPr>
            <p:grpSpPr>
              <a:xfrm>
                <a:off x="2073240" y="4804560"/>
                <a:ext cx="848520" cy="1470240"/>
                <a:chOff x="2073240" y="4804560"/>
                <a:chExt cx="848520" cy="1470240"/>
              </a:xfrm>
            </p:grpSpPr>
            <p:sp>
              <p:nvSpPr>
                <p:cNvPr id="1674" name=""/>
                <p:cNvSpPr/>
                <p:nvPr/>
              </p:nvSpPr>
              <p:spPr>
                <a:xfrm>
                  <a:off x="2073240" y="4804560"/>
                  <a:ext cx="848520" cy="1470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 flipH="1">
                  <a:off x="2079360" y="5776560"/>
                  <a:ext cx="82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 flipH="1">
                  <a:off x="2073600" y="5288760"/>
                  <a:ext cx="824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7" name=""/>
              <p:cNvSpPr/>
              <p:nvPr/>
            </p:nvSpPr>
            <p:spPr>
              <a:xfrm>
                <a:off x="2165760" y="58914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2283840" y="541116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2289600" y="492588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5482080" y="4799160"/>
              <a:ext cx="848160" cy="1470240"/>
              <a:chOff x="5482080" y="4799160"/>
              <a:chExt cx="848160" cy="1470240"/>
            </a:xfrm>
          </p:grpSpPr>
          <p:grpSp>
            <p:nvGrpSpPr>
              <p:cNvPr id="1681" name=""/>
              <p:cNvGrpSpPr/>
              <p:nvPr/>
            </p:nvGrpSpPr>
            <p:grpSpPr>
              <a:xfrm>
                <a:off x="5482080" y="4799160"/>
                <a:ext cx="848160" cy="1470240"/>
                <a:chOff x="5482080" y="4799160"/>
                <a:chExt cx="848160" cy="1470240"/>
              </a:xfrm>
            </p:grpSpPr>
            <p:sp>
              <p:nvSpPr>
                <p:cNvPr id="1682" name=""/>
                <p:cNvSpPr/>
                <p:nvPr/>
              </p:nvSpPr>
              <p:spPr>
                <a:xfrm>
                  <a:off x="5482080" y="4799160"/>
                  <a:ext cx="848160" cy="1470240"/>
                </a:xfrm>
                <a:prstGeom prst="rect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 flipH="1">
                  <a:off x="5488560" y="5771160"/>
                  <a:ext cx="82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 flipH="1">
                  <a:off x="5482800" y="5283360"/>
                  <a:ext cx="824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5571720" y="588600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5692320" y="540720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5697000" y="4919400"/>
                <a:ext cx="54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8" name=""/>
            <p:cNvGrpSpPr/>
            <p:nvPr/>
          </p:nvGrpSpPr>
          <p:grpSpPr>
            <a:xfrm>
              <a:off x="3212640" y="5325480"/>
              <a:ext cx="848160" cy="930240"/>
              <a:chOff x="3212640" y="5325480"/>
              <a:chExt cx="848160" cy="930240"/>
            </a:xfrm>
          </p:grpSpPr>
          <p:sp>
            <p:nvSpPr>
              <p:cNvPr id="1689" name=""/>
              <p:cNvSpPr/>
              <p:nvPr/>
            </p:nvSpPr>
            <p:spPr>
              <a:xfrm>
                <a:off x="3212640" y="5325480"/>
                <a:ext cx="848160" cy="930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 flipH="1">
                <a:off x="3219120" y="5757480"/>
                <a:ext cx="82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3304800" y="587196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3424320" y="539208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4350960" y="5327640"/>
              <a:ext cx="848160" cy="929880"/>
              <a:chOff x="4350960" y="5327640"/>
              <a:chExt cx="848160" cy="929880"/>
            </a:xfrm>
          </p:grpSpPr>
          <p:sp>
            <p:nvSpPr>
              <p:cNvPr id="1694" name=""/>
              <p:cNvSpPr/>
              <p:nvPr/>
            </p:nvSpPr>
            <p:spPr>
              <a:xfrm>
                <a:off x="4350960" y="5327640"/>
                <a:ext cx="848160" cy="929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 flipH="1">
                <a:off x="4357440" y="5759640"/>
                <a:ext cx="82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443120" y="5873040"/>
                <a:ext cx="70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4562640" y="5394240"/>
                <a:ext cx="61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8" name=""/>
            <p:cNvSpPr/>
            <p:nvPr/>
          </p:nvSpPr>
          <p:spPr>
            <a:xfrm>
              <a:off x="2692800" y="4935960"/>
              <a:ext cx="2859480" cy="1085760"/>
            </a:xfrm>
            <a:custGeom>
              <a:avLst/>
              <a:gdLst/>
              <a:ahLst/>
              <a:rect l="l" t="t" r="r" b="b"/>
              <a:pathLst>
                <a:path w="2520" h="957">
                  <a:moveTo>
                    <a:pt x="0" y="108"/>
                  </a:moveTo>
                  <a:lnTo>
                    <a:pt x="93" y="108"/>
                  </a:lnTo>
                  <a:lnTo>
                    <a:pt x="93" y="957"/>
                  </a:lnTo>
                  <a:lnTo>
                    <a:pt x="504" y="957"/>
                  </a:lnTo>
                  <a:lnTo>
                    <a:pt x="504" y="374"/>
                  </a:lnTo>
                  <a:lnTo>
                    <a:pt x="1152" y="374"/>
                  </a:lnTo>
                  <a:lnTo>
                    <a:pt x="1152" y="957"/>
                  </a:lnTo>
                  <a:lnTo>
                    <a:pt x="1505" y="957"/>
                  </a:lnTo>
                  <a:lnTo>
                    <a:pt x="1512" y="367"/>
                  </a:lnTo>
                  <a:lnTo>
                    <a:pt x="2153" y="367"/>
                  </a:lnTo>
                  <a:lnTo>
                    <a:pt x="2153" y="957"/>
                  </a:lnTo>
                  <a:lnTo>
                    <a:pt x="2520" y="957"/>
                  </a:lnTo>
                  <a:lnTo>
                    <a:pt x="2520" y="0"/>
                  </a:ln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047680" y="630792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5390640" y="6278400"/>
              <a:ext cx="115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terminal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344760" y="63025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4458960" y="6286320"/>
              <a:ext cx="81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Comic Sans MS"/>
                </a:rPr>
                <a:t>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C54-7B06-4316-A969-388B39BA1FEA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06360" y="-360"/>
            <a:ext cx="8467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AL: </a:t>
            </a:r>
            <a:r>
              <a:rPr b="0" i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ATM Adaptation Layer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406080" y="1141560"/>
            <a:ext cx="8474040" cy="49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erenti versioni di livelli AAL, in base alla classe di servizio ATM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1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a tasso costante, CBR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Constant Bit Ra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, es. emulazione di circui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2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a tasso variabile, VBR (</a:t>
            </a:r>
            <a:r>
              <a:rPr b="0" i="1" lang="it-IT" sz="1800" spc="-1" strike="noStrike">
                <a:solidFill>
                  <a:srgbClr val="000000"/>
                </a:solidFill>
                <a:latin typeface="Comic Sans MS"/>
              </a:rPr>
              <a:t>Variable Bit Rate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), es. video MPEG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Comic Sans MS"/>
              </a:rPr>
              <a:t>AAL5:</a:t>
            </a: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 per il servizio dati (es., datagrammi IP)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5" name="" descr=""/>
          <p:cNvPicPr/>
          <p:nvPr/>
        </p:nvPicPr>
        <p:blipFill>
          <a:blip r:embed="rId1"/>
          <a:stretch/>
        </p:blipFill>
        <p:spPr>
          <a:xfrm>
            <a:off x="2038320" y="3708360"/>
            <a:ext cx="6437520" cy="2797200"/>
          </a:xfrm>
          <a:prstGeom prst="rect">
            <a:avLst/>
          </a:prstGeom>
          <a:ln w="0">
            <a:noFill/>
          </a:ln>
        </p:spPr>
      </p:pic>
      <p:sp>
        <p:nvSpPr>
          <p:cNvPr id="1706" name=""/>
          <p:cNvSpPr/>
          <p:nvPr/>
        </p:nvSpPr>
        <p:spPr>
          <a:xfrm>
            <a:off x="574560" y="4635360"/>
            <a:ext cx="112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DU A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622080" y="5594400"/>
            <a:ext cx="124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lla 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646560" y="380844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User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199-E68D-43C1-9A34-E9CC09C8D5E6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355680" y="1980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525600" y="995040"/>
            <a:ext cx="82152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ervizio: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trasporto di celle attraverso la rete AT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nalogo al livello di rete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 servizi sono molto differenti dal livello di rete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1" name=""/>
          <p:cNvSpPr/>
          <p:nvPr/>
        </p:nvSpPr>
        <p:spPr>
          <a:xfrm>
            <a:off x="410760" y="2511360"/>
            <a:ext cx="14821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tet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a r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1956600" y="2511360"/>
            <a:ext cx="1314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serviz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279960" y="2828880"/>
            <a:ext cx="118512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rghezz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i ba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ss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st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Tas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aran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nim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aran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ss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99960" y="3328920"/>
            <a:ext cx="8429760" cy="97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504720" y="40622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552600" y="4681440"/>
            <a:ext cx="842940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52600" y="5310360"/>
            <a:ext cx="8429400" cy="936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61960" y="5891040"/>
            <a:ext cx="8429760" cy="972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4631760" y="2852640"/>
            <a:ext cx="8236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erdi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5417280" y="2862360"/>
            <a:ext cx="7887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rd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6274080" y="2862360"/>
            <a:ext cx="79020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7271640" y="2530440"/>
            <a:ext cx="1780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 (dedot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 c’è perdit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c’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n c’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gest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ì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4662000" y="2379600"/>
            <a:ext cx="12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anz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381480" y="2805120"/>
            <a:ext cx="3733560" cy="0"/>
          </a:xfrm>
          <a:prstGeom prst="line">
            <a:avLst/>
          </a:prstGeom>
          <a:ln w="190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620A-B857-4C9D-88DD-CF865C3D5F0F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9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: canale virtuale (VC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407880" y="1300320"/>
            <a:ext cx="8066160" cy="490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percorso che consiste in una sequenza di collegamenti fra sorgente e destinazion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mpostazione della chiamata, prima di avviare la trasmissione dati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iascun pacchetto ha un identificatore del circuito virtuale (VCI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Ogni switch sul percorso origine-destinazione mantiene lo “stato” per ciascuna connessione passante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Al VC possono essere allocati collegamento e risorse di commutazione (banda, buffer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 permanente (PVC,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permanent VC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Per connessioni di lunga dura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e celle ATM sono instradate dal punto d’ingresso a quello d’usci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Canale virtuale dinamico (SVC, </a:t>
            </a:r>
            <a:r>
              <a:rPr b="0" i="1" lang="it-IT" sz="2200" spc="-1" strike="noStrike">
                <a:solidFill>
                  <a:srgbClr val="ff0000"/>
                </a:solidFill>
                <a:latin typeface="Comic Sans MS"/>
              </a:rPr>
              <a:t>switched VC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reato o cancellato dinamicamente, su richiesta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1299-DE46-44C2-998D-39CA8A94029A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Adattatori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-360" y="4412880"/>
            <a:ext cx="4311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to mittent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capsula un datagramma in un fram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mposta il bit rilevazione degli errori, trasferimento dati affidabile, controllo di flusso, etc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397400" y="4377960"/>
            <a:ext cx="4091040" cy="29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Lato ricevente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Individua gli errori, trasferimento dati affidabile, controllo di flusso, etc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Estrae i datagrammi e li passa al nodo ricevent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4113360" y="3394080"/>
            <a:ext cx="1444320" cy="212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57320" y="1373040"/>
            <a:ext cx="1944720" cy="177012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52720" y="189216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193840" y="221292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435400" y="2773440"/>
            <a:ext cx="70452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5400" y="230184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346480" y="205596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2763720" y="206208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28760" y="150192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095640" y="150336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H="1" flipV="1">
            <a:off x="2550600" y="1917720"/>
            <a:ext cx="180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3475080" y="192060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832360" y="1430280"/>
            <a:ext cx="1944720" cy="173196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068880" y="2232000"/>
            <a:ext cx="1187640" cy="866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10440" y="2792520"/>
            <a:ext cx="703080" cy="2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10440" y="2320920"/>
            <a:ext cx="69516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21520" y="2075040"/>
            <a:ext cx="14382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6638760" y="2081160"/>
            <a:ext cx="0" cy="23976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103800" y="152100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970680" y="1522440"/>
            <a:ext cx="695520" cy="415800"/>
          </a:xfrm>
          <a:prstGeom prst="rect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 flipV="1">
            <a:off x="6426360" y="1936800"/>
            <a:ext cx="1440" cy="1382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7350120" y="1939680"/>
            <a:ext cx="0" cy="13644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937880" y="305928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t mitt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729400" y="3057480"/>
            <a:ext cx="144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ost ricev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512720" y="1967040"/>
            <a:ext cx="7178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6840" y="194796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961240" y="1870200"/>
            <a:ext cx="0" cy="392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423040" y="1986120"/>
            <a:ext cx="71568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88480" y="1967040"/>
            <a:ext cx="889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768760" y="2903400"/>
            <a:ext cx="3882960" cy="447840"/>
          </a:xfrm>
          <a:custGeom>
            <a:avLst/>
            <a:gdLst/>
            <a:ahLst/>
            <a:rect l="l" t="t" r="r" b="b"/>
            <a:pathLst>
              <a:path w="2597" h="384">
                <a:moveTo>
                  <a:pt x="0" y="0"/>
                </a:moveTo>
                <a:lnTo>
                  <a:pt x="0" y="384"/>
                </a:lnTo>
                <a:lnTo>
                  <a:pt x="2597" y="384"/>
                </a:lnTo>
                <a:lnTo>
                  <a:pt x="2597" y="1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681440" y="3419640"/>
            <a:ext cx="71748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590000" y="3387600"/>
            <a:ext cx="968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atagramm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54520" y="3511440"/>
            <a:ext cx="27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247480" y="36687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873520" y="3574800"/>
            <a:ext cx="115560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5BA6-E2DE-46BD-A32C-003F84A4AB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Canali virtuali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547560" y="1519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Vantagg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estazioni e QoS sono garantite (ampiezza di banda, ritardo/perdita, jitter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Comic Sans MS"/>
              </a:rPr>
              <a:t>Svantaggi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adeguato supporto al traffico dei pacchett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PVC tra ciascuna coppia sorgente/destinatario: problemi di scalabilità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ccesso di elaborazione per connessioni di breve dur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D2BB-D7F8-46CB-AD02-30384B715FC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ATM: cella ATM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33520" y="1344600"/>
            <a:ext cx="7772400" cy="23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ntestazione: 5 by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Carico utile: 48 by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ché?: se il carico utile è piccolo -&gt; piccolo ritardo per voce digitalizz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 metà strada tra 32 e 64 (compromesso!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1" name="" descr=""/>
          <p:cNvPicPr/>
          <p:nvPr/>
        </p:nvPicPr>
        <p:blipFill>
          <a:blip r:embed="rId1"/>
          <a:stretch/>
        </p:blipFill>
        <p:spPr>
          <a:xfrm>
            <a:off x="1927080" y="3722760"/>
            <a:ext cx="5276880" cy="809640"/>
          </a:xfrm>
          <a:prstGeom prst="rect">
            <a:avLst/>
          </a:prstGeom>
          <a:ln w="0">
            <a:noFill/>
          </a:ln>
        </p:spPr>
      </p:pic>
      <p:pic>
        <p:nvPicPr>
          <p:cNvPr id="1732" name="" descr=""/>
          <p:cNvPicPr/>
          <p:nvPr/>
        </p:nvPicPr>
        <p:blipFill>
          <a:blip r:embed="rId2"/>
          <a:stretch/>
        </p:blipFill>
        <p:spPr>
          <a:xfrm>
            <a:off x="1839960" y="5052960"/>
            <a:ext cx="5361120" cy="1582920"/>
          </a:xfrm>
          <a:prstGeom prst="rect">
            <a:avLst/>
          </a:prstGeom>
          <a:ln w="0">
            <a:noFill/>
          </a:ln>
        </p:spPr>
      </p:pic>
      <p:sp>
        <p:nvSpPr>
          <p:cNvPr id="1733" name=""/>
          <p:cNvSpPr/>
          <p:nvPr/>
        </p:nvSpPr>
        <p:spPr>
          <a:xfrm>
            <a:off x="389520" y="4027320"/>
            <a:ext cx="150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tes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c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305280" y="5164200"/>
            <a:ext cx="164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Formato c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3172-D876-4212-91C3-4CA03D727F98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 u="sng">
                <a:solidFill>
                  <a:srgbClr val="3333cc"/>
                </a:solidFill>
                <a:uFillTx/>
                <a:latin typeface="Comic Sans MS"/>
              </a:rPr>
              <a:t>Campi della cella ATM </a:t>
            </a:r>
            <a:r>
              <a:rPr b="0" lang="it-IT" sz="3200" spc="-1" strike="noStrike" u="sng">
                <a:solidFill>
                  <a:srgbClr val="3333cc"/>
                </a:solidFill>
                <a:uFillTx/>
                <a:latin typeface="Comic Sans MS"/>
              </a:rPr>
              <a:t>(intestazione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571680" y="14810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CI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identificatore del canale virtual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l VCI di una cella varia da collegamento a collegamento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PT: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ipo di carico utile </a:t>
            </a:r>
            <a:r>
              <a:rPr b="0" i="1" lang="it-IT" sz="2000" spc="-1" strike="noStrike">
                <a:solidFill>
                  <a:srgbClr val="000000"/>
                </a:solidFill>
                <a:latin typeface="Comic Sans MS"/>
              </a:rPr>
              <a:t>(payload typ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ndica il tipo di carico che la cella contiene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CLP: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bit di priorità sulla perdita di cell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CLP = questo bit può essere usato per scegliere le celle da scartare se si verifica una congestion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Comic Sans MS"/>
              </a:rPr>
              <a:t>HEC: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 byte d’errore nell’intestazion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omic Sans MS"/>
              </a:rPr>
              <a:t>I bit per il rilevamento e la correzione dell’errore che proteggono l’intestazione della cell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37" name="" descr=""/>
          <p:cNvPicPr/>
          <p:nvPr/>
        </p:nvPicPr>
        <p:blipFill>
          <a:blip r:embed="rId1"/>
          <a:stretch/>
        </p:blipFill>
        <p:spPr>
          <a:xfrm>
            <a:off x="1706400" y="5653080"/>
            <a:ext cx="5276880" cy="80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F5A-4332-4023-9683-BFC8CBE0953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fisic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148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Esistono </a:t>
            </a:r>
            <a:r>
              <a:rPr b="0" i="1" lang="it-IT" sz="2800" spc="-1" strike="noStrike">
                <a:solidFill>
                  <a:srgbClr val="000000"/>
                </a:solidFill>
                <a:latin typeface="Comic Sans MS"/>
              </a:rPr>
              <a:t>due</a:t>
            </a:r>
            <a:r>
              <a:rPr b="0" lang="it-IT" sz="2800" spc="-1" strike="noStrike">
                <a:solidFill>
                  <a:srgbClr val="000000"/>
                </a:solidFill>
                <a:latin typeface="Comic Sans MS"/>
              </a:rPr>
              <a:t> classi generali del livello fisic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Comic Sans MS"/>
              </a:rPr>
              <a:t>Transmission Convergence Sublayer (TCS)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adatta il livello ATM al livello PMD sottostante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4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Comic Sans MS"/>
              </a:rPr>
              <a:t>Physical Medium Dependent:</a:t>
            </a:r>
            <a:r>
              <a:rPr b="0" lang="it-IT" sz="2600" spc="-1" strike="noStrike">
                <a:solidFill>
                  <a:srgbClr val="000000"/>
                </a:solidFill>
                <a:latin typeface="Comic Sans MS"/>
              </a:rPr>
              <a:t> dipende dal mezzo fisico utilizzato</a:t>
            </a:r>
            <a:endParaRPr b="0" lang="en-US" sz="2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Funzioni TC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Generazione di una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hecksum</a:t>
            </a:r>
            <a:r>
              <a:rPr b="1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d’intestazine: CRC a 8 bi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Delineazion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di cell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550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on il livello PMD “non strutturato”, trasmissine di </a:t>
            </a:r>
            <a:r>
              <a:rPr b="0" lang="en-US" sz="2200" spc="-1" strike="noStrike">
                <a:solidFill>
                  <a:srgbClr val="3333cc"/>
                </a:solidFill>
                <a:latin typeface="Comic Sans MS"/>
              </a:rPr>
              <a:t>celle inattive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quando non ci sono celle di dati da inviar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5815-71B6-4333-B0F1-23C24909EE62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Livello fisico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omic Sans MS"/>
              </a:rPr>
              <a:t>Alcuni possibili livelli fisici includono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SONET/SDH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it-IT" sz="2200" spc="-1" strike="noStrike">
                <a:solidFill>
                  <a:srgbClr val="000000"/>
                </a:solidFill>
                <a:latin typeface="Comic Sans MS"/>
              </a:rPr>
              <a:t>synchronous optical network/ synchronous digital hierarchy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, reti ottiche sincrone/gerarchia digitale sincrona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incronizzazione dei bi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uddivisione di band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differenti velocità: OC3 = 155.52 Mbps; OC12 = 622.08 Mbps; OC48 = 2.45 Gbps, OC192 = 9.6 Gbp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T1/T3</a:t>
            </a:r>
            <a:r>
              <a:rPr b="0" lang="it-IT" sz="22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  su fibra, microonde e cavo: 1.5 Mbps/ 45 Mbp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ff0000"/>
                </a:solidFill>
                <a:latin typeface="Comic Sans MS"/>
              </a:rPr>
              <a:t>Basati su cella senza frame. </a:t>
            </a:r>
            <a:r>
              <a:rPr b="0" lang="it-IT" sz="2200" spc="-1" strike="noStrike">
                <a:solidFill>
                  <a:srgbClr val="000000"/>
                </a:solidFill>
                <a:latin typeface="Comic Sans MS"/>
              </a:rPr>
              <a:t>In questo caso, la temporizzazione al ricevente è derivata da un segnale trasmesso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726B-D542-49A0-A975-AEE97F2CC99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2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550440" y="1077840"/>
            <a:ext cx="339732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9000"/>
          </a:bodyPr>
          <a:p>
            <a:pPr marL="133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olo IP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“reti” (es., segmenti LAN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133560" indent="-1335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AC (802.3) e indirizzi IP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44" name=""/>
          <p:cNvGrpSpPr/>
          <p:nvPr/>
        </p:nvGrpSpPr>
        <p:grpSpPr>
          <a:xfrm>
            <a:off x="773280" y="3152880"/>
            <a:ext cx="2479320" cy="3260160"/>
            <a:chOff x="773280" y="3152880"/>
            <a:chExt cx="2479320" cy="3260160"/>
          </a:xfrm>
        </p:grpSpPr>
        <p:sp>
          <p:nvSpPr>
            <p:cNvPr id="1745" name=""/>
            <p:cNvSpPr/>
            <p:nvPr/>
          </p:nvSpPr>
          <p:spPr>
            <a:xfrm>
              <a:off x="1628640" y="5553360"/>
              <a:ext cx="1623960" cy="403200"/>
            </a:xfrm>
            <a:custGeom>
              <a:avLst/>
              <a:gdLst/>
              <a:ahLst/>
              <a:rect l="l" t="t" r="r" b="b"/>
              <a:pathLst>
                <a:path w="824" h="187">
                  <a:moveTo>
                    <a:pt x="333" y="184"/>
                  </a:moveTo>
                  <a:cubicBezTo>
                    <a:pt x="189" y="187"/>
                    <a:pt x="84" y="183"/>
                    <a:pt x="42" y="164"/>
                  </a:cubicBezTo>
                  <a:cubicBezTo>
                    <a:pt x="0" y="144"/>
                    <a:pt x="40" y="79"/>
                    <a:pt x="80" y="64"/>
                  </a:cubicBezTo>
                  <a:cubicBezTo>
                    <a:pt x="119" y="50"/>
                    <a:pt x="217" y="74"/>
                    <a:pt x="281" y="76"/>
                  </a:cubicBezTo>
                  <a:cubicBezTo>
                    <a:pt x="345" y="78"/>
                    <a:pt x="431" y="85"/>
                    <a:pt x="466" y="74"/>
                  </a:cubicBezTo>
                  <a:cubicBezTo>
                    <a:pt x="501" y="63"/>
                    <a:pt x="476" y="16"/>
                    <a:pt x="493" y="8"/>
                  </a:cubicBezTo>
                  <a:cubicBezTo>
                    <a:pt x="510" y="0"/>
                    <a:pt x="557" y="12"/>
                    <a:pt x="568" y="23"/>
                  </a:cubicBezTo>
                  <a:cubicBezTo>
                    <a:pt x="579" y="34"/>
                    <a:pt x="529" y="63"/>
                    <a:pt x="559" y="74"/>
                  </a:cubicBezTo>
                  <a:cubicBezTo>
                    <a:pt x="589" y="85"/>
                    <a:pt x="719" y="70"/>
                    <a:pt x="751" y="86"/>
                  </a:cubicBezTo>
                  <a:cubicBezTo>
                    <a:pt x="783" y="102"/>
                    <a:pt x="824" y="154"/>
                    <a:pt x="754" y="170"/>
                  </a:cubicBezTo>
                  <a:cubicBezTo>
                    <a:pt x="684" y="186"/>
                    <a:pt x="421" y="181"/>
                    <a:pt x="333" y="184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2144880" y="3279600"/>
              <a:ext cx="648360" cy="2290680"/>
            </a:xfrm>
            <a:custGeom>
              <a:avLst/>
              <a:gdLst/>
              <a:ahLst/>
              <a:rect l="l" t="t" r="r" b="b"/>
              <a:pathLst>
                <a:path w="329" h="1063">
                  <a:moveTo>
                    <a:pt x="24" y="340"/>
                  </a:moveTo>
                  <a:cubicBezTo>
                    <a:pt x="22" y="215"/>
                    <a:pt x="27" y="98"/>
                    <a:pt x="48" y="49"/>
                  </a:cubicBezTo>
                  <a:cubicBezTo>
                    <a:pt x="69" y="0"/>
                    <a:pt x="109" y="42"/>
                    <a:pt x="150" y="43"/>
                  </a:cubicBezTo>
                  <a:cubicBezTo>
                    <a:pt x="191" y="44"/>
                    <a:pt x="271" y="46"/>
                    <a:pt x="297" y="55"/>
                  </a:cubicBezTo>
                  <a:cubicBezTo>
                    <a:pt x="323" y="64"/>
                    <a:pt x="329" y="83"/>
                    <a:pt x="306" y="94"/>
                  </a:cubicBezTo>
                  <a:cubicBezTo>
                    <a:pt x="283" y="105"/>
                    <a:pt x="185" y="92"/>
                    <a:pt x="156" y="124"/>
                  </a:cubicBezTo>
                  <a:cubicBezTo>
                    <a:pt x="127" y="156"/>
                    <a:pt x="135" y="209"/>
                    <a:pt x="132" y="289"/>
                  </a:cubicBezTo>
                  <a:cubicBezTo>
                    <a:pt x="129" y="369"/>
                    <a:pt x="137" y="501"/>
                    <a:pt x="135" y="607"/>
                  </a:cubicBezTo>
                  <a:cubicBezTo>
                    <a:pt x="133" y="713"/>
                    <a:pt x="112" y="866"/>
                    <a:pt x="120" y="925"/>
                  </a:cubicBezTo>
                  <a:cubicBezTo>
                    <a:pt x="128" y="984"/>
                    <a:pt x="181" y="947"/>
                    <a:pt x="186" y="964"/>
                  </a:cubicBezTo>
                  <a:cubicBezTo>
                    <a:pt x="191" y="981"/>
                    <a:pt x="180" y="1029"/>
                    <a:pt x="153" y="1027"/>
                  </a:cubicBezTo>
                  <a:cubicBezTo>
                    <a:pt x="126" y="1025"/>
                    <a:pt x="42" y="1063"/>
                    <a:pt x="21" y="949"/>
                  </a:cubicBezTo>
                  <a:cubicBezTo>
                    <a:pt x="0" y="835"/>
                    <a:pt x="23" y="467"/>
                    <a:pt x="24" y="34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283400" y="3695760"/>
              <a:ext cx="287640" cy="1868400"/>
            </a:xfrm>
            <a:custGeom>
              <a:avLst/>
              <a:gdLst/>
              <a:ahLst/>
              <a:rect l="l" t="t" r="r" b="b"/>
              <a:pathLst>
                <a:path w="146" h="867">
                  <a:moveTo>
                    <a:pt x="2" y="333"/>
                  </a:moveTo>
                  <a:cubicBezTo>
                    <a:pt x="0" y="208"/>
                    <a:pt x="6" y="84"/>
                    <a:pt x="26" y="42"/>
                  </a:cubicBezTo>
                  <a:cubicBezTo>
                    <a:pt x="46" y="0"/>
                    <a:pt x="106" y="23"/>
                    <a:pt x="125" y="81"/>
                  </a:cubicBezTo>
                  <a:cubicBezTo>
                    <a:pt x="144" y="139"/>
                    <a:pt x="140" y="306"/>
                    <a:pt x="143" y="393"/>
                  </a:cubicBezTo>
                  <a:cubicBezTo>
                    <a:pt x="146" y="480"/>
                    <a:pt x="145" y="538"/>
                    <a:pt x="140" y="603"/>
                  </a:cubicBezTo>
                  <a:cubicBezTo>
                    <a:pt x="135" y="668"/>
                    <a:pt x="127" y="755"/>
                    <a:pt x="110" y="786"/>
                  </a:cubicBezTo>
                  <a:cubicBezTo>
                    <a:pt x="93" y="817"/>
                    <a:pt x="56" y="867"/>
                    <a:pt x="38" y="792"/>
                  </a:cubicBezTo>
                  <a:cubicBezTo>
                    <a:pt x="20" y="717"/>
                    <a:pt x="4" y="458"/>
                    <a:pt x="2" y="333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8" name=""/>
            <p:cNvGrpSpPr/>
            <p:nvPr/>
          </p:nvGrpSpPr>
          <p:grpSpPr>
            <a:xfrm>
              <a:off x="2456280" y="5262480"/>
              <a:ext cx="622440" cy="316080"/>
              <a:chOff x="2456280" y="5262480"/>
              <a:chExt cx="622440" cy="316080"/>
            </a:xfrm>
          </p:grpSpPr>
          <p:sp>
            <p:nvSpPr>
              <p:cNvPr id="1749" name=""/>
              <p:cNvSpPr/>
              <p:nvPr/>
            </p:nvSpPr>
            <p:spPr>
              <a:xfrm>
                <a:off x="2461320" y="540360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24613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078720" y="538884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2461320" y="538884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2456280" y="526248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54" name=""/>
              <p:cNvGrpSpPr/>
              <p:nvPr/>
            </p:nvGrpSpPr>
            <p:grpSpPr>
              <a:xfrm>
                <a:off x="2604600" y="5307480"/>
                <a:ext cx="305640" cy="119160"/>
                <a:chOff x="2604600" y="5307480"/>
                <a:chExt cx="305640" cy="119160"/>
              </a:xfrm>
            </p:grpSpPr>
            <p:sp>
              <p:nvSpPr>
                <p:cNvPr id="1755" name=""/>
                <p:cNvSpPr/>
                <p:nvPr/>
              </p:nvSpPr>
              <p:spPr>
                <a:xfrm flipV="1">
                  <a:off x="2604600" y="530748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6" name=""/>
                <p:cNvSpPr/>
                <p:nvPr/>
              </p:nvSpPr>
              <p:spPr>
                <a:xfrm>
                  <a:off x="2814120" y="542664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7" name=""/>
                <p:cNvSpPr/>
                <p:nvPr/>
              </p:nvSpPr>
              <p:spPr>
                <a:xfrm>
                  <a:off x="2705040" y="530964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8" name=""/>
              <p:cNvGrpSpPr/>
              <p:nvPr/>
            </p:nvGrpSpPr>
            <p:grpSpPr>
              <a:xfrm>
                <a:off x="2604600" y="5305320"/>
                <a:ext cx="305640" cy="119160"/>
                <a:chOff x="2604600" y="5305320"/>
                <a:chExt cx="305640" cy="119160"/>
              </a:xfrm>
            </p:grpSpPr>
            <p:sp>
              <p:nvSpPr>
                <p:cNvPr id="1759" name=""/>
                <p:cNvSpPr/>
                <p:nvPr/>
              </p:nvSpPr>
              <p:spPr>
                <a:xfrm>
                  <a:off x="2604600" y="54223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2814120" y="530532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 flipV="1">
                  <a:off x="2705040" y="53056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762" name="" descr=""/>
            <p:cNvPicPr/>
            <p:nvPr/>
          </p:nvPicPr>
          <p:blipFill>
            <a:blip r:embed="rId1"/>
            <a:stretch/>
          </p:blipFill>
          <p:spPr>
            <a:xfrm>
              <a:off x="773280" y="34884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3" name="" descr=""/>
            <p:cNvPicPr/>
            <p:nvPr/>
          </p:nvPicPr>
          <p:blipFill>
            <a:blip r:embed="rId2"/>
            <a:stretch/>
          </p:blipFill>
          <p:spPr>
            <a:xfrm>
              <a:off x="800640" y="496296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4" name="" descr=""/>
            <p:cNvPicPr/>
            <p:nvPr/>
          </p:nvPicPr>
          <p:blipFill>
            <a:blip r:embed="rId3"/>
            <a:stretch/>
          </p:blipFill>
          <p:spPr>
            <a:xfrm>
              <a:off x="2675160" y="315288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5" name="" descr=""/>
            <p:cNvPicPr/>
            <p:nvPr/>
          </p:nvPicPr>
          <p:blipFill>
            <a:blip r:embed="rId4"/>
            <a:stretch/>
          </p:blipFill>
          <p:spPr>
            <a:xfrm>
              <a:off x="1522080" y="5958720"/>
              <a:ext cx="524160" cy="45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6" name=""/>
            <p:cNvSpPr/>
            <p:nvPr/>
          </p:nvSpPr>
          <p:spPr>
            <a:xfrm>
              <a:off x="1281600" y="3844440"/>
              <a:ext cx="153720" cy="144792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43532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086480" y="420660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086480" y="4419360"/>
              <a:ext cx="92880" cy="101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1086480" y="4607280"/>
              <a:ext cx="92880" cy="10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1553400" y="4212720"/>
              <a:ext cx="622440" cy="316080"/>
              <a:chOff x="1553400" y="4212720"/>
              <a:chExt cx="622440" cy="316080"/>
            </a:xfrm>
          </p:grpSpPr>
          <p:sp>
            <p:nvSpPr>
              <p:cNvPr id="1772" name=""/>
              <p:cNvSpPr/>
              <p:nvPr/>
            </p:nvSpPr>
            <p:spPr>
              <a:xfrm>
                <a:off x="1558440" y="4353840"/>
                <a:ext cx="617400" cy="17496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15584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2175840" y="4339080"/>
                <a:ext cx="0" cy="108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1558440" y="4339080"/>
                <a:ext cx="612000" cy="10692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1553400" y="4212720"/>
                <a:ext cx="617040" cy="2041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7" name=""/>
              <p:cNvGrpSpPr/>
              <p:nvPr/>
            </p:nvGrpSpPr>
            <p:grpSpPr>
              <a:xfrm>
                <a:off x="1701720" y="4257720"/>
                <a:ext cx="305640" cy="119160"/>
                <a:chOff x="1701720" y="4257720"/>
                <a:chExt cx="305640" cy="119160"/>
              </a:xfrm>
            </p:grpSpPr>
            <p:sp>
              <p:nvSpPr>
                <p:cNvPr id="1778" name=""/>
                <p:cNvSpPr/>
                <p:nvPr/>
              </p:nvSpPr>
              <p:spPr>
                <a:xfrm flipV="1">
                  <a:off x="1701720" y="425772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911240" y="437688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1802160" y="425988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1" name=""/>
              <p:cNvGrpSpPr/>
              <p:nvPr/>
            </p:nvGrpSpPr>
            <p:grpSpPr>
              <a:xfrm>
                <a:off x="1701720" y="4255560"/>
                <a:ext cx="305640" cy="119160"/>
                <a:chOff x="1701720" y="4255560"/>
                <a:chExt cx="305640" cy="119160"/>
              </a:xfrm>
            </p:grpSpPr>
            <p:sp>
              <p:nvSpPr>
                <p:cNvPr id="1782" name=""/>
                <p:cNvSpPr/>
                <p:nvPr/>
              </p:nvSpPr>
              <p:spPr>
                <a:xfrm>
                  <a:off x="1701720" y="4372560"/>
                  <a:ext cx="108720" cy="2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1911240" y="4255560"/>
                  <a:ext cx="96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 flipV="1">
                  <a:off x="1802160" y="4255920"/>
                  <a:ext cx="113400" cy="116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785" name=""/>
            <p:cNvSpPr/>
            <p:nvPr/>
          </p:nvSpPr>
          <p:spPr>
            <a:xfrm>
              <a:off x="2300760" y="3437280"/>
              <a:ext cx="470880" cy="1978200"/>
            </a:xfrm>
            <a:custGeom>
              <a:avLst/>
              <a:gdLst/>
              <a:ahLst/>
              <a:rect l="l" t="t" r="r" b="b"/>
              <a:pathLst>
                <a:path w="239" h="918">
                  <a:moveTo>
                    <a:pt x="239" y="3"/>
                  </a:moveTo>
                  <a:lnTo>
                    <a:pt x="0" y="0"/>
                  </a:lnTo>
                  <a:lnTo>
                    <a:pt x="0" y="918"/>
                  </a:lnTo>
                  <a:lnTo>
                    <a:pt x="78" y="918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2156400" y="4380840"/>
              <a:ext cx="1299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7" name="" descr=""/>
            <p:cNvPicPr/>
            <p:nvPr/>
          </p:nvPicPr>
          <p:blipFill>
            <a:blip r:embed="rId5"/>
            <a:stretch/>
          </p:blipFill>
          <p:spPr>
            <a:xfrm>
              <a:off x="2710440" y="5922000"/>
              <a:ext cx="524160" cy="454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8" name=""/>
            <p:cNvSpPr/>
            <p:nvPr/>
          </p:nvSpPr>
          <p:spPr>
            <a:xfrm rot="16209600">
              <a:off x="2327040" y="5224680"/>
              <a:ext cx="167400" cy="1324080"/>
            </a:xfrm>
            <a:custGeom>
              <a:avLst/>
              <a:gdLst/>
              <a:ahLst/>
              <a:rect l="l" t="t" r="r" b="b"/>
              <a:pathLst>
                <a:path w="51" h="672">
                  <a:moveTo>
                    <a:pt x="0" y="3"/>
                  </a:moveTo>
                  <a:lnTo>
                    <a:pt x="51" y="0"/>
                  </a:lnTo>
                  <a:lnTo>
                    <a:pt x="51" y="672"/>
                  </a:lnTo>
                  <a:lnTo>
                    <a:pt x="15" y="67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H="1">
              <a:off x="2656440" y="5583600"/>
              <a:ext cx="1440" cy="215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0" name=""/>
          <p:cNvSpPr/>
          <p:nvPr/>
        </p:nvSpPr>
        <p:spPr>
          <a:xfrm>
            <a:off x="4587840" y="673200"/>
            <a:ext cx="372276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P su AT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ostituisce “le reti”  (es., segmento LAN) con la rete ATM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rizzi ATM e indirizzi I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5778360" y="5537160"/>
            <a:ext cx="162432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6253200" y="3505320"/>
            <a:ext cx="1500120" cy="180648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433840" y="3679920"/>
            <a:ext cx="287640" cy="186840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4" name=""/>
          <p:cNvGrpSpPr/>
          <p:nvPr/>
        </p:nvGrpSpPr>
        <p:grpSpPr>
          <a:xfrm>
            <a:off x="6605640" y="5246640"/>
            <a:ext cx="623520" cy="317160"/>
            <a:chOff x="6605640" y="5246640"/>
            <a:chExt cx="623520" cy="317160"/>
          </a:xfrm>
        </p:grpSpPr>
        <p:sp>
          <p:nvSpPr>
            <p:cNvPr id="1795" name=""/>
            <p:cNvSpPr/>
            <p:nvPr/>
          </p:nvSpPr>
          <p:spPr>
            <a:xfrm>
              <a:off x="6610680" y="5388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61068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229160" y="5373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610680" y="5373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605640" y="5246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6754320" y="5291640"/>
              <a:ext cx="306000" cy="119520"/>
              <a:chOff x="6754320" y="5291640"/>
              <a:chExt cx="306000" cy="119520"/>
            </a:xfrm>
          </p:grpSpPr>
          <p:sp>
            <p:nvSpPr>
              <p:cNvPr id="1801" name=""/>
              <p:cNvSpPr/>
              <p:nvPr/>
            </p:nvSpPr>
            <p:spPr>
              <a:xfrm flipV="1">
                <a:off x="6754320" y="5291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6964200" y="5411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6855120" y="5293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4" name=""/>
            <p:cNvGrpSpPr/>
            <p:nvPr/>
          </p:nvGrpSpPr>
          <p:grpSpPr>
            <a:xfrm>
              <a:off x="6754320" y="5290200"/>
              <a:ext cx="306000" cy="119520"/>
              <a:chOff x="6754320" y="5290200"/>
              <a:chExt cx="306000" cy="119520"/>
            </a:xfrm>
          </p:grpSpPr>
          <p:sp>
            <p:nvSpPr>
              <p:cNvPr id="1805" name=""/>
              <p:cNvSpPr/>
              <p:nvPr/>
            </p:nvSpPr>
            <p:spPr>
              <a:xfrm>
                <a:off x="6754320" y="5407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6964200" y="5290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flipV="1">
                <a:off x="6855120" y="5290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808" name="" descr=""/>
          <p:cNvPicPr/>
          <p:nvPr/>
        </p:nvPicPr>
        <p:blipFill>
          <a:blip r:embed="rId6"/>
          <a:stretch/>
        </p:blipFill>
        <p:spPr>
          <a:xfrm>
            <a:off x="4923000" y="3473280"/>
            <a:ext cx="523800" cy="454320"/>
          </a:xfrm>
          <a:prstGeom prst="rect">
            <a:avLst/>
          </a:prstGeom>
          <a:ln w="0">
            <a:noFill/>
          </a:ln>
        </p:spPr>
      </p:pic>
      <p:pic>
        <p:nvPicPr>
          <p:cNvPr id="1809" name="" descr=""/>
          <p:cNvPicPr/>
          <p:nvPr/>
        </p:nvPicPr>
        <p:blipFill>
          <a:blip r:embed="rId7"/>
          <a:stretch/>
        </p:blipFill>
        <p:spPr>
          <a:xfrm>
            <a:off x="4950000" y="4946760"/>
            <a:ext cx="525240" cy="455400"/>
          </a:xfrm>
          <a:prstGeom prst="rect">
            <a:avLst/>
          </a:prstGeom>
          <a:ln w="0">
            <a:noFill/>
          </a:ln>
        </p:spPr>
      </p:pic>
      <p:pic>
        <p:nvPicPr>
          <p:cNvPr id="1810" name="" descr=""/>
          <p:cNvPicPr/>
          <p:nvPr/>
        </p:nvPicPr>
        <p:blipFill>
          <a:blip r:embed="rId8"/>
          <a:stretch/>
        </p:blipFill>
        <p:spPr>
          <a:xfrm>
            <a:off x="6824520" y="3137040"/>
            <a:ext cx="524160" cy="453960"/>
          </a:xfrm>
          <a:prstGeom prst="rect">
            <a:avLst/>
          </a:prstGeom>
          <a:ln w="0">
            <a:noFill/>
          </a:ln>
        </p:spPr>
      </p:pic>
      <p:pic>
        <p:nvPicPr>
          <p:cNvPr id="1811" name="" descr=""/>
          <p:cNvPicPr/>
          <p:nvPr/>
        </p:nvPicPr>
        <p:blipFill>
          <a:blip r:embed="rId9"/>
          <a:stretch/>
        </p:blipFill>
        <p:spPr>
          <a:xfrm>
            <a:off x="5672160" y="594360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1812" name=""/>
          <p:cNvSpPr/>
          <p:nvPr/>
        </p:nvSpPr>
        <p:spPr>
          <a:xfrm>
            <a:off x="5430960" y="3828960"/>
            <a:ext cx="15372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5584680" y="436572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5235480" y="419112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5235480" y="44038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5235480" y="45910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7" name=""/>
          <p:cNvGrpSpPr/>
          <p:nvPr/>
        </p:nvGrpSpPr>
        <p:grpSpPr>
          <a:xfrm>
            <a:off x="5703840" y="4197240"/>
            <a:ext cx="622080" cy="315720"/>
            <a:chOff x="5703840" y="4197240"/>
            <a:chExt cx="622080" cy="315720"/>
          </a:xfrm>
        </p:grpSpPr>
        <p:sp>
          <p:nvSpPr>
            <p:cNvPr id="1818" name=""/>
            <p:cNvSpPr/>
            <p:nvPr/>
          </p:nvSpPr>
          <p:spPr>
            <a:xfrm>
              <a:off x="5708880" y="4338000"/>
              <a:ext cx="61704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70888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325920" y="432324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708880" y="4323240"/>
              <a:ext cx="61164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703840" y="4197240"/>
              <a:ext cx="61668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3" name=""/>
            <p:cNvGrpSpPr/>
            <p:nvPr/>
          </p:nvGrpSpPr>
          <p:grpSpPr>
            <a:xfrm>
              <a:off x="5852160" y="4242240"/>
              <a:ext cx="305640" cy="119160"/>
              <a:chOff x="5852160" y="4242240"/>
              <a:chExt cx="305640" cy="119160"/>
            </a:xfrm>
          </p:grpSpPr>
          <p:sp>
            <p:nvSpPr>
              <p:cNvPr id="1824" name=""/>
              <p:cNvSpPr/>
              <p:nvPr/>
            </p:nvSpPr>
            <p:spPr>
              <a:xfrm flipV="1">
                <a:off x="5852160" y="4242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6061680" y="43614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5952600" y="424440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7" name=""/>
            <p:cNvGrpSpPr/>
            <p:nvPr/>
          </p:nvGrpSpPr>
          <p:grpSpPr>
            <a:xfrm>
              <a:off x="5852160" y="4240080"/>
              <a:ext cx="305640" cy="119160"/>
              <a:chOff x="5852160" y="4240080"/>
              <a:chExt cx="305640" cy="119160"/>
            </a:xfrm>
          </p:grpSpPr>
          <p:sp>
            <p:nvSpPr>
              <p:cNvPr id="1828" name=""/>
              <p:cNvSpPr/>
              <p:nvPr/>
            </p:nvSpPr>
            <p:spPr>
              <a:xfrm>
                <a:off x="5852160" y="435708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6061680" y="4240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flipV="1">
                <a:off x="5952600" y="4240440"/>
                <a:ext cx="11340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31" name=""/>
          <p:cNvSpPr/>
          <p:nvPr/>
        </p:nvSpPr>
        <p:spPr>
          <a:xfrm>
            <a:off x="6310440" y="420516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2" name="" descr=""/>
          <p:cNvPicPr/>
          <p:nvPr/>
        </p:nvPicPr>
        <p:blipFill>
          <a:blip r:embed="rId10"/>
          <a:stretch/>
        </p:blipFill>
        <p:spPr>
          <a:xfrm>
            <a:off x="6861240" y="5905440"/>
            <a:ext cx="523800" cy="455760"/>
          </a:xfrm>
          <a:prstGeom prst="rect">
            <a:avLst/>
          </a:prstGeom>
          <a:ln w="0">
            <a:noFill/>
          </a:ln>
        </p:spPr>
      </p:pic>
      <p:sp>
        <p:nvSpPr>
          <p:cNvPr id="1833" name=""/>
          <p:cNvSpPr/>
          <p:nvPr/>
        </p:nvSpPr>
        <p:spPr>
          <a:xfrm rot="16209600">
            <a:off x="6476760" y="5209920"/>
            <a:ext cx="168120" cy="13237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 flipH="1">
            <a:off x="6807240" y="556740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5" name=""/>
          <p:cNvGrpSpPr/>
          <p:nvPr/>
        </p:nvGrpSpPr>
        <p:grpSpPr>
          <a:xfrm>
            <a:off x="6738840" y="3830760"/>
            <a:ext cx="554040" cy="468360"/>
            <a:chOff x="6738840" y="3830760"/>
            <a:chExt cx="554040" cy="468360"/>
          </a:xfrm>
        </p:grpSpPr>
        <p:sp>
          <p:nvSpPr>
            <p:cNvPr id="1836" name=""/>
            <p:cNvSpPr/>
            <p:nvPr/>
          </p:nvSpPr>
          <p:spPr>
            <a:xfrm>
              <a:off x="6859800" y="38354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740640" y="39020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38" name=""/>
            <p:cNvGrpSpPr/>
            <p:nvPr/>
          </p:nvGrpSpPr>
          <p:grpSpPr>
            <a:xfrm>
              <a:off x="6807240" y="4032000"/>
              <a:ext cx="304560" cy="119160"/>
              <a:chOff x="6807240" y="4032000"/>
              <a:chExt cx="304560" cy="119160"/>
            </a:xfrm>
          </p:grpSpPr>
          <p:sp>
            <p:nvSpPr>
              <p:cNvPr id="1839" name=""/>
              <p:cNvSpPr/>
              <p:nvPr/>
            </p:nvSpPr>
            <p:spPr>
              <a:xfrm>
                <a:off x="6807240" y="41490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016040" y="4032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flipV="1">
                <a:off x="6907320" y="40323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2" name=""/>
            <p:cNvGrpSpPr/>
            <p:nvPr/>
          </p:nvGrpSpPr>
          <p:grpSpPr>
            <a:xfrm>
              <a:off x="6802560" y="4024440"/>
              <a:ext cx="303840" cy="119160"/>
              <a:chOff x="6802560" y="4024440"/>
              <a:chExt cx="303840" cy="119160"/>
            </a:xfrm>
          </p:grpSpPr>
          <p:sp>
            <p:nvSpPr>
              <p:cNvPr id="1843" name=""/>
              <p:cNvSpPr/>
              <p:nvPr/>
            </p:nvSpPr>
            <p:spPr>
              <a:xfrm flipV="1">
                <a:off x="6802560" y="40244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7011000" y="41436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6902640" y="40266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46" name=""/>
            <p:cNvSpPr/>
            <p:nvPr/>
          </p:nvSpPr>
          <p:spPr>
            <a:xfrm>
              <a:off x="6738840" y="38307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7162920" y="38307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8" name=""/>
          <p:cNvGrpSpPr/>
          <p:nvPr/>
        </p:nvGrpSpPr>
        <p:grpSpPr>
          <a:xfrm>
            <a:off x="7016760" y="4643280"/>
            <a:ext cx="554040" cy="468360"/>
            <a:chOff x="7016760" y="4643280"/>
            <a:chExt cx="554040" cy="468360"/>
          </a:xfrm>
        </p:grpSpPr>
        <p:sp>
          <p:nvSpPr>
            <p:cNvPr id="1849" name=""/>
            <p:cNvSpPr/>
            <p:nvPr/>
          </p:nvSpPr>
          <p:spPr>
            <a:xfrm>
              <a:off x="7137720" y="4647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018560" y="4714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51" name=""/>
            <p:cNvGrpSpPr/>
            <p:nvPr/>
          </p:nvGrpSpPr>
          <p:grpSpPr>
            <a:xfrm>
              <a:off x="7085160" y="4844520"/>
              <a:ext cx="304560" cy="119160"/>
              <a:chOff x="7085160" y="4844520"/>
              <a:chExt cx="304560" cy="119160"/>
            </a:xfrm>
          </p:grpSpPr>
          <p:sp>
            <p:nvSpPr>
              <p:cNvPr id="1852" name=""/>
              <p:cNvSpPr/>
              <p:nvPr/>
            </p:nvSpPr>
            <p:spPr>
              <a:xfrm>
                <a:off x="7085160" y="4961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7293960" y="4844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flipV="1">
                <a:off x="7185240" y="4844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5" name=""/>
            <p:cNvGrpSpPr/>
            <p:nvPr/>
          </p:nvGrpSpPr>
          <p:grpSpPr>
            <a:xfrm>
              <a:off x="7080480" y="4836960"/>
              <a:ext cx="303840" cy="119160"/>
              <a:chOff x="7080480" y="4836960"/>
              <a:chExt cx="303840" cy="119160"/>
            </a:xfrm>
          </p:grpSpPr>
          <p:sp>
            <p:nvSpPr>
              <p:cNvPr id="1856" name=""/>
              <p:cNvSpPr/>
              <p:nvPr/>
            </p:nvSpPr>
            <p:spPr>
              <a:xfrm flipV="1">
                <a:off x="7080480" y="4836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7288920" y="4956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7180560" y="4839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59" name=""/>
            <p:cNvSpPr/>
            <p:nvPr/>
          </p:nvSpPr>
          <p:spPr>
            <a:xfrm>
              <a:off x="7016760" y="4643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440840" y="4643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1" name=""/>
          <p:cNvSpPr/>
          <p:nvPr/>
        </p:nvSpPr>
        <p:spPr>
          <a:xfrm>
            <a:off x="7034040" y="3576600"/>
            <a:ext cx="100080" cy="24300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7101000" y="511020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>
            <a:off x="7067520" y="430524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7926120" y="3252960"/>
            <a:ext cx="663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 flipH="1">
            <a:off x="7577280" y="3611520"/>
            <a:ext cx="398160" cy="439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289440" y="58024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1258920" y="4927320"/>
            <a:ext cx="892080" cy="927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 flipV="1">
            <a:off x="1263600" y="5396040"/>
            <a:ext cx="14148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 flipV="1">
            <a:off x="1257480" y="5738400"/>
            <a:ext cx="44892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394520" y="582120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5369040" y="5415120"/>
            <a:ext cx="141120" cy="452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V="1">
            <a:off x="5362560" y="575748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6840-51D9-4609-A061-52CFB0E4E511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874" name=""/>
          <p:cNvSpPr/>
          <p:nvPr/>
        </p:nvSpPr>
        <p:spPr>
          <a:xfrm>
            <a:off x="4976640" y="5456160"/>
            <a:ext cx="162432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3878280" y="3333600"/>
            <a:ext cx="3073320" cy="1897200"/>
          </a:xfrm>
          <a:custGeom>
            <a:avLst/>
            <a:gdLst/>
            <a:ahLst/>
            <a:rect l="l" t="t" r="r" b="b"/>
            <a:pathLst>
              <a:path w="1936" h="1195">
                <a:moveTo>
                  <a:pt x="80" y="567"/>
                </a:moveTo>
                <a:cubicBezTo>
                  <a:pt x="190" y="538"/>
                  <a:pt x="972" y="542"/>
                  <a:pt x="1183" y="486"/>
                </a:cubicBezTo>
                <a:cubicBezTo>
                  <a:pt x="1394" y="430"/>
                  <a:pt x="1262" y="307"/>
                  <a:pt x="1348" y="231"/>
                </a:cubicBezTo>
                <a:cubicBezTo>
                  <a:pt x="1434" y="155"/>
                  <a:pt x="1617" y="56"/>
                  <a:pt x="1697" y="28"/>
                </a:cubicBezTo>
                <a:cubicBezTo>
                  <a:pt x="1777" y="0"/>
                  <a:pt x="1828" y="39"/>
                  <a:pt x="1830" y="65"/>
                </a:cubicBezTo>
                <a:cubicBezTo>
                  <a:pt x="1832" y="91"/>
                  <a:pt x="1706" y="160"/>
                  <a:pt x="1712" y="183"/>
                </a:cubicBezTo>
                <a:cubicBezTo>
                  <a:pt x="1718" y="206"/>
                  <a:pt x="1832" y="140"/>
                  <a:pt x="1867" y="201"/>
                </a:cubicBezTo>
                <a:cubicBezTo>
                  <a:pt x="1902" y="262"/>
                  <a:pt x="1917" y="423"/>
                  <a:pt x="1921" y="552"/>
                </a:cubicBezTo>
                <a:cubicBezTo>
                  <a:pt x="1925" y="681"/>
                  <a:pt x="1936" y="887"/>
                  <a:pt x="1894" y="978"/>
                </a:cubicBezTo>
                <a:cubicBezTo>
                  <a:pt x="1852" y="1069"/>
                  <a:pt x="1720" y="1064"/>
                  <a:pt x="1669" y="1098"/>
                </a:cubicBezTo>
                <a:cubicBezTo>
                  <a:pt x="1618" y="1132"/>
                  <a:pt x="1612" y="1175"/>
                  <a:pt x="1585" y="1185"/>
                </a:cubicBezTo>
                <a:cubicBezTo>
                  <a:pt x="1558" y="1195"/>
                  <a:pt x="1513" y="1172"/>
                  <a:pt x="1504" y="1158"/>
                </a:cubicBezTo>
                <a:cubicBezTo>
                  <a:pt x="1495" y="1144"/>
                  <a:pt x="1536" y="1112"/>
                  <a:pt x="1528" y="1098"/>
                </a:cubicBezTo>
                <a:cubicBezTo>
                  <a:pt x="1520" y="1084"/>
                  <a:pt x="1486" y="1083"/>
                  <a:pt x="1453" y="1071"/>
                </a:cubicBezTo>
                <a:cubicBezTo>
                  <a:pt x="1420" y="1059"/>
                  <a:pt x="1407" y="1023"/>
                  <a:pt x="1328" y="1025"/>
                </a:cubicBezTo>
                <a:cubicBezTo>
                  <a:pt x="1249" y="1027"/>
                  <a:pt x="1094" y="1107"/>
                  <a:pt x="980" y="1084"/>
                </a:cubicBezTo>
                <a:cubicBezTo>
                  <a:pt x="866" y="1061"/>
                  <a:pt x="789" y="956"/>
                  <a:pt x="641" y="885"/>
                </a:cubicBezTo>
                <a:cubicBezTo>
                  <a:pt x="493" y="814"/>
                  <a:pt x="188" y="709"/>
                  <a:pt x="94" y="656"/>
                </a:cubicBezTo>
                <a:cubicBezTo>
                  <a:pt x="0" y="603"/>
                  <a:pt x="83" y="586"/>
                  <a:pt x="80" y="56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084480" y="3610080"/>
            <a:ext cx="287280" cy="186840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5803920" y="5165640"/>
            <a:ext cx="623520" cy="317160"/>
            <a:chOff x="5803920" y="5165640"/>
            <a:chExt cx="623520" cy="317160"/>
          </a:xfrm>
        </p:grpSpPr>
        <p:sp>
          <p:nvSpPr>
            <p:cNvPr id="1878" name=""/>
            <p:cNvSpPr/>
            <p:nvPr/>
          </p:nvSpPr>
          <p:spPr>
            <a:xfrm>
              <a:off x="5808960" y="5307120"/>
              <a:ext cx="61848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808960" y="5292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6427440" y="529236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08960" y="5292360"/>
              <a:ext cx="61308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803920" y="5165640"/>
              <a:ext cx="61812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5952600" y="5210640"/>
              <a:ext cx="306000" cy="119520"/>
              <a:chOff x="5952600" y="5210640"/>
              <a:chExt cx="306000" cy="119520"/>
            </a:xfrm>
          </p:grpSpPr>
          <p:sp>
            <p:nvSpPr>
              <p:cNvPr id="1884" name=""/>
              <p:cNvSpPr/>
              <p:nvPr/>
            </p:nvSpPr>
            <p:spPr>
              <a:xfrm flipV="1">
                <a:off x="5952600" y="52106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6162480" y="533016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6053400" y="521280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7" name=""/>
            <p:cNvGrpSpPr/>
            <p:nvPr/>
          </p:nvGrpSpPr>
          <p:grpSpPr>
            <a:xfrm>
              <a:off x="5952600" y="5209200"/>
              <a:ext cx="306000" cy="119520"/>
              <a:chOff x="5952600" y="5209200"/>
              <a:chExt cx="306000" cy="119520"/>
            </a:xfrm>
          </p:grpSpPr>
          <p:sp>
            <p:nvSpPr>
              <p:cNvPr id="1888" name=""/>
              <p:cNvSpPr/>
              <p:nvPr/>
            </p:nvSpPr>
            <p:spPr>
              <a:xfrm>
                <a:off x="5952600" y="532656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6162480" y="520920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flipV="1">
                <a:off x="6053400" y="520956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1891" name=""/>
          <p:cNvGraphicFramePr/>
          <p:nvPr/>
        </p:nvGraphicFramePr>
        <p:xfrm>
          <a:off x="2600280" y="4876920"/>
          <a:ext cx="525600" cy="45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00280" y="4876920"/>
                    <a:ext cx="525600" cy="45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"/>
          <p:cNvGraphicFramePr/>
          <p:nvPr/>
        </p:nvGraphicFramePr>
        <p:xfrm>
          <a:off x="6445080" y="2975040"/>
          <a:ext cx="52416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45080" y="2975040"/>
                    <a:ext cx="524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5" name=""/>
          <p:cNvGraphicFramePr/>
          <p:nvPr/>
        </p:nvGraphicFramePr>
        <p:xfrm>
          <a:off x="4870440" y="5862600"/>
          <a:ext cx="523800" cy="453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70440" y="5862600"/>
                    <a:ext cx="52380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7" name=""/>
          <p:cNvSpPr/>
          <p:nvPr/>
        </p:nvSpPr>
        <p:spPr>
          <a:xfrm>
            <a:off x="3081240" y="375912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235320" y="429588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2886120" y="412128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886120" y="43340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86120" y="452124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3354480" y="4127400"/>
            <a:ext cx="621720" cy="315720"/>
            <a:chOff x="3354480" y="4127400"/>
            <a:chExt cx="621720" cy="315720"/>
          </a:xfrm>
        </p:grpSpPr>
        <p:sp>
          <p:nvSpPr>
            <p:cNvPr id="1903" name=""/>
            <p:cNvSpPr/>
            <p:nvPr/>
          </p:nvSpPr>
          <p:spPr>
            <a:xfrm>
              <a:off x="3359520" y="4268160"/>
              <a:ext cx="61668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3359520" y="425340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3976200" y="425340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3359520" y="4253400"/>
              <a:ext cx="61128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3354480" y="4127400"/>
              <a:ext cx="61632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08" name=""/>
            <p:cNvGrpSpPr/>
            <p:nvPr/>
          </p:nvGrpSpPr>
          <p:grpSpPr>
            <a:xfrm>
              <a:off x="3502800" y="4172400"/>
              <a:ext cx="304920" cy="119160"/>
              <a:chOff x="3502800" y="4172400"/>
              <a:chExt cx="304920" cy="119160"/>
            </a:xfrm>
          </p:grpSpPr>
          <p:sp>
            <p:nvSpPr>
              <p:cNvPr id="1909" name=""/>
              <p:cNvSpPr/>
              <p:nvPr/>
            </p:nvSpPr>
            <p:spPr>
              <a:xfrm flipV="1">
                <a:off x="3502800" y="417240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11960" y="42915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3603240" y="41745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2" name=""/>
            <p:cNvGrpSpPr/>
            <p:nvPr/>
          </p:nvGrpSpPr>
          <p:grpSpPr>
            <a:xfrm>
              <a:off x="3502800" y="4170240"/>
              <a:ext cx="304920" cy="119160"/>
              <a:chOff x="3502800" y="4170240"/>
              <a:chExt cx="304920" cy="119160"/>
            </a:xfrm>
          </p:grpSpPr>
          <p:sp>
            <p:nvSpPr>
              <p:cNvPr id="1913" name=""/>
              <p:cNvSpPr/>
              <p:nvPr/>
            </p:nvSpPr>
            <p:spPr>
              <a:xfrm>
                <a:off x="3502800" y="428724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3711960" y="417024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 flipV="1">
                <a:off x="3603240" y="417060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16" name=""/>
          <p:cNvSpPr/>
          <p:nvPr/>
        </p:nvSpPr>
        <p:spPr>
          <a:xfrm>
            <a:off x="5446800" y="4206960"/>
            <a:ext cx="495360" cy="20304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17" name=""/>
          <p:cNvGraphicFramePr/>
          <p:nvPr/>
        </p:nvGraphicFramePr>
        <p:xfrm>
          <a:off x="6059520" y="5824440"/>
          <a:ext cx="523800" cy="455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9520" y="5824440"/>
                    <a:ext cx="5238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9" name=""/>
          <p:cNvSpPr/>
          <p:nvPr/>
        </p:nvSpPr>
        <p:spPr>
          <a:xfrm rot="16209600">
            <a:off x="5675040" y="5128920"/>
            <a:ext cx="168120" cy="13237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6005520" y="5486400"/>
            <a:ext cx="1440" cy="216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1" name=""/>
          <p:cNvGrpSpPr/>
          <p:nvPr/>
        </p:nvGrpSpPr>
        <p:grpSpPr>
          <a:xfrm>
            <a:off x="5937120" y="3749760"/>
            <a:ext cx="554040" cy="468360"/>
            <a:chOff x="5937120" y="3749760"/>
            <a:chExt cx="554040" cy="468360"/>
          </a:xfrm>
        </p:grpSpPr>
        <p:sp>
          <p:nvSpPr>
            <p:cNvPr id="1922" name=""/>
            <p:cNvSpPr/>
            <p:nvPr/>
          </p:nvSpPr>
          <p:spPr>
            <a:xfrm>
              <a:off x="6058080" y="37544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938920" y="38210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4" name=""/>
            <p:cNvGrpSpPr/>
            <p:nvPr/>
          </p:nvGrpSpPr>
          <p:grpSpPr>
            <a:xfrm>
              <a:off x="6005520" y="3951000"/>
              <a:ext cx="304560" cy="119160"/>
              <a:chOff x="6005520" y="3951000"/>
              <a:chExt cx="304560" cy="119160"/>
            </a:xfrm>
          </p:grpSpPr>
          <p:sp>
            <p:nvSpPr>
              <p:cNvPr id="1925" name=""/>
              <p:cNvSpPr/>
              <p:nvPr/>
            </p:nvSpPr>
            <p:spPr>
              <a:xfrm>
                <a:off x="6005520" y="40680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6214320" y="39510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V="1">
                <a:off x="6105600" y="39513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8" name=""/>
            <p:cNvGrpSpPr/>
            <p:nvPr/>
          </p:nvGrpSpPr>
          <p:grpSpPr>
            <a:xfrm>
              <a:off x="6000840" y="3943440"/>
              <a:ext cx="303840" cy="119160"/>
              <a:chOff x="6000840" y="3943440"/>
              <a:chExt cx="303840" cy="119160"/>
            </a:xfrm>
          </p:grpSpPr>
          <p:sp>
            <p:nvSpPr>
              <p:cNvPr id="1929" name=""/>
              <p:cNvSpPr/>
              <p:nvPr/>
            </p:nvSpPr>
            <p:spPr>
              <a:xfrm flipV="1">
                <a:off x="6000840" y="39434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6209280" y="40626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6100920" y="39456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2" name=""/>
            <p:cNvSpPr/>
            <p:nvPr/>
          </p:nvSpPr>
          <p:spPr>
            <a:xfrm>
              <a:off x="5937120" y="37497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6361200" y="37497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4" name=""/>
          <p:cNvGrpSpPr/>
          <p:nvPr/>
        </p:nvGrpSpPr>
        <p:grpSpPr>
          <a:xfrm>
            <a:off x="6215040" y="4562640"/>
            <a:ext cx="554040" cy="467640"/>
            <a:chOff x="6215040" y="4562640"/>
            <a:chExt cx="554040" cy="467640"/>
          </a:xfrm>
        </p:grpSpPr>
        <p:sp>
          <p:nvSpPr>
            <p:cNvPr id="1935" name=""/>
            <p:cNvSpPr/>
            <p:nvPr/>
          </p:nvSpPr>
          <p:spPr>
            <a:xfrm>
              <a:off x="6336000" y="4566960"/>
              <a:ext cx="433080" cy="3996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6216840" y="4633560"/>
              <a:ext cx="426960" cy="3967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7" name=""/>
            <p:cNvGrpSpPr/>
            <p:nvPr/>
          </p:nvGrpSpPr>
          <p:grpSpPr>
            <a:xfrm>
              <a:off x="6283440" y="4763880"/>
              <a:ext cx="304560" cy="118800"/>
              <a:chOff x="6283440" y="4763880"/>
              <a:chExt cx="304560" cy="118800"/>
            </a:xfrm>
          </p:grpSpPr>
          <p:sp>
            <p:nvSpPr>
              <p:cNvPr id="1938" name=""/>
              <p:cNvSpPr/>
              <p:nvPr/>
            </p:nvSpPr>
            <p:spPr>
              <a:xfrm>
                <a:off x="6283440" y="4880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6492240" y="476388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 flipV="1">
                <a:off x="6383520" y="4764240"/>
                <a:ext cx="113040" cy="11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1" name=""/>
            <p:cNvGrpSpPr/>
            <p:nvPr/>
          </p:nvGrpSpPr>
          <p:grpSpPr>
            <a:xfrm>
              <a:off x="6278760" y="4755960"/>
              <a:ext cx="303840" cy="118800"/>
              <a:chOff x="6278760" y="4755960"/>
              <a:chExt cx="303840" cy="118800"/>
            </a:xfrm>
          </p:grpSpPr>
          <p:sp>
            <p:nvSpPr>
              <p:cNvPr id="1942" name=""/>
              <p:cNvSpPr/>
              <p:nvPr/>
            </p:nvSpPr>
            <p:spPr>
              <a:xfrm flipV="1">
                <a:off x="6278760" y="4755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6487200" y="487476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6378840" y="4758120"/>
                <a:ext cx="112680" cy="11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5" name=""/>
            <p:cNvSpPr/>
            <p:nvPr/>
          </p:nvSpPr>
          <p:spPr>
            <a:xfrm>
              <a:off x="6215040" y="4562640"/>
              <a:ext cx="552600" cy="6948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3760" bIns="23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639120" y="4562640"/>
              <a:ext cx="129960" cy="46620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7" name=""/>
          <p:cNvSpPr/>
          <p:nvPr/>
        </p:nvSpPr>
        <p:spPr>
          <a:xfrm>
            <a:off x="6232680" y="3365640"/>
            <a:ext cx="463320" cy="3729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6299280" y="502920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H="1">
            <a:off x="6265800" y="4224240"/>
            <a:ext cx="271440" cy="33840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0" name=""/>
          <p:cNvGrpSpPr/>
          <p:nvPr/>
        </p:nvGrpSpPr>
        <p:grpSpPr>
          <a:xfrm>
            <a:off x="4927680" y="4230720"/>
            <a:ext cx="554040" cy="468360"/>
            <a:chOff x="4927680" y="4230720"/>
            <a:chExt cx="554040" cy="468360"/>
          </a:xfrm>
        </p:grpSpPr>
        <p:sp>
          <p:nvSpPr>
            <p:cNvPr id="1951" name=""/>
            <p:cNvSpPr/>
            <p:nvPr/>
          </p:nvSpPr>
          <p:spPr>
            <a:xfrm>
              <a:off x="5048640" y="423540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929480" y="430200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4996080" y="4431960"/>
              <a:ext cx="304560" cy="119160"/>
              <a:chOff x="4996080" y="4431960"/>
              <a:chExt cx="304560" cy="119160"/>
            </a:xfrm>
          </p:grpSpPr>
          <p:sp>
            <p:nvSpPr>
              <p:cNvPr id="1954" name=""/>
              <p:cNvSpPr/>
              <p:nvPr/>
            </p:nvSpPr>
            <p:spPr>
              <a:xfrm>
                <a:off x="4996080" y="4548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204880" y="44319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 flipV="1">
                <a:off x="5096160" y="443232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7" name=""/>
            <p:cNvGrpSpPr/>
            <p:nvPr/>
          </p:nvGrpSpPr>
          <p:grpSpPr>
            <a:xfrm>
              <a:off x="4991400" y="4424400"/>
              <a:ext cx="303840" cy="119160"/>
              <a:chOff x="4991400" y="4424400"/>
              <a:chExt cx="303840" cy="119160"/>
            </a:xfrm>
          </p:grpSpPr>
          <p:sp>
            <p:nvSpPr>
              <p:cNvPr id="1958" name=""/>
              <p:cNvSpPr/>
              <p:nvPr/>
            </p:nvSpPr>
            <p:spPr>
              <a:xfrm flipV="1">
                <a:off x="4991400" y="44244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199840" y="454356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091480" y="442656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1" name=""/>
            <p:cNvSpPr/>
            <p:nvPr/>
          </p:nvSpPr>
          <p:spPr>
            <a:xfrm>
              <a:off x="4927680" y="423072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51760" y="423072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3" name=""/>
          <p:cNvSpPr/>
          <p:nvPr/>
        </p:nvSpPr>
        <p:spPr>
          <a:xfrm flipV="1">
            <a:off x="5457960" y="4503600"/>
            <a:ext cx="753840" cy="3240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 flipV="1">
            <a:off x="3968640" y="4295880"/>
            <a:ext cx="954360" cy="147600"/>
          </a:xfrm>
          <a:custGeom>
            <a:avLst/>
            <a:gdLst/>
            <a:ahLst/>
            <a:rect l="l" t="t" r="r" b="b"/>
            <a:pathLst>
              <a:path w="1235" h="69">
                <a:moveTo>
                  <a:pt x="1235" y="0"/>
                </a:moveTo>
                <a:lnTo>
                  <a:pt x="0" y="69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5" name=""/>
          <p:cNvGrpSpPr/>
          <p:nvPr/>
        </p:nvGrpSpPr>
        <p:grpSpPr>
          <a:xfrm>
            <a:off x="1558800" y="1258920"/>
            <a:ext cx="6863400" cy="2981160"/>
            <a:chOff x="1558800" y="1258920"/>
            <a:chExt cx="6863400" cy="2981160"/>
          </a:xfrm>
        </p:grpSpPr>
        <p:sp>
          <p:nvSpPr>
            <p:cNvPr id="1966" name=""/>
            <p:cNvSpPr/>
            <p:nvPr/>
          </p:nvSpPr>
          <p:spPr>
            <a:xfrm>
              <a:off x="3043080" y="3201840"/>
              <a:ext cx="1324080" cy="938160"/>
            </a:xfrm>
            <a:custGeom>
              <a:avLst/>
              <a:gdLst/>
              <a:ahLst/>
              <a:rect l="l" t="t" r="r" b="b"/>
              <a:pathLst>
                <a:path w="834" h="591">
                  <a:moveTo>
                    <a:pt x="303" y="584"/>
                  </a:moveTo>
                  <a:cubicBezTo>
                    <a:pt x="236" y="185"/>
                    <a:pt x="0" y="0"/>
                    <a:pt x="0" y="0"/>
                  </a:cubicBezTo>
                  <a:lnTo>
                    <a:pt x="834" y="0"/>
                  </a:lnTo>
                  <a:cubicBezTo>
                    <a:pt x="834" y="0"/>
                    <a:pt x="569" y="215"/>
                    <a:pt x="532" y="591"/>
                  </a:cubicBezTo>
                  <a:cubicBezTo>
                    <a:pt x="532" y="591"/>
                    <a:pt x="417" y="587"/>
                    <a:pt x="303" y="584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7" name=""/>
            <p:cNvGrpSpPr/>
            <p:nvPr/>
          </p:nvGrpSpPr>
          <p:grpSpPr>
            <a:xfrm>
              <a:off x="2971800" y="1922400"/>
              <a:ext cx="1413000" cy="1282320"/>
              <a:chOff x="2971800" y="1922400"/>
              <a:chExt cx="1413000" cy="1282320"/>
            </a:xfrm>
          </p:grpSpPr>
          <p:sp>
            <p:nvSpPr>
              <p:cNvPr id="1968" name=""/>
              <p:cNvSpPr/>
              <p:nvPr/>
            </p:nvSpPr>
            <p:spPr>
              <a:xfrm>
                <a:off x="3673440" y="2254320"/>
                <a:ext cx="692280" cy="949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43080" y="1936800"/>
                <a:ext cx="1312920" cy="12668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618000" y="2201760"/>
                <a:ext cx="7668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3052800" y="225432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3651120" y="2536920"/>
                <a:ext cx="712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041640" y="284328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flipH="1" flipV="1">
                <a:off x="3649680" y="2268360"/>
                <a:ext cx="14400" cy="9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971800" y="280044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971800" y="235584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Eth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3333600" y="1922400"/>
                <a:ext cx="766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78" name=""/>
            <p:cNvSpPr/>
            <p:nvPr/>
          </p:nvSpPr>
          <p:spPr>
            <a:xfrm>
              <a:off x="4497480" y="3949560"/>
              <a:ext cx="874440" cy="290520"/>
            </a:xfrm>
            <a:custGeom>
              <a:avLst/>
              <a:gdLst/>
              <a:ahLst/>
              <a:rect l="l" t="t" r="r" b="b"/>
              <a:pathLst>
                <a:path w="551" h="183">
                  <a:moveTo>
                    <a:pt x="310" y="180"/>
                  </a:moveTo>
                  <a:cubicBezTo>
                    <a:pt x="125" y="113"/>
                    <a:pt x="215" y="91"/>
                    <a:pt x="0" y="32"/>
                  </a:cubicBezTo>
                  <a:cubicBezTo>
                    <a:pt x="311" y="3"/>
                    <a:pt x="409" y="0"/>
                    <a:pt x="480" y="24"/>
                  </a:cubicBezTo>
                  <a:cubicBezTo>
                    <a:pt x="551" y="48"/>
                    <a:pt x="443" y="76"/>
                    <a:pt x="428" y="179"/>
                  </a:cubicBezTo>
                  <a:cubicBezTo>
                    <a:pt x="428" y="179"/>
                    <a:pt x="424" y="183"/>
                    <a:pt x="310" y="180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79" name=""/>
            <p:cNvGrpSpPr/>
            <p:nvPr/>
          </p:nvGrpSpPr>
          <p:grpSpPr>
            <a:xfrm>
              <a:off x="4495680" y="2997000"/>
              <a:ext cx="807840" cy="1221840"/>
              <a:chOff x="4495680" y="2997000"/>
              <a:chExt cx="807840" cy="1221840"/>
            </a:xfrm>
          </p:grpSpPr>
          <p:sp>
            <p:nvSpPr>
              <p:cNvPr id="1980" name=""/>
              <p:cNvSpPr/>
              <p:nvPr/>
            </p:nvSpPr>
            <p:spPr>
              <a:xfrm>
                <a:off x="4502160" y="3308400"/>
                <a:ext cx="801000" cy="703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4496400" y="3309840"/>
                <a:ext cx="801000" cy="70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4548960" y="2997000"/>
                <a:ext cx="735480" cy="122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4495680" y="3651120"/>
                <a:ext cx="80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4" name=""/>
            <p:cNvSpPr/>
            <p:nvPr/>
          </p:nvSpPr>
          <p:spPr>
            <a:xfrm>
              <a:off x="5389560" y="3484440"/>
              <a:ext cx="901800" cy="285840"/>
            </a:xfrm>
            <a:custGeom>
              <a:avLst/>
              <a:gdLst/>
              <a:ahLst/>
              <a:rect l="l" t="t" r="r" b="b"/>
              <a:pathLst>
                <a:path w="568" h="180">
                  <a:moveTo>
                    <a:pt x="310" y="177"/>
                  </a:moveTo>
                  <a:cubicBezTo>
                    <a:pt x="280" y="103"/>
                    <a:pt x="215" y="88"/>
                    <a:pt x="0" y="29"/>
                  </a:cubicBezTo>
                  <a:cubicBezTo>
                    <a:pt x="311" y="0"/>
                    <a:pt x="398" y="29"/>
                    <a:pt x="480" y="21"/>
                  </a:cubicBezTo>
                  <a:cubicBezTo>
                    <a:pt x="568" y="43"/>
                    <a:pt x="412" y="66"/>
                    <a:pt x="531" y="162"/>
                  </a:cubicBezTo>
                  <a:cubicBezTo>
                    <a:pt x="531" y="162"/>
                    <a:pt x="424" y="180"/>
                    <a:pt x="310" y="177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5" name=""/>
            <p:cNvGrpSpPr/>
            <p:nvPr/>
          </p:nvGrpSpPr>
          <p:grpSpPr>
            <a:xfrm>
              <a:off x="5387760" y="2504880"/>
              <a:ext cx="807840" cy="1014480"/>
              <a:chOff x="5387760" y="2504880"/>
              <a:chExt cx="807840" cy="1014480"/>
            </a:xfrm>
          </p:grpSpPr>
          <p:sp>
            <p:nvSpPr>
              <p:cNvPr id="1986" name=""/>
              <p:cNvSpPr/>
              <p:nvPr/>
            </p:nvSpPr>
            <p:spPr>
              <a:xfrm>
                <a:off x="5394240" y="2816280"/>
                <a:ext cx="801000" cy="70308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5388480" y="2817720"/>
                <a:ext cx="801000" cy="70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441040" y="2504880"/>
                <a:ext cx="735480" cy="94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387760" y="3159000"/>
                <a:ext cx="8078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0" name=""/>
            <p:cNvSpPr/>
            <p:nvPr/>
          </p:nvSpPr>
          <p:spPr>
            <a:xfrm>
              <a:off x="6713640" y="3049560"/>
              <a:ext cx="1687320" cy="304920"/>
            </a:xfrm>
            <a:custGeom>
              <a:avLst/>
              <a:gdLst/>
              <a:ahLst/>
              <a:rect l="l" t="t" r="r" b="b"/>
              <a:pathLst>
                <a:path w="1063" h="192">
                  <a:moveTo>
                    <a:pt x="0" y="185"/>
                  </a:moveTo>
                  <a:cubicBezTo>
                    <a:pt x="398" y="45"/>
                    <a:pt x="66" y="28"/>
                    <a:pt x="243" y="0"/>
                  </a:cubicBezTo>
                  <a:lnTo>
                    <a:pt x="1063" y="15"/>
                  </a:lnTo>
                  <a:cubicBezTo>
                    <a:pt x="1061" y="47"/>
                    <a:pt x="612" y="89"/>
                    <a:pt x="229" y="192"/>
                  </a:cubicBezTo>
                  <a:cubicBezTo>
                    <a:pt x="229" y="192"/>
                    <a:pt x="132" y="178"/>
                    <a:pt x="0" y="185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1" name=""/>
            <p:cNvGrpSpPr/>
            <p:nvPr/>
          </p:nvGrpSpPr>
          <p:grpSpPr>
            <a:xfrm>
              <a:off x="6973560" y="1258920"/>
              <a:ext cx="1448640" cy="1849320"/>
              <a:chOff x="6973560" y="1258920"/>
              <a:chExt cx="1448640" cy="1849320"/>
            </a:xfrm>
          </p:grpSpPr>
          <p:sp>
            <p:nvSpPr>
              <p:cNvPr id="1992" name=""/>
              <p:cNvSpPr/>
              <p:nvPr/>
            </p:nvSpPr>
            <p:spPr>
              <a:xfrm>
                <a:off x="7075440" y="2158920"/>
                <a:ext cx="1312560" cy="949320"/>
              </a:xfrm>
              <a:prstGeom prst="rect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7065720" y="1279440"/>
                <a:ext cx="1312920" cy="182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6973560" y="1258920"/>
                <a:ext cx="1448640" cy="173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raspor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T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7064280" y="1865520"/>
                <a:ext cx="1334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7075440" y="2158920"/>
                <a:ext cx="1323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7051320" y="2441520"/>
                <a:ext cx="13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7064280" y="2747880"/>
                <a:ext cx="1323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086240" y="1578240"/>
                <a:ext cx="13147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00" name=""/>
            <p:cNvSpPr/>
            <p:nvPr/>
          </p:nvSpPr>
          <p:spPr>
            <a:xfrm>
              <a:off x="1636560" y="3003480"/>
              <a:ext cx="1460520" cy="649440"/>
            </a:xfrm>
            <a:custGeom>
              <a:avLst/>
              <a:gdLst/>
              <a:ahLst/>
              <a:rect l="l" t="t" r="r" b="b"/>
              <a:pathLst>
                <a:path w="920" h="409">
                  <a:moveTo>
                    <a:pt x="635" y="406"/>
                  </a:moveTo>
                  <a:cubicBezTo>
                    <a:pt x="310" y="125"/>
                    <a:pt x="0" y="58"/>
                    <a:pt x="0" y="58"/>
                  </a:cubicBezTo>
                  <a:lnTo>
                    <a:pt x="797" y="52"/>
                  </a:lnTo>
                  <a:cubicBezTo>
                    <a:pt x="920" y="84"/>
                    <a:pt x="790" y="0"/>
                    <a:pt x="738" y="251"/>
                  </a:cubicBezTo>
                  <a:cubicBezTo>
                    <a:pt x="738" y="251"/>
                    <a:pt x="749" y="409"/>
                    <a:pt x="635" y="406"/>
                  </a:cubicBez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1" name=""/>
            <p:cNvGrpSpPr/>
            <p:nvPr/>
          </p:nvGrpSpPr>
          <p:grpSpPr>
            <a:xfrm>
              <a:off x="1558800" y="1577880"/>
              <a:ext cx="1448640" cy="1520640"/>
              <a:chOff x="1558800" y="1577880"/>
              <a:chExt cx="1448640" cy="1520640"/>
            </a:xfrm>
          </p:grpSpPr>
          <p:sp>
            <p:nvSpPr>
              <p:cNvPr id="2002" name=""/>
              <p:cNvSpPr/>
              <p:nvPr/>
            </p:nvSpPr>
            <p:spPr>
              <a:xfrm>
                <a:off x="1650960" y="1598400"/>
                <a:ext cx="1312920" cy="150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558800" y="1577880"/>
                <a:ext cx="1448640" cy="149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pplicazion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Trasport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Etherne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fisico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649520" y="2184120"/>
                <a:ext cx="1335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660680" y="2477880"/>
                <a:ext cx="1324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636920" y="2760480"/>
                <a:ext cx="1334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671840" y="1896840"/>
                <a:ext cx="13143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008" name=""/>
          <p:cNvGraphicFramePr/>
          <p:nvPr/>
        </p:nvGraphicFramePr>
        <p:xfrm>
          <a:off x="2573280" y="3403440"/>
          <a:ext cx="523800" cy="45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573280" y="3403440"/>
                    <a:ext cx="523800" cy="4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578-C0A9-4428-857A-B4345821256B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20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277920" y="216000"/>
            <a:ext cx="886608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Viaggio di un datagramma in IP su ATM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1" name="PlaceHolder 2"/>
          <p:cNvSpPr>
            <a:spLocks noGrp="1"/>
          </p:cNvSpPr>
          <p:nvPr>
            <p:ph/>
          </p:nvPr>
        </p:nvSpPr>
        <p:spPr>
          <a:xfrm>
            <a:off x="496800" y="1358640"/>
            <a:ext cx="8174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outer d’ingresso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Esamina l’indirizzo di destinazione, indicizza la tabella d’instradamento e determina l’indirizzo IP del router successivo sul percorso del datagramm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Per determinare l’indirizzo fisico del router del prossimo hop, utilizza ARP (nel caso dell’interfaccia ATM, il router d’ingresso indicizza una tabella ATM ARP con l’indirizzo IP del router d’uscita e ne determina l’indirizzo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IP nel router d’ingresso trasferisce il datagramma e l’indirizzo ATM del router di uscita al livello di link sottostante, cioè ad AT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ete ATM:</a:t>
            </a:r>
            <a:r>
              <a:rPr b="1" lang="it-IT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trasporta le celle al ricevente lungo il V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Comic Sans MS"/>
              </a:rPr>
              <a:t>Router di uscita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AAL5  riassembla le celle nel datagramma original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10720" indent="-282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Se CRC è OK, il datagramma è passato a 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BCCE-2C25-441B-AA95-58C915E35E34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544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 su ATM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13" name=""/>
          <p:cNvSpPr/>
          <p:nvPr/>
        </p:nvSpPr>
        <p:spPr>
          <a:xfrm>
            <a:off x="638280" y="1704960"/>
            <a:ext cx="3554280" cy="35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tagrammi IP nelle PDU ATM AAL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a indirizzo  IP a indirizzo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Proprio come da indirizzi IP a indirizzi MAC 802.3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5653080" y="4145040"/>
            <a:ext cx="1623960" cy="403200"/>
          </a:xfrm>
          <a:custGeom>
            <a:avLst/>
            <a:gdLst/>
            <a:ahLst/>
            <a:rect l="l" t="t" r="r" b="b"/>
            <a:pathLst>
              <a:path w="824" h="187">
                <a:moveTo>
                  <a:pt x="333" y="184"/>
                </a:moveTo>
                <a:cubicBezTo>
                  <a:pt x="189" y="187"/>
                  <a:pt x="84" y="183"/>
                  <a:pt x="42" y="164"/>
                </a:cubicBezTo>
                <a:cubicBezTo>
                  <a:pt x="0" y="144"/>
                  <a:pt x="40" y="79"/>
                  <a:pt x="80" y="64"/>
                </a:cubicBezTo>
                <a:cubicBezTo>
                  <a:pt x="119" y="50"/>
                  <a:pt x="217" y="74"/>
                  <a:pt x="281" y="76"/>
                </a:cubicBezTo>
                <a:cubicBezTo>
                  <a:pt x="345" y="78"/>
                  <a:pt x="431" y="85"/>
                  <a:pt x="466" y="74"/>
                </a:cubicBezTo>
                <a:cubicBezTo>
                  <a:pt x="501" y="63"/>
                  <a:pt x="476" y="16"/>
                  <a:pt x="493" y="8"/>
                </a:cubicBezTo>
                <a:cubicBezTo>
                  <a:pt x="510" y="0"/>
                  <a:pt x="557" y="12"/>
                  <a:pt x="568" y="23"/>
                </a:cubicBezTo>
                <a:cubicBezTo>
                  <a:pt x="579" y="34"/>
                  <a:pt x="529" y="63"/>
                  <a:pt x="559" y="74"/>
                </a:cubicBezTo>
                <a:cubicBezTo>
                  <a:pt x="589" y="85"/>
                  <a:pt x="719" y="70"/>
                  <a:pt x="751" y="86"/>
                </a:cubicBezTo>
                <a:cubicBezTo>
                  <a:pt x="783" y="102"/>
                  <a:pt x="824" y="154"/>
                  <a:pt x="754" y="170"/>
                </a:cubicBezTo>
                <a:cubicBezTo>
                  <a:pt x="684" y="186"/>
                  <a:pt x="421" y="181"/>
                  <a:pt x="333" y="18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127920" y="2112840"/>
            <a:ext cx="1500120" cy="1806840"/>
          </a:xfrm>
          <a:custGeom>
            <a:avLst/>
            <a:gdLst/>
            <a:ahLst/>
            <a:rect l="l" t="t" r="r" b="b"/>
            <a:pathLst>
              <a:path w="945" h="1138">
                <a:moveTo>
                  <a:pt x="18" y="525"/>
                </a:moveTo>
                <a:cubicBezTo>
                  <a:pt x="44" y="497"/>
                  <a:pt x="135" y="488"/>
                  <a:pt x="192" y="429"/>
                </a:cubicBezTo>
                <a:cubicBezTo>
                  <a:pt x="249" y="370"/>
                  <a:pt x="306" y="239"/>
                  <a:pt x="357" y="174"/>
                </a:cubicBezTo>
                <a:cubicBezTo>
                  <a:pt x="408" y="109"/>
                  <a:pt x="457" y="64"/>
                  <a:pt x="498" y="39"/>
                </a:cubicBezTo>
                <a:cubicBezTo>
                  <a:pt x="539" y="14"/>
                  <a:pt x="589" y="0"/>
                  <a:pt x="600" y="27"/>
                </a:cubicBezTo>
                <a:cubicBezTo>
                  <a:pt x="611" y="54"/>
                  <a:pt x="521" y="182"/>
                  <a:pt x="567" y="201"/>
                </a:cubicBezTo>
                <a:cubicBezTo>
                  <a:pt x="613" y="220"/>
                  <a:pt x="815" y="95"/>
                  <a:pt x="876" y="144"/>
                </a:cubicBezTo>
                <a:cubicBezTo>
                  <a:pt x="937" y="193"/>
                  <a:pt x="926" y="366"/>
                  <a:pt x="930" y="495"/>
                </a:cubicBezTo>
                <a:cubicBezTo>
                  <a:pt x="934" y="624"/>
                  <a:pt x="945" y="830"/>
                  <a:pt x="903" y="921"/>
                </a:cubicBezTo>
                <a:cubicBezTo>
                  <a:pt x="861" y="1012"/>
                  <a:pt x="729" y="1007"/>
                  <a:pt x="678" y="1041"/>
                </a:cubicBezTo>
                <a:cubicBezTo>
                  <a:pt x="627" y="1075"/>
                  <a:pt x="621" y="1118"/>
                  <a:pt x="594" y="1128"/>
                </a:cubicBezTo>
                <a:cubicBezTo>
                  <a:pt x="567" y="1138"/>
                  <a:pt x="522" y="1115"/>
                  <a:pt x="513" y="1101"/>
                </a:cubicBezTo>
                <a:cubicBezTo>
                  <a:pt x="504" y="1087"/>
                  <a:pt x="545" y="1055"/>
                  <a:pt x="537" y="1041"/>
                </a:cubicBezTo>
                <a:cubicBezTo>
                  <a:pt x="529" y="1027"/>
                  <a:pt x="491" y="1038"/>
                  <a:pt x="462" y="1014"/>
                </a:cubicBezTo>
                <a:cubicBezTo>
                  <a:pt x="433" y="990"/>
                  <a:pt x="383" y="944"/>
                  <a:pt x="360" y="897"/>
                </a:cubicBezTo>
                <a:cubicBezTo>
                  <a:pt x="337" y="850"/>
                  <a:pt x="341" y="776"/>
                  <a:pt x="321" y="729"/>
                </a:cubicBezTo>
                <a:cubicBezTo>
                  <a:pt x="301" y="682"/>
                  <a:pt x="284" y="633"/>
                  <a:pt x="237" y="612"/>
                </a:cubicBezTo>
                <a:cubicBezTo>
                  <a:pt x="190" y="591"/>
                  <a:pt x="72" y="614"/>
                  <a:pt x="36" y="600"/>
                </a:cubicBezTo>
                <a:cubicBezTo>
                  <a:pt x="0" y="586"/>
                  <a:pt x="3" y="549"/>
                  <a:pt x="18" y="52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5308560" y="2287440"/>
            <a:ext cx="287280" cy="1868760"/>
          </a:xfrm>
          <a:custGeom>
            <a:avLst/>
            <a:gdLst/>
            <a:ahLst/>
            <a:rect l="l" t="t" r="r" b="b"/>
            <a:pathLst>
              <a:path w="146" h="867">
                <a:moveTo>
                  <a:pt x="2" y="333"/>
                </a:moveTo>
                <a:cubicBezTo>
                  <a:pt x="0" y="208"/>
                  <a:pt x="6" y="84"/>
                  <a:pt x="26" y="42"/>
                </a:cubicBezTo>
                <a:cubicBezTo>
                  <a:pt x="46" y="0"/>
                  <a:pt x="106" y="23"/>
                  <a:pt x="125" y="81"/>
                </a:cubicBezTo>
                <a:cubicBezTo>
                  <a:pt x="144" y="139"/>
                  <a:pt x="140" y="306"/>
                  <a:pt x="143" y="393"/>
                </a:cubicBezTo>
                <a:cubicBezTo>
                  <a:pt x="146" y="480"/>
                  <a:pt x="145" y="538"/>
                  <a:pt x="140" y="603"/>
                </a:cubicBezTo>
                <a:cubicBezTo>
                  <a:pt x="135" y="668"/>
                  <a:pt x="127" y="755"/>
                  <a:pt x="110" y="786"/>
                </a:cubicBezTo>
                <a:cubicBezTo>
                  <a:pt x="93" y="817"/>
                  <a:pt x="56" y="867"/>
                  <a:pt x="38" y="792"/>
                </a:cubicBezTo>
                <a:cubicBezTo>
                  <a:pt x="20" y="717"/>
                  <a:pt x="4" y="458"/>
                  <a:pt x="2" y="33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17" name=""/>
          <p:cNvGrpSpPr/>
          <p:nvPr/>
        </p:nvGrpSpPr>
        <p:grpSpPr>
          <a:xfrm>
            <a:off x="6480000" y="3854520"/>
            <a:ext cx="623880" cy="317160"/>
            <a:chOff x="6480000" y="3854520"/>
            <a:chExt cx="623880" cy="317160"/>
          </a:xfrm>
        </p:grpSpPr>
        <p:sp>
          <p:nvSpPr>
            <p:cNvPr id="2018" name=""/>
            <p:cNvSpPr/>
            <p:nvPr/>
          </p:nvSpPr>
          <p:spPr>
            <a:xfrm>
              <a:off x="6485040" y="3996000"/>
              <a:ext cx="618840" cy="175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48504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103880" y="3981240"/>
              <a:ext cx="0" cy="109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6485040" y="3981240"/>
              <a:ext cx="613440" cy="107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480000" y="3854520"/>
              <a:ext cx="618480" cy="20484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3" name=""/>
            <p:cNvGrpSpPr/>
            <p:nvPr/>
          </p:nvGrpSpPr>
          <p:grpSpPr>
            <a:xfrm>
              <a:off x="6628680" y="3899520"/>
              <a:ext cx="306000" cy="119520"/>
              <a:chOff x="6628680" y="3899520"/>
              <a:chExt cx="306000" cy="119520"/>
            </a:xfrm>
          </p:grpSpPr>
          <p:sp>
            <p:nvSpPr>
              <p:cNvPr id="2024" name=""/>
              <p:cNvSpPr/>
              <p:nvPr/>
            </p:nvSpPr>
            <p:spPr>
              <a:xfrm flipV="1">
                <a:off x="6628680" y="389952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6838560" y="401904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6729480" y="390168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7" name=""/>
            <p:cNvGrpSpPr/>
            <p:nvPr/>
          </p:nvGrpSpPr>
          <p:grpSpPr>
            <a:xfrm>
              <a:off x="6628680" y="3898080"/>
              <a:ext cx="306000" cy="119520"/>
              <a:chOff x="6628680" y="3898080"/>
              <a:chExt cx="306000" cy="119520"/>
            </a:xfrm>
          </p:grpSpPr>
          <p:sp>
            <p:nvSpPr>
              <p:cNvPr id="2028" name=""/>
              <p:cNvSpPr/>
              <p:nvPr/>
            </p:nvSpPr>
            <p:spPr>
              <a:xfrm>
                <a:off x="6628680" y="4015440"/>
                <a:ext cx="109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6838560" y="3898080"/>
                <a:ext cx="96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6729480" y="3898440"/>
                <a:ext cx="113760" cy="11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31" name="" descr=""/>
          <p:cNvPicPr/>
          <p:nvPr/>
        </p:nvPicPr>
        <p:blipFill>
          <a:blip r:embed="rId1"/>
          <a:stretch/>
        </p:blipFill>
        <p:spPr>
          <a:xfrm>
            <a:off x="4797360" y="20811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2032" name="" descr=""/>
          <p:cNvPicPr/>
          <p:nvPr/>
        </p:nvPicPr>
        <p:blipFill>
          <a:blip r:embed="rId2"/>
          <a:stretch/>
        </p:blipFill>
        <p:spPr>
          <a:xfrm>
            <a:off x="4824360" y="3554280"/>
            <a:ext cx="525600" cy="455760"/>
          </a:xfrm>
          <a:prstGeom prst="rect">
            <a:avLst/>
          </a:prstGeom>
          <a:ln w="0">
            <a:noFill/>
          </a:ln>
        </p:spPr>
      </p:pic>
      <p:pic>
        <p:nvPicPr>
          <p:cNvPr id="2033" name="" descr=""/>
          <p:cNvPicPr/>
          <p:nvPr/>
        </p:nvPicPr>
        <p:blipFill>
          <a:blip r:embed="rId3"/>
          <a:stretch/>
        </p:blipFill>
        <p:spPr>
          <a:xfrm>
            <a:off x="6699240" y="1744560"/>
            <a:ext cx="523800" cy="453960"/>
          </a:xfrm>
          <a:prstGeom prst="rect">
            <a:avLst/>
          </a:prstGeom>
          <a:ln w="0">
            <a:noFill/>
          </a:ln>
        </p:spPr>
      </p:pic>
      <p:pic>
        <p:nvPicPr>
          <p:cNvPr id="2034" name="" descr=""/>
          <p:cNvPicPr/>
          <p:nvPr/>
        </p:nvPicPr>
        <p:blipFill>
          <a:blip r:embed="rId4"/>
          <a:stretch/>
        </p:blipFill>
        <p:spPr>
          <a:xfrm>
            <a:off x="5546880" y="4551480"/>
            <a:ext cx="523800" cy="453960"/>
          </a:xfrm>
          <a:prstGeom prst="rect">
            <a:avLst/>
          </a:prstGeom>
          <a:ln w="0">
            <a:noFill/>
          </a:ln>
        </p:spPr>
      </p:pic>
      <p:sp>
        <p:nvSpPr>
          <p:cNvPr id="2035" name=""/>
          <p:cNvSpPr/>
          <p:nvPr/>
        </p:nvSpPr>
        <p:spPr>
          <a:xfrm>
            <a:off x="5305320" y="2436840"/>
            <a:ext cx="154080" cy="144792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>
            <a:off x="5459400" y="2973240"/>
            <a:ext cx="130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5110200" y="2798640"/>
            <a:ext cx="93600" cy="101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110200" y="301140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5110200" y="3198960"/>
            <a:ext cx="93600" cy="101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0" bIns="25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0" name=""/>
          <p:cNvGrpSpPr/>
          <p:nvPr/>
        </p:nvGrpSpPr>
        <p:grpSpPr>
          <a:xfrm>
            <a:off x="5578560" y="2805120"/>
            <a:ext cx="621720" cy="315720"/>
            <a:chOff x="5578560" y="2805120"/>
            <a:chExt cx="621720" cy="315720"/>
          </a:xfrm>
        </p:grpSpPr>
        <p:sp>
          <p:nvSpPr>
            <p:cNvPr id="2041" name=""/>
            <p:cNvSpPr/>
            <p:nvPr/>
          </p:nvSpPr>
          <p:spPr>
            <a:xfrm>
              <a:off x="5583600" y="2945880"/>
              <a:ext cx="616680" cy="17496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558360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6200280" y="2931120"/>
              <a:ext cx="0" cy="10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5583600" y="2931120"/>
              <a:ext cx="611280" cy="1069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5578560" y="2805120"/>
              <a:ext cx="616320" cy="2041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6" name=""/>
            <p:cNvGrpSpPr/>
            <p:nvPr/>
          </p:nvGrpSpPr>
          <p:grpSpPr>
            <a:xfrm>
              <a:off x="5726880" y="2850120"/>
              <a:ext cx="304920" cy="119160"/>
              <a:chOff x="5726880" y="2850120"/>
              <a:chExt cx="304920" cy="119160"/>
            </a:xfrm>
          </p:grpSpPr>
          <p:sp>
            <p:nvSpPr>
              <p:cNvPr id="2047" name=""/>
              <p:cNvSpPr/>
              <p:nvPr/>
            </p:nvSpPr>
            <p:spPr>
              <a:xfrm flipV="1">
                <a:off x="5726880" y="285012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936040" y="296928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27320" y="28522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0" name=""/>
            <p:cNvGrpSpPr/>
            <p:nvPr/>
          </p:nvGrpSpPr>
          <p:grpSpPr>
            <a:xfrm>
              <a:off x="5726880" y="2847960"/>
              <a:ext cx="304920" cy="119160"/>
              <a:chOff x="5726880" y="2847960"/>
              <a:chExt cx="304920" cy="11916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26880" y="2964960"/>
                <a:ext cx="10872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5936040" y="284796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flipV="1">
                <a:off x="5827320" y="284832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4" name=""/>
          <p:cNvSpPr/>
          <p:nvPr/>
        </p:nvSpPr>
        <p:spPr>
          <a:xfrm>
            <a:off x="6184800" y="2813040"/>
            <a:ext cx="433440" cy="18576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5" name="" descr=""/>
          <p:cNvPicPr/>
          <p:nvPr/>
        </p:nvPicPr>
        <p:blipFill>
          <a:blip r:embed="rId5"/>
          <a:stretch/>
        </p:blipFill>
        <p:spPr>
          <a:xfrm>
            <a:off x="6735600" y="4513320"/>
            <a:ext cx="524160" cy="455400"/>
          </a:xfrm>
          <a:prstGeom prst="rect">
            <a:avLst/>
          </a:prstGeom>
          <a:ln w="0">
            <a:noFill/>
          </a:ln>
        </p:spPr>
      </p:pic>
      <p:sp>
        <p:nvSpPr>
          <p:cNvPr id="2056" name=""/>
          <p:cNvSpPr/>
          <p:nvPr/>
        </p:nvSpPr>
        <p:spPr>
          <a:xfrm rot="16209600">
            <a:off x="6351480" y="3817440"/>
            <a:ext cx="168120" cy="1324080"/>
          </a:xfrm>
          <a:custGeom>
            <a:avLst/>
            <a:gdLst/>
            <a:ahLst/>
            <a:rect l="l" t="t" r="r" b="b"/>
            <a:pathLst>
              <a:path w="51" h="672">
                <a:moveTo>
                  <a:pt x="0" y="3"/>
                </a:moveTo>
                <a:lnTo>
                  <a:pt x="51" y="0"/>
                </a:lnTo>
                <a:lnTo>
                  <a:pt x="51" y="672"/>
                </a:lnTo>
                <a:lnTo>
                  <a:pt x="15" y="6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 flipH="1">
            <a:off x="6681960" y="4175280"/>
            <a:ext cx="1440" cy="215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8" name=""/>
          <p:cNvGrpSpPr/>
          <p:nvPr/>
        </p:nvGrpSpPr>
        <p:grpSpPr>
          <a:xfrm>
            <a:off x="6613560" y="2438280"/>
            <a:ext cx="554040" cy="468360"/>
            <a:chOff x="6613560" y="2438280"/>
            <a:chExt cx="554040" cy="468360"/>
          </a:xfrm>
        </p:grpSpPr>
        <p:sp>
          <p:nvSpPr>
            <p:cNvPr id="2059" name=""/>
            <p:cNvSpPr/>
            <p:nvPr/>
          </p:nvSpPr>
          <p:spPr>
            <a:xfrm>
              <a:off x="6734520" y="244296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615360" y="250956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1" name=""/>
            <p:cNvGrpSpPr/>
            <p:nvPr/>
          </p:nvGrpSpPr>
          <p:grpSpPr>
            <a:xfrm>
              <a:off x="6681960" y="2639520"/>
              <a:ext cx="304560" cy="119160"/>
              <a:chOff x="6681960" y="2639520"/>
              <a:chExt cx="304560" cy="119160"/>
            </a:xfrm>
          </p:grpSpPr>
          <p:sp>
            <p:nvSpPr>
              <p:cNvPr id="2062" name=""/>
              <p:cNvSpPr/>
              <p:nvPr/>
            </p:nvSpPr>
            <p:spPr>
              <a:xfrm>
                <a:off x="6681960" y="275652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6890760" y="263952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flipV="1">
                <a:off x="6782040" y="263988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5" name=""/>
            <p:cNvGrpSpPr/>
            <p:nvPr/>
          </p:nvGrpSpPr>
          <p:grpSpPr>
            <a:xfrm>
              <a:off x="6677280" y="2631960"/>
              <a:ext cx="303840" cy="119160"/>
              <a:chOff x="6677280" y="2631960"/>
              <a:chExt cx="303840" cy="11916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77280" y="263196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6885720" y="275112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6777360" y="263412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9" name=""/>
            <p:cNvSpPr/>
            <p:nvPr/>
          </p:nvSpPr>
          <p:spPr>
            <a:xfrm>
              <a:off x="6613560" y="243828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7037640" y="243828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1" name=""/>
          <p:cNvGrpSpPr/>
          <p:nvPr/>
        </p:nvGrpSpPr>
        <p:grpSpPr>
          <a:xfrm>
            <a:off x="6891480" y="3251160"/>
            <a:ext cx="554040" cy="468360"/>
            <a:chOff x="6891480" y="3251160"/>
            <a:chExt cx="554040" cy="468360"/>
          </a:xfrm>
        </p:grpSpPr>
        <p:sp>
          <p:nvSpPr>
            <p:cNvPr id="2072" name=""/>
            <p:cNvSpPr/>
            <p:nvPr/>
          </p:nvSpPr>
          <p:spPr>
            <a:xfrm>
              <a:off x="7012440" y="3255840"/>
              <a:ext cx="433080" cy="3999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893280" y="3322440"/>
              <a:ext cx="426960" cy="39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4" name=""/>
            <p:cNvGrpSpPr/>
            <p:nvPr/>
          </p:nvGrpSpPr>
          <p:grpSpPr>
            <a:xfrm>
              <a:off x="6959880" y="3452400"/>
              <a:ext cx="304560" cy="119160"/>
              <a:chOff x="6959880" y="3452400"/>
              <a:chExt cx="304560" cy="119160"/>
            </a:xfrm>
          </p:grpSpPr>
          <p:sp>
            <p:nvSpPr>
              <p:cNvPr id="2075" name=""/>
              <p:cNvSpPr/>
              <p:nvPr/>
            </p:nvSpPr>
            <p:spPr>
              <a:xfrm>
                <a:off x="6959880" y="356940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7168680" y="3452400"/>
                <a:ext cx="95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flipV="1">
                <a:off x="7059960" y="3452760"/>
                <a:ext cx="11304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8" name=""/>
            <p:cNvGrpSpPr/>
            <p:nvPr/>
          </p:nvGrpSpPr>
          <p:grpSpPr>
            <a:xfrm>
              <a:off x="6955200" y="3444840"/>
              <a:ext cx="303840" cy="119160"/>
              <a:chOff x="6955200" y="3444840"/>
              <a:chExt cx="303840" cy="119160"/>
            </a:xfrm>
          </p:grpSpPr>
          <p:sp>
            <p:nvSpPr>
              <p:cNvPr id="2079" name=""/>
              <p:cNvSpPr/>
              <p:nvPr/>
            </p:nvSpPr>
            <p:spPr>
              <a:xfrm flipV="1">
                <a:off x="6955200" y="3444840"/>
                <a:ext cx="10836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7163640" y="3564000"/>
                <a:ext cx="95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7055280" y="3447000"/>
                <a:ext cx="112680" cy="11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2" name=""/>
            <p:cNvSpPr/>
            <p:nvPr/>
          </p:nvSpPr>
          <p:spPr>
            <a:xfrm>
              <a:off x="6891480" y="3251160"/>
              <a:ext cx="552600" cy="69840"/>
            </a:xfrm>
            <a:custGeom>
              <a:avLst/>
              <a:gdLst/>
              <a:ahLst/>
              <a:rect l="l" t="t" r="r" b="b"/>
              <a:pathLst>
                <a:path w="348" h="44">
                  <a:moveTo>
                    <a:pt x="0" y="44"/>
                  </a:moveTo>
                  <a:lnTo>
                    <a:pt x="76" y="0"/>
                  </a:lnTo>
                  <a:lnTo>
                    <a:pt x="348" y="0"/>
                  </a:lnTo>
                  <a:lnTo>
                    <a:pt x="276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tIns="24120" bIns="24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7315560" y="3251160"/>
              <a:ext cx="129960" cy="466560"/>
            </a:xfrm>
            <a:custGeom>
              <a:avLst/>
              <a:gdLst/>
              <a:ahLst/>
              <a:rect l="l" t="t" r="r" b="b"/>
              <a:pathLst>
                <a:path w="82" h="294">
                  <a:moveTo>
                    <a:pt x="0" y="47"/>
                  </a:moveTo>
                  <a:lnTo>
                    <a:pt x="82" y="0"/>
                  </a:lnTo>
                  <a:lnTo>
                    <a:pt x="82" y="254"/>
                  </a:lnTo>
                  <a:lnTo>
                    <a:pt x="0" y="29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cc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4" name=""/>
          <p:cNvSpPr/>
          <p:nvPr/>
        </p:nvSpPr>
        <p:spPr>
          <a:xfrm>
            <a:off x="6908760" y="2184480"/>
            <a:ext cx="100080" cy="2426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6975360" y="3718080"/>
            <a:ext cx="123840" cy="16668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 flipH="1">
            <a:off x="6942240" y="2913120"/>
            <a:ext cx="271440" cy="338040"/>
          </a:xfrm>
          <a:custGeom>
            <a:avLst/>
            <a:gdLst/>
            <a:ahLst/>
            <a:rect l="l" t="t" r="r" b="b"/>
            <a:pathLst>
              <a:path w="273" h="117">
                <a:moveTo>
                  <a:pt x="273" y="0"/>
                </a:moveTo>
                <a:lnTo>
                  <a:pt x="0" y="117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7802280" y="1860480"/>
            <a:ext cx="6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re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A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7451280" y="2219400"/>
            <a:ext cx="398520" cy="439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4269240" y="4429080"/>
            <a:ext cx="110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5243400" y="4022280"/>
            <a:ext cx="141480" cy="452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 flipV="1">
            <a:off x="5237280" y="4365360"/>
            <a:ext cx="449280" cy="120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8BF5-66E4-4A6B-A342-E1A891916AA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Multiprotocol label switching (MPLS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Obiettivo iniziale: velocizzare l’inoltro IP usando un’etichetta di lunghezza stabilita (invece degli indirizzi di destinazione 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L’idea viene presa a prestito dall’approccio del V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omic Sans MS"/>
              </a:rPr>
              <a:t>Ma i datagrammi IP mantengono ancora l’indirizzo IP!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4" name=""/>
          <p:cNvSpPr/>
          <p:nvPr/>
        </p:nvSpPr>
        <p:spPr>
          <a:xfrm>
            <a:off x="2052720" y="4695840"/>
            <a:ext cx="3108240" cy="1084320"/>
          </a:xfrm>
          <a:custGeom>
            <a:avLst/>
            <a:gdLst/>
            <a:ahLst/>
            <a:rect l="l" t="t" r="r" b="b"/>
            <a:pathLst>
              <a:path w="1958" h="683">
                <a:moveTo>
                  <a:pt x="337" y="0"/>
                </a:moveTo>
                <a:lnTo>
                  <a:pt x="0" y="683"/>
                </a:lnTo>
                <a:lnTo>
                  <a:pt x="1958" y="683"/>
                </a:lnTo>
                <a:lnTo>
                  <a:pt x="1382" y="0"/>
                </a:lnTo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706320" y="4068720"/>
            <a:ext cx="8047080" cy="63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759600" y="407340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ntest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PP o Etherne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4301280" y="4195800"/>
            <a:ext cx="132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staz. 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587680" y="405612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4241880" y="40514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5587920" y="4052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618880" y="4227480"/>
            <a:ext cx="314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iduo del frame a livello di li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2576520" y="4054320"/>
            <a:ext cx="1660680" cy="640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2530080" y="421308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staz. MP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155680" y="5440320"/>
            <a:ext cx="3122640" cy="679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592720" y="5608800"/>
            <a:ext cx="10692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tichet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3853080" y="5616720"/>
            <a:ext cx="57384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4410360" y="5624640"/>
            <a:ext cx="33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4679640" y="5621400"/>
            <a:ext cx="58752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T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3887640" y="545004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4457880" y="547056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4727520" y="5465880"/>
            <a:ext cx="0" cy="65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2828880" y="6116760"/>
            <a:ext cx="40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4000680" y="611172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4427640" y="61088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4867200" y="610380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D4C1-0709-405D-ACF2-89BB9A9CA5B6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Micaela</cp:lastModifiedBy>
  <cp:lastPrinted>2005-12-30T09:05:33Z</cp:lastPrinted>
  <dcterms:modified xsi:type="dcterms:W3CDTF">2008-05-14T07:31:59Z</dcterms:modified>
  <cp:revision>335</cp:revision>
  <dc:subject/>
  <dc:title>3rd Edition, Chapter 5</dc:title>
</cp:coreProperties>
</file>