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491-7ED2-4FC9-90AB-EF1C65A0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E23-DDB1-47B1-8DE0-81E7118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866A9-7DB5-4F6B-AAC2-5DF57641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30F3F-E3A3-4780-8D3A-CE3F0349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C9178-0EC7-4006-B696-6C8D05F9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93ADB-5926-4143-978D-D3A0A59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A40D0-42FD-4872-9DA8-EC708D63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C5806-F342-4B61-9CF8-ABC3DAD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758EF-79AB-4323-BCB7-602529E2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210B7-C447-4674-A169-8BE082B4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4CCA9-F84C-45B3-A180-5F4E9244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7F09B3-6DF3-4892-A55F-FE6BD1C4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1D0-0EDD-4002-A3AF-FFE360C8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6E171F-68F3-4ACC-94AC-18AB11BC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83074-C3FF-44FC-AE84-B5584E38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CF03D-79C1-4314-A33A-E83E7DD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00349B-AF19-4047-877D-9B707D48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38D4E-66F1-43B5-A82D-01E5BFDA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2A176-0BCD-48A4-B694-5BA3780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685142-7DDF-4E1A-A45A-472C3027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0B4084-E750-4BF0-AB03-1CC923E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D70BB-DD92-4048-A661-CEF7123B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E85BAB-51E6-4A03-9540-82ECA4C1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F5E-5DA2-49B3-857D-B771723C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B771D-1A94-4A3D-9DD1-49BBBD39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99153-DF9D-4F80-8A7C-3EDA6E2A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38FA1-712F-498B-96ED-6F4778EC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79D9C8-5B30-4B6A-B866-313967BE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83DC9-0DAD-4839-97FC-61619DC3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9F1A58-B12D-4669-B93A-BA071A46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3041A-BBEE-429D-883A-E0ADB65B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E76DB-1D5F-4ECC-AE53-C11F62A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41A826-4D2F-4F46-BEC3-269CB2B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68B2C-F0AB-4332-97DE-F65D053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AC44-F5BB-412E-B5A0-E578C2CD78D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0B193-A273-44F3-8B36-FDD2408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79ED9-667C-455E-A401-CB48ECDE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E0598-C0D1-45EC-A791-EB87B840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7158-BC23-4D37-958A-1D8DF98497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C8FF6-8769-4694-8A92-B270021FC2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34FAC-BFA4-42E2-8E04-78A8AE9595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95FF-6D94-470F-AB28-BCBB6CE632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5AFBC-12A6-43C8-990A-7F2591BC78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24AFE-E662-47AE-AC63-79C2BA11C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64F-733C-4A75-949D-53409C2D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B389B-F5E0-467E-BD01-14B210764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3022B-A1DB-49B1-A13E-25602F6682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EB55-8B80-4EAC-B1AC-C7A205201F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E3B0C-54BD-4027-933F-7F21F01A3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13B6-185E-42B0-94C3-019DAFC7C9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FE4A6-DC9F-4BE8-929E-E7E50F623F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B4A8D-C9EC-4A18-8FB3-BA6A516244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2E7BE-4E62-4A4A-B69A-1066F01581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6775D-C631-47A1-B8C9-2B80ABA73D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BEFFB-CDEF-471F-9FBA-402D15F3D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170-31C8-4776-96B7-FCED816B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0095AA-8C2A-47BC-B5E4-4E55DCBAA7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E5CC5-86DD-4BB7-AA29-C3913041D1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32964-DFD1-42C0-AF0D-3709FB42BE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3D2F5-37E6-4AAD-BA72-CA1B265C6A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E2E04-FBAF-4219-8D82-90E0BD8EDD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ED559-0C97-4810-99B2-FD8DA19BA7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0D518-E45F-4DAB-AF0B-A4E3EF5C80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D95E-2C64-4D24-8999-21BA2E6C57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285D-A1C2-4CA9-BB3E-424239669B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197F-B5DD-4A57-846C-CC3A0A0AE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B3E-1FFE-4B94-A0C5-D064BD69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BD2A-EEB4-40DE-AD56-AE0488313E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98FA-8209-486F-B0A3-C06661AC55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C39B-4BE6-45EA-9D2A-E4D2CB6AF3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E9DF-588A-4CDC-A205-B41CB08EAF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B826-D1C2-4B1D-8179-3E6B6EDA2D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4256-C485-470E-9A43-E60166B1E8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29AF-D23A-4BD4-B698-9E647B16FE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E370-76E8-4EC6-BB6A-0DE3FD3576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E36A-93C8-4DC1-B983-6530172110A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CCD8C-E7EB-470D-9AA8-16E9DA514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2D2-1F35-4304-B139-E63EEC92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D8508-7609-4629-B727-193DD0F3B1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884EE-F716-4ECA-965E-FD6044DD7E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A6A91-FEB0-4531-8AD9-CF1102979B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B83E2-1B3A-4CBA-BF0C-730CC4582C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5FA3F4-71A8-4310-BBA8-DFA1C89CDE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9075A-639A-42F3-B907-BEC81E337D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FA4D7-FCDC-4AE4-8DA8-9C0422A8CE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0874D-51E9-4860-AEC4-F60D65240FD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E4B5F-F323-4057-8894-7C5AB63C83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55E6A-578C-431E-9528-5A587F9ED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6FF-95A9-460B-9006-FDA651D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8EFA2-F824-4025-841A-FA77B7A001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2445AA-191B-4AD1-9B4A-1A7266477C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6BFE14-26D0-469C-8288-D1239CC0AC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CF707-1290-46A7-B7A5-739EF30BD2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BF7F7A-DCEA-4FFE-8D77-0AA868FB8D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98E64-7BA5-4A67-A638-17D9767842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0121B5-512A-46E8-A43A-9D489A7259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12339E-053B-4117-AF4E-5C125154FB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557EB-E58B-41B2-AD57-895CB01E3E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E3D72-0C26-4A83-995E-3ACB64CE1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0B2-1360-4615-9105-3B9BC727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352809-C98E-4187-BFB6-14D71F8E60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F72F1B-E233-4EEF-BCFC-C1FB0BDAA5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7645ED-469E-4390-B3A0-654838407B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3F42-45CC-4B8F-92B3-133A4B6691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670D-89A8-4E01-9E93-3836AF2645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C241E-A407-4915-90B8-D8DC4FFCD6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E000-9597-4F70-9F94-9FB5C4A1B8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5B3AE-4A3B-4009-98E5-2F4E34A12E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75165-2564-4D68-BBC5-067ED45BB8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16BC-F41E-41E4-9E4B-D03EC0AF5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300-F48A-4FE1-8244-B924B68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2D094-553E-40AC-80C8-AF42714CC4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3CDAA-55FF-481E-BF98-BF758899D09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EF4C-3CC6-47A8-81D3-D4714CBA2D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D2DE-85B7-461D-A323-E71F3A0087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F8FF8-CA40-4E24-9192-1209395DF1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1B0F1-0363-4518-B982-3C1A032A57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DDD7B-5107-4C91-AF75-12BD7017F9A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22ED2-7147-477F-936A-84257FF8483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005B22-C275-4DCC-91DF-382CEE2D467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0AABB-8FF2-4594-B86B-1D1B2CCEF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750-2D47-4995-B467-B57C59D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BF3BB-7877-48A5-87C0-F386D2209E3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7C0AA-4BE0-46BA-B39C-F4187A6DCC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D6CFB-7EE1-4E14-A555-D2C3BA840F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07F5B-143A-4B60-81D8-3353A30B45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021A8-645C-4BED-93E1-B38BC5A444E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ADE23-90CF-469D-9933-3AB3EAA44D7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8F655-9F30-4792-970B-ACC7524B47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5C4DD-9619-4713-B01E-6F6D50B2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A43E5-9E13-4FAC-8A78-ED0C4C4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8FFCD-A360-4E2D-9F80-C993989A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CB3F-1FF9-4693-9CA4-5C905C6A4A9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ttangolo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C9BD-A782-47D0-9C90-B8D09168312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Connettore 1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6F3-0999-4E3C-B4D9-CA34398E85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Rettango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Rettangolo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Rettangolo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2057400" y="6354360"/>
            <a:ext cx="6858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456840" y="6324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06F2-8258-43BC-8ADF-F6986C0B115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6"/>
          </p:nvPr>
        </p:nvSpPr>
        <p:spPr>
          <a:xfrm>
            <a:off x="114264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7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4622-C529-4AFB-A29B-23567CAF87A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ttango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Rettango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8"/>
          </p:nvPr>
        </p:nvSpPr>
        <p:spPr>
          <a:xfrm>
            <a:off x="1920600" y="6354360"/>
            <a:ext cx="7070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9"/>
          </p:nvPr>
        </p:nvSpPr>
        <p:spPr>
          <a:xfrm>
            <a:off x="1069920" y="6354360"/>
            <a:ext cx="758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5BF2-0FB1-4782-AB63-63AFD9CB696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0"/>
          </p:nvPr>
        </p:nvSpPr>
        <p:spPr>
          <a:xfrm>
            <a:off x="1371240" y="6356520"/>
            <a:ext cx="708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1"/>
          </p:nvPr>
        </p:nvSpPr>
        <p:spPr>
          <a:xfrm>
            <a:off x="612360" y="6356520"/>
            <a:ext cx="530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CF4-5911-472E-8BDA-D4B0C3C9615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2"/>
          </p:nvPr>
        </p:nvSpPr>
        <p:spPr>
          <a:xfrm>
            <a:off x="1752480" y="6356520"/>
            <a:ext cx="693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3"/>
          </p:nvPr>
        </p:nvSpPr>
        <p:spPr>
          <a:xfrm>
            <a:off x="612360" y="6356520"/>
            <a:ext cx="6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CAD-2720-4B6A-BAE8-9370D64926B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onnettore 1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Connettore 1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riangolo isosce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Triangolo isosce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4"/>
          </p:nvPr>
        </p:nvSpPr>
        <p:spPr>
          <a:xfrm>
            <a:off x="1599840" y="6356520"/>
            <a:ext cx="708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22CC-5A10-4D88-B29C-BF7DDF6CF64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riangolo isosce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16"/>
          </p:nvPr>
        </p:nvSpPr>
        <p:spPr>
          <a:xfrm>
            <a:off x="1295280" y="6356520"/>
            <a:ext cx="739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1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17"/>
          </p:nvPr>
        </p:nvSpPr>
        <p:spPr>
          <a:xfrm>
            <a:off x="61236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4E78-37D5-45BB-B975-6EDB9017F28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Connettore 1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Connettore 1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riangolo isosce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Design patterns</a:t>
            </a: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, Laura Semini, Università di Pisa, Dipartimento di Informa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5749-756F-4ACD-BF02-67E5F556C0F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Tecniche di Progettazione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Design Patter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64653"/>
                </a:solidFill>
                <a:latin typeface="Bookman Old Style"/>
              </a:rPr>
              <a:t>Esercitazi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057400" y="6354720"/>
            <a:ext cx="685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457200" y="63244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B81-7FF0-41F3-9933-6817328741A1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lyweight ex: </a:t>
            </a: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lyweighjtBlueTre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Flyweight pattern, a Flyweight object has intrinsic state that cannot be changed. This also means that a Flyweight object cannot have any public-accessibl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et(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hod to set a new value for some instance variable of the objec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ider a variation of Flyweight pattern to allow a Flyweight object to have set() methods. When a set() method of a Flyweight object is called, the object becomes a non-Flyweight, non-shared object. This idea is similar to copy-on-wri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8815-7A33-47B6-BB0C-F2DE78AA6887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izza Build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9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FA16-8FA6-4525-9445-25201512074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1" name="Oggetto 5"/>
          <p:cNvGraphicFramePr/>
          <p:nvPr/>
        </p:nvGraphicFramePr>
        <p:xfrm>
          <a:off x="192240" y="1628640"/>
          <a:ext cx="879948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ggett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628640"/>
                    <a:ext cx="87994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izzaBuild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ook at the example and discu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A5D7-FF83-49B6-8FDA-BF0618B8B73C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 1 C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ake the CoR example CheckC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dify it along the following dìimens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Put common behaviour in the superclas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Add pre-post processing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Select responsible without the patter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Less robust to modification: it is an invariant requirement that for larger amounts the approval must be given by a more autoritative employe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Non permette inserimenti a metà cate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1409-DF02-44E4-B492-EECA68E060E6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Iterat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given code (IteratorDoublyLinked folder) defines non-circularly double linked lists. Using Iterator pattern, write two external iterators for the double linked lis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ne iterates every from beginning to end,  the other from end to beginning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sume the iterator classes can access any member of DoubleLinkedList and Cell classes, but modification is not allow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membe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Iterator interface has two methods: hasNext(),   next(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collection must implement Iterator createIterator(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: folder IteratorDoublyLink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8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D47E-25EA-4BD5-8A5C-8EBA82DFB36C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lyweigh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 exerc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A74E-C6A9-428B-B06C-E003A1902C41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lyweigh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Flyweight pattern, a Flyweight object has intrinsic state that cannot be changed. This also means that a Flyweight object cannot have any public-accessibl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et(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hod to set a new value for some instance variable of the objec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ider a variation of Flyweight pattern to allow a Flyweight object to have set() methods. When a set() method of a Flyweight object is called, the object becomes a non-Flyweight, non-shared object. This idea is similar to copy-on-wri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0F5-C2EF-4F95-A39F-B8B1E334BC0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rcRect l="24014" t="29168" r="34409" b="22918"/>
          <a:stretch/>
        </p:blipFill>
        <p:spPr>
          <a:xfrm>
            <a:off x="533520" y="1168560"/>
            <a:ext cx="80769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lyweight: java string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cause strings are usually plentiful in most applications, Java goes to great lengths to make sure strings perform well. First, strings are immutable, so they don't have to be thread-safe. Because synchronization is expensive, strings are spared that drag on performance. Second, as you might guess, strings specified at compile-time are flyweights—strings that contain the same character sequence are shared. That sharing can greatly reduce memory footprints, and therefore, increase performan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ample demonstrates Java strings' flyweight natu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316A-7A5B-4C8A-9886-02F47FF3321B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lyweight: java string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8380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blic class StringTest {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blic static void main(String[ ] args) {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ing fly = "fly", weight = "weight";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ing fly2 = "fly", weight2 = "weight";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.out.println(fly == fly2);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// fly and fly2 refer to the same String instance 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.out.println(weight == weight2);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// weight and weight2 also refer to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// the same String insta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ing distinctString = fly + weight;      System.out.println(distinctString == "flyweight")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// flyweight and "flyweight" do not refer to the same instance 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ing flyweight = (fly + weight).intern();      System.out.println(flyweight == "flyweight");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// The intern() method returns a flyweigh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} } 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DED-D15D-4C0B-A344-E8E765E7E5A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lyweight: java string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re's the application's output: true true false tru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e preceding application, the strings fly and fly2 refer to the same string object (recall that the == operator evaluates to true if the objects it compares are the same). Same holds for weight and weight2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ings computed at runtime, such as distinctString in the preceding application, are not flyweights by default; however, you can force the issue with the String.intern() method—a poorly named method that brings to mind medical topics, but nonetheless returns flyweights for strings computed at runtim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D284-8777-4819-AE5D-827B2F45D79F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lyweight: gazill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factoring the gazillion example so tha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“row” state is considered shareable (within each row anyways), and the “col” state has been externalized (it is supplied by the client when report() is called)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1800" indent="-2700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Gaziolion means: an idefinitely large numbe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cussion on the co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Vs carte da gioco??????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Segnaposto piè di pagina 3"/>
          <p:cNvSpPr/>
          <p:nvPr/>
        </p:nvSpPr>
        <p:spPr>
          <a:xfrm>
            <a:off x="1143000" y="6356520"/>
            <a:ext cx="754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64653"/>
                </a:solidFill>
                <a:latin typeface="Arial"/>
              </a:rPr>
              <a:t>Design patterns</a:t>
            </a:r>
            <a:r>
              <a:rPr b="1" lang="it-IT" sz="1400" spc="-1" strike="noStrike">
                <a:solidFill>
                  <a:srgbClr val="464653"/>
                </a:solidFill>
                <a:latin typeface="Arial"/>
              </a:rPr>
              <a:t>, Laura Semini, Università di Pisa, Dipartimento di Informatica.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3" name="Segnaposto numero diapositiva 4"/>
          <p:cNvSpPr/>
          <p:nvPr/>
        </p:nvSpPr>
        <p:spPr>
          <a:xfrm>
            <a:off x="612720" y="6356520"/>
            <a:ext cx="45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5EA5-3024-4E8F-B98E-F92E8FB9BB97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</cp:lastModifiedBy>
  <dcterms:modified xsi:type="dcterms:W3CDTF">2013-04-15T12:37:49Z</dcterms:modified>
  <cp:revision>9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